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6AF-7DE8-4F37-9986-6446880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238-9657-425B-A0B2-796C421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258-A88D-40DF-BA6E-F64A6D7C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4E6-53C8-43A9-B3ED-DA400EA2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5577-B1DC-40E0-A4CC-B0E0AE57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050-D2FF-4337-A8AC-12EA9E9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3113-AA1D-4C7F-8C3A-2EC7F62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AD5-ADAB-41DC-B1DA-476E9A3A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7C83-50F5-4BAF-8543-3525CF68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022-4784-4A3F-A46F-F9648FF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E3C7-EAC0-45DC-B7B9-731B9BF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2BF-C1C4-46AE-BBAB-A0999EAD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D8D-E834-4284-87CA-213A4F2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666F-2A7F-4BFF-B993-A588E94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FDA7-53D7-4535-94BF-3CC9435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5756-7144-4058-B525-6CC291D4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B3C-1364-46F8-A706-01EE7EE6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328-E413-4F11-8879-C0CE164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3EA-1B5E-4A86-9D25-F7A3C0A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7D9-36C2-4963-8A15-6D34F16A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156-36C8-4634-BA9F-C0D7F04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C8F-0859-4060-B714-D703575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016-EE7A-42B0-9B22-88A27D3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551-47B7-4110-9465-C7087A9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3B1-7729-4254-B83F-EACCBDC59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31F6-8B59-4867-9B38-48C28EAF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hyperlink" Target="http://www.funbrain.com/cgi-bin/fract.cgi?A1=s&amp;A2=6&amp;A15=1&amp;INSTRUCTS=1" TargetMode="External"/><Relationship Id="rId4" Type="http://schemas.openxmlformats.org/officeDocument/2006/relationships/hyperlink" Target="http://www.classzone.com/cz/books/msmath_1_na/book_home.htm?state=MD" TargetMode="External"/><Relationship Id="rId5" Type="http://schemas.openxmlformats.org/officeDocument/2006/relationships/hyperlink" Target="http://www.classzone.com/cz/books/msmath_1_na/book_home.htm?state=MD" TargetMode="External"/><Relationship Id="rId6" Type="http://schemas.openxmlformats.org/officeDocument/2006/relationships/hyperlink" Target="http://www.brainpop.com/math/numbersandoperations/addingandsubtractingfractions/" TargetMode="External"/><Relationship Id="rId7" Type="http://schemas.openxmlformats.org/officeDocument/2006/relationships/hyperlink" Target="http://www.brainpop.com/math/numbersandoperations/addingandsubtractingfractions/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Find the LCD of each se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)  5, 12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2.)  4, 6  LCD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)  6, 8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4.) 15, 20  LCD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5.)  3, 5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6.)  12, 16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9240" y="955800"/>
            <a:ext cx="295560" cy="108000"/>
          </a:xfrm>
          <a:custGeom>
            <a:avLst/>
            <a:gdLst/>
            <a:ahLst/>
            <a:rect l="l" t="t" r="r" b="b"/>
            <a:pathLst>
              <a:path w="820" h="299">
                <a:moveTo>
                  <a:pt x="14610" y="2952"/>
                </a:moveTo>
                <a:lnTo>
                  <a:pt x="14610" y="2952"/>
                </a:lnTo>
              </a:path>
              <a:path w="820" h="299">
                <a:moveTo>
                  <a:pt x="15429" y="2902"/>
                </a:moveTo>
                <a:lnTo>
                  <a:pt x="15429" y="2902"/>
                </a:lnTo>
              </a:path>
              <a:path w="820" h="299">
                <a:moveTo>
                  <a:pt x="15354" y="2654"/>
                </a:moveTo>
                <a:cubicBezTo>
                  <a:pt x="15346" y="2654"/>
                  <a:pt x="15337" y="2654"/>
                  <a:pt x="15329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7840" y="758880"/>
            <a:ext cx="2330280" cy="366480"/>
          </a:xfrm>
          <a:custGeom>
            <a:avLst/>
            <a:gdLst/>
            <a:ahLst/>
            <a:rect l="l" t="t" r="r" b="b"/>
            <a:pathLst>
              <a:path w="6475" h="1018">
                <a:moveTo>
                  <a:pt x="10294" y="2183"/>
                </a:moveTo>
                <a:cubicBezTo>
                  <a:pt x="10316" y="2335"/>
                  <a:pt x="10265" y="2428"/>
                  <a:pt x="10244" y="2580"/>
                </a:cubicBezTo>
                <a:cubicBezTo>
                  <a:pt x="10244" y="2605"/>
                  <a:pt x="10244" y="2629"/>
                  <a:pt x="10244" y="2654"/>
                </a:cubicBezTo>
                <a:cubicBezTo>
                  <a:pt x="10370" y="2670"/>
                  <a:pt x="10487" y="2679"/>
                  <a:pt x="10616" y="2679"/>
                </a:cubicBezTo>
                <a:cubicBezTo>
                  <a:pt x="10641" y="2679"/>
                  <a:pt x="10649" y="2679"/>
                  <a:pt x="10641" y="2654"/>
                </a:cubicBezTo>
              </a:path>
              <a:path w="6475" h="1018">
                <a:moveTo>
                  <a:pt x="10964" y="2183"/>
                </a:moveTo>
                <a:cubicBezTo>
                  <a:pt x="11026" y="2263"/>
                  <a:pt x="10990" y="2257"/>
                  <a:pt x="11063" y="2257"/>
                </a:cubicBezTo>
                <a:cubicBezTo>
                  <a:pt x="11000" y="2194"/>
                  <a:pt x="10968" y="2189"/>
                  <a:pt x="10889" y="2257"/>
                </a:cubicBezTo>
                <a:cubicBezTo>
                  <a:pt x="10789" y="2343"/>
                  <a:pt x="10625" y="2606"/>
                  <a:pt x="10889" y="2629"/>
                </a:cubicBezTo>
                <a:cubicBezTo>
                  <a:pt x="11034" y="2642"/>
                  <a:pt x="11148" y="2572"/>
                  <a:pt x="11261" y="2505"/>
                </a:cubicBezTo>
              </a:path>
              <a:path w="6475" h="1018">
                <a:moveTo>
                  <a:pt x="11361" y="2208"/>
                </a:moveTo>
                <a:cubicBezTo>
                  <a:pt x="11394" y="2336"/>
                  <a:pt x="11410" y="2448"/>
                  <a:pt x="11410" y="2580"/>
                </a:cubicBezTo>
                <a:cubicBezTo>
                  <a:pt x="11410" y="2412"/>
                  <a:pt x="11428" y="2319"/>
                  <a:pt x="11534" y="2183"/>
                </a:cubicBezTo>
                <a:cubicBezTo>
                  <a:pt x="11632" y="2057"/>
                  <a:pt x="11803" y="2245"/>
                  <a:pt x="11857" y="2332"/>
                </a:cubicBezTo>
                <a:cubicBezTo>
                  <a:pt x="11899" y="2439"/>
                  <a:pt x="11910" y="2463"/>
                  <a:pt x="11931" y="2530"/>
                </a:cubicBezTo>
                <a:cubicBezTo>
                  <a:pt x="11912" y="2419"/>
                  <a:pt x="11885" y="2321"/>
                  <a:pt x="11931" y="2208"/>
                </a:cubicBezTo>
                <a:cubicBezTo>
                  <a:pt x="11986" y="2075"/>
                  <a:pt x="12172" y="2072"/>
                  <a:pt x="12254" y="2183"/>
                </a:cubicBezTo>
                <a:cubicBezTo>
                  <a:pt x="12330" y="2287"/>
                  <a:pt x="12349" y="2473"/>
                  <a:pt x="12303" y="2580"/>
                </a:cubicBezTo>
              </a:path>
              <a:path w="6475" h="1018">
                <a:moveTo>
                  <a:pt x="11931" y="2803"/>
                </a:moveTo>
                <a:cubicBezTo>
                  <a:pt x="12016" y="2931"/>
                  <a:pt x="12143" y="2983"/>
                  <a:pt x="12303" y="2977"/>
                </a:cubicBezTo>
                <a:cubicBezTo>
                  <a:pt x="12451" y="2971"/>
                  <a:pt x="12491" y="2908"/>
                  <a:pt x="12576" y="2853"/>
                </a:cubicBezTo>
                <a:cubicBezTo>
                  <a:pt x="12584" y="2853"/>
                  <a:pt x="12593" y="2853"/>
                  <a:pt x="12601" y="2853"/>
                </a:cubicBezTo>
              </a:path>
              <a:path w="6475" h="1018">
                <a:moveTo>
                  <a:pt x="12005" y="2803"/>
                </a:moveTo>
                <a:cubicBezTo>
                  <a:pt x="12005" y="2855"/>
                  <a:pt x="11989" y="2901"/>
                  <a:pt x="11981" y="2952"/>
                </a:cubicBezTo>
                <a:cubicBezTo>
                  <a:pt x="11942" y="2883"/>
                  <a:pt x="11937" y="2833"/>
                  <a:pt x="11931" y="2753"/>
                </a:cubicBezTo>
                <a:cubicBezTo>
                  <a:pt x="12028" y="2753"/>
                  <a:pt x="12102" y="2816"/>
                  <a:pt x="12204" y="2828"/>
                </a:cubicBezTo>
                <a:cubicBezTo>
                  <a:pt x="12245" y="2828"/>
                  <a:pt x="12287" y="2828"/>
                  <a:pt x="12328" y="2828"/>
                </a:cubicBezTo>
              </a:path>
              <a:path w="6475" h="1018">
                <a:moveTo>
                  <a:pt x="13022" y="2778"/>
                </a:moveTo>
                <a:cubicBezTo>
                  <a:pt x="13013" y="2850"/>
                  <a:pt x="12997" y="2911"/>
                  <a:pt x="12973" y="2977"/>
                </a:cubicBezTo>
                <a:cubicBezTo>
                  <a:pt x="12973" y="2895"/>
                  <a:pt x="12985" y="2831"/>
                  <a:pt x="12998" y="2753"/>
                </a:cubicBezTo>
                <a:cubicBezTo>
                  <a:pt x="13099" y="2777"/>
                  <a:pt x="13213" y="2821"/>
                  <a:pt x="13271" y="2927"/>
                </a:cubicBezTo>
                <a:cubicBezTo>
                  <a:pt x="13271" y="2935"/>
                  <a:pt x="13271" y="2944"/>
                  <a:pt x="13271" y="2952"/>
                </a:cubicBezTo>
                <a:cubicBezTo>
                  <a:pt x="13271" y="2871"/>
                  <a:pt x="13272" y="2800"/>
                  <a:pt x="13370" y="2778"/>
                </a:cubicBezTo>
                <a:cubicBezTo>
                  <a:pt x="13516" y="2746"/>
                  <a:pt x="13571" y="2894"/>
                  <a:pt x="13593" y="3001"/>
                </a:cubicBezTo>
              </a:path>
              <a:path w="6475" h="1018">
                <a:moveTo>
                  <a:pt x="13742" y="2778"/>
                </a:moveTo>
                <a:cubicBezTo>
                  <a:pt x="13755" y="2816"/>
                  <a:pt x="13781" y="3002"/>
                  <a:pt x="13866" y="2952"/>
                </a:cubicBezTo>
                <a:cubicBezTo>
                  <a:pt x="13972" y="2867"/>
                  <a:pt x="13994" y="2847"/>
                  <a:pt x="14064" y="2803"/>
                </a:cubicBezTo>
                <a:cubicBezTo>
                  <a:pt x="14083" y="2897"/>
                  <a:pt x="14127" y="2974"/>
                  <a:pt x="14238" y="2977"/>
                </a:cubicBezTo>
                <a:cubicBezTo>
                  <a:pt x="14308" y="2979"/>
                  <a:pt x="14562" y="2856"/>
                  <a:pt x="14511" y="2753"/>
                </a:cubicBezTo>
                <a:cubicBezTo>
                  <a:pt x="14503" y="2753"/>
                  <a:pt x="14494" y="2753"/>
                  <a:pt x="14486" y="2753"/>
                </a:cubicBezTo>
              </a:path>
              <a:path w="6475" h="1018">
                <a:moveTo>
                  <a:pt x="14387" y="2530"/>
                </a:moveTo>
                <a:cubicBezTo>
                  <a:pt x="14409" y="2641"/>
                  <a:pt x="14433" y="2763"/>
                  <a:pt x="14461" y="2877"/>
                </a:cubicBezTo>
                <a:cubicBezTo>
                  <a:pt x="14488" y="2984"/>
                  <a:pt x="14501" y="2952"/>
                  <a:pt x="14610" y="2952"/>
                </a:cubicBezTo>
              </a:path>
              <a:path w="6475" h="1018">
                <a:moveTo>
                  <a:pt x="14957" y="2431"/>
                </a:moveTo>
                <a:cubicBezTo>
                  <a:pt x="14957" y="2576"/>
                  <a:pt x="14988" y="2692"/>
                  <a:pt x="15032" y="2828"/>
                </a:cubicBezTo>
                <a:cubicBezTo>
                  <a:pt x="15045" y="2869"/>
                  <a:pt x="15056" y="2945"/>
                  <a:pt x="15056" y="2902"/>
                </a:cubicBezTo>
              </a:path>
              <a:path w="6475" h="1018">
                <a:moveTo>
                  <a:pt x="14660" y="2704"/>
                </a:moveTo>
                <a:cubicBezTo>
                  <a:pt x="14834" y="2704"/>
                  <a:pt x="15063" y="2685"/>
                  <a:pt x="15230" y="2729"/>
                </a:cubicBezTo>
                <a:cubicBezTo>
                  <a:pt x="15292" y="2746"/>
                  <a:pt x="15404" y="2861"/>
                  <a:pt x="15429" y="2902"/>
                </a:cubicBezTo>
              </a:path>
              <a:path w="6475" h="1018">
                <a:moveTo>
                  <a:pt x="15528" y="2977"/>
                </a:moveTo>
                <a:cubicBezTo>
                  <a:pt x="15549" y="3059"/>
                  <a:pt x="15557" y="3074"/>
                  <a:pt x="15553" y="3125"/>
                </a:cubicBezTo>
                <a:cubicBezTo>
                  <a:pt x="15553" y="3002"/>
                  <a:pt x="15501" y="2761"/>
                  <a:pt x="15627" y="2679"/>
                </a:cubicBezTo>
                <a:cubicBezTo>
                  <a:pt x="15652" y="2671"/>
                  <a:pt x="15676" y="2662"/>
                  <a:pt x="15701" y="2654"/>
                </a:cubicBezTo>
                <a:cubicBezTo>
                  <a:pt x="15772" y="2718"/>
                  <a:pt x="15916" y="2850"/>
                  <a:pt x="15726" y="2877"/>
                </a:cubicBezTo>
                <a:cubicBezTo>
                  <a:pt x="15533" y="2904"/>
                  <a:pt x="15502" y="2831"/>
                  <a:pt x="15627" y="2729"/>
                </a:cubicBezTo>
              </a:path>
              <a:path w="6475" h="1018">
                <a:moveTo>
                  <a:pt x="16024" y="2480"/>
                </a:moveTo>
                <a:cubicBezTo>
                  <a:pt x="16039" y="2617"/>
                  <a:pt x="16081" y="2754"/>
                  <a:pt x="16148" y="2877"/>
                </a:cubicBezTo>
                <a:cubicBezTo>
                  <a:pt x="16156" y="2885"/>
                  <a:pt x="16165" y="2894"/>
                  <a:pt x="16173" y="2902"/>
                </a:cubicBezTo>
              </a:path>
              <a:path w="6475" h="1018">
                <a:moveTo>
                  <a:pt x="16346" y="2853"/>
                </a:moveTo>
                <a:cubicBezTo>
                  <a:pt x="16427" y="2834"/>
                  <a:pt x="16570" y="2852"/>
                  <a:pt x="16570" y="2753"/>
                </a:cubicBezTo>
                <a:cubicBezTo>
                  <a:pt x="16570" y="2745"/>
                  <a:pt x="16570" y="2737"/>
                  <a:pt x="16570" y="2729"/>
                </a:cubicBezTo>
                <a:cubicBezTo>
                  <a:pt x="16443" y="2729"/>
                  <a:pt x="16427" y="2766"/>
                  <a:pt x="16371" y="2877"/>
                </a:cubicBezTo>
                <a:cubicBezTo>
                  <a:pt x="16492" y="2938"/>
                  <a:pt x="16587" y="2930"/>
                  <a:pt x="16718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41280" y="2152800"/>
            <a:ext cx="125640" cy="1425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3746" y="6003"/>
                </a:moveTo>
                <a:cubicBezTo>
                  <a:pt x="3703" y="5971"/>
                  <a:pt x="3602" y="5978"/>
                  <a:pt x="3522" y="5978"/>
                </a:cubicBezTo>
                <a:cubicBezTo>
                  <a:pt x="3476" y="5978"/>
                  <a:pt x="3483" y="6088"/>
                  <a:pt x="3473" y="6127"/>
                </a:cubicBezTo>
                <a:cubicBezTo>
                  <a:pt x="3473" y="6135"/>
                  <a:pt x="3473" y="6144"/>
                  <a:pt x="3473" y="6152"/>
                </a:cubicBezTo>
                <a:cubicBezTo>
                  <a:pt x="3540" y="6152"/>
                  <a:pt x="3699" y="6100"/>
                  <a:pt x="3746" y="6152"/>
                </a:cubicBezTo>
                <a:cubicBezTo>
                  <a:pt x="3860" y="6278"/>
                  <a:pt x="3751" y="6325"/>
                  <a:pt x="3646" y="6350"/>
                </a:cubicBezTo>
                <a:cubicBezTo>
                  <a:pt x="3567" y="6369"/>
                  <a:pt x="3522" y="6375"/>
                  <a:pt x="344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6000" y="1724040"/>
            <a:ext cx="366840" cy="2221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9823" y="4812"/>
                </a:moveTo>
                <a:cubicBezTo>
                  <a:pt x="9742" y="4861"/>
                  <a:pt x="9662" y="5039"/>
                  <a:pt x="9624" y="5135"/>
                </a:cubicBezTo>
                <a:cubicBezTo>
                  <a:pt x="9569" y="5271"/>
                  <a:pt x="9575" y="5402"/>
                  <a:pt x="9748" y="5407"/>
                </a:cubicBezTo>
                <a:cubicBezTo>
                  <a:pt x="9838" y="5409"/>
                  <a:pt x="10061" y="5380"/>
                  <a:pt x="10096" y="5283"/>
                </a:cubicBezTo>
                <a:cubicBezTo>
                  <a:pt x="10132" y="5183"/>
                  <a:pt x="9989" y="5153"/>
                  <a:pt x="9922" y="5159"/>
                </a:cubicBezTo>
                <a:cubicBezTo>
                  <a:pt x="9871" y="5163"/>
                  <a:pt x="9777" y="5281"/>
                  <a:pt x="9798" y="5333"/>
                </a:cubicBezTo>
                <a:cubicBezTo>
                  <a:pt x="9839" y="5374"/>
                  <a:pt x="9869" y="5377"/>
                  <a:pt x="9922" y="5333"/>
                </a:cubicBezTo>
              </a:path>
              <a:path w="1018" h="621">
                <a:moveTo>
                  <a:pt x="10393" y="4862"/>
                </a:moveTo>
                <a:cubicBezTo>
                  <a:pt x="10288" y="4888"/>
                  <a:pt x="10224" y="4997"/>
                  <a:pt x="10195" y="5110"/>
                </a:cubicBezTo>
                <a:cubicBezTo>
                  <a:pt x="10150" y="5284"/>
                  <a:pt x="10245" y="5328"/>
                  <a:pt x="10393" y="5283"/>
                </a:cubicBezTo>
                <a:cubicBezTo>
                  <a:pt x="10502" y="5250"/>
                  <a:pt x="10620" y="5163"/>
                  <a:pt x="10616" y="5035"/>
                </a:cubicBezTo>
                <a:cubicBezTo>
                  <a:pt x="10613" y="4950"/>
                  <a:pt x="10507" y="4851"/>
                  <a:pt x="10443" y="4812"/>
                </a:cubicBezTo>
                <a:cubicBezTo>
                  <a:pt x="10402" y="4792"/>
                  <a:pt x="10396" y="4783"/>
                  <a:pt x="10368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2054160"/>
            <a:ext cx="2332080" cy="223920"/>
          </a:xfrm>
          <a:custGeom>
            <a:avLst/>
            <a:gdLst/>
            <a:ahLst/>
            <a:rect l="l" t="t" r="r" b="b"/>
            <a:pathLst>
              <a:path w="6475" h="621">
                <a:moveTo>
                  <a:pt x="6648" y="6251"/>
                </a:moveTo>
                <a:cubicBezTo>
                  <a:pt x="6648" y="6300"/>
                  <a:pt x="6648" y="6316"/>
                  <a:pt x="6697" y="6300"/>
                </a:cubicBezTo>
              </a:path>
              <a:path w="6475" h="621">
                <a:moveTo>
                  <a:pt x="7491" y="5953"/>
                </a:moveTo>
                <a:lnTo>
                  <a:pt x="7491" y="5953"/>
                </a:lnTo>
              </a:path>
              <a:path w="6475" h="621">
                <a:moveTo>
                  <a:pt x="8706" y="6251"/>
                </a:moveTo>
                <a:cubicBezTo>
                  <a:pt x="8706" y="6259"/>
                  <a:pt x="8706" y="6268"/>
                  <a:pt x="8706" y="6276"/>
                </a:cubicBezTo>
              </a:path>
              <a:path w="6475" h="621">
                <a:moveTo>
                  <a:pt x="9426" y="6300"/>
                </a:moveTo>
                <a:cubicBezTo>
                  <a:pt x="9426" y="6325"/>
                  <a:pt x="9426" y="6333"/>
                  <a:pt x="9451" y="6325"/>
                </a:cubicBezTo>
              </a:path>
              <a:path w="6475" h="621">
                <a:moveTo>
                  <a:pt x="10021" y="5829"/>
                </a:moveTo>
                <a:cubicBezTo>
                  <a:pt x="10080" y="5803"/>
                  <a:pt x="10113" y="5782"/>
                  <a:pt x="10145" y="5804"/>
                </a:cubicBezTo>
              </a:path>
              <a:path w="6475" h="621">
                <a:moveTo>
                  <a:pt x="10145" y="5804"/>
                </a:moveTo>
                <a:lnTo>
                  <a:pt x="10145" y="5804"/>
                </a:lnTo>
              </a:path>
              <a:path w="6475" h="621">
                <a:moveTo>
                  <a:pt x="10616" y="6077"/>
                </a:moveTo>
                <a:lnTo>
                  <a:pt x="10616" y="6077"/>
                </a:lnTo>
              </a:path>
              <a:path w="6475" h="621">
                <a:moveTo>
                  <a:pt x="11162" y="6201"/>
                </a:moveTo>
                <a:cubicBezTo>
                  <a:pt x="11142" y="6242"/>
                  <a:pt x="11133" y="6248"/>
                  <a:pt x="11137" y="6276"/>
                </a:cubicBezTo>
              </a:path>
              <a:path w="6475" h="621">
                <a:moveTo>
                  <a:pt x="11311" y="5804"/>
                </a:moveTo>
                <a:cubicBezTo>
                  <a:pt x="11406" y="5899"/>
                  <a:pt x="11266" y="5890"/>
                  <a:pt x="11485" y="5904"/>
                </a:cubicBezTo>
              </a:path>
              <a:path w="6475" h="621">
                <a:moveTo>
                  <a:pt x="11509" y="6052"/>
                </a:moveTo>
                <a:lnTo>
                  <a:pt x="11509" y="6052"/>
                </a:lnTo>
              </a:path>
              <a:path w="6475" h="621">
                <a:moveTo>
                  <a:pt x="11708" y="5755"/>
                </a:moveTo>
                <a:cubicBezTo>
                  <a:pt x="11862" y="5722"/>
                  <a:pt x="11818" y="5715"/>
                  <a:pt x="11956" y="5804"/>
                </a:cubicBezTo>
              </a:path>
              <a:path w="6475" h="621">
                <a:moveTo>
                  <a:pt x="11956" y="5804"/>
                </a:moveTo>
                <a:lnTo>
                  <a:pt x="11956" y="5804"/>
                </a:lnTo>
              </a:path>
              <a:path w="6475" h="621">
                <a:moveTo>
                  <a:pt x="11981" y="6152"/>
                </a:moveTo>
                <a:cubicBezTo>
                  <a:pt x="11959" y="6174"/>
                  <a:pt x="11950" y="6185"/>
                  <a:pt x="11956" y="6152"/>
                </a:cubicBezTo>
              </a:path>
              <a:path w="6475" h="621">
                <a:moveTo>
                  <a:pt x="11931" y="5904"/>
                </a:moveTo>
                <a:lnTo>
                  <a:pt x="11931" y="5904"/>
                </a:lnTo>
              </a:path>
              <a:path w="6475" h="621">
                <a:moveTo>
                  <a:pt x="12452" y="6052"/>
                </a:moveTo>
                <a:cubicBezTo>
                  <a:pt x="12452" y="6077"/>
                  <a:pt x="12452" y="6102"/>
                  <a:pt x="12452" y="6127"/>
                </a:cubicBezTo>
              </a:path>
              <a:path w="6475" h="621">
                <a:moveTo>
                  <a:pt x="12626" y="5779"/>
                </a:moveTo>
                <a:cubicBezTo>
                  <a:pt x="12700" y="5755"/>
                  <a:pt x="12772" y="5740"/>
                  <a:pt x="12849" y="5730"/>
                </a:cubicBezTo>
              </a:path>
              <a:path w="6475" h="621">
                <a:moveTo>
                  <a:pt x="12849" y="5730"/>
                </a:moveTo>
                <a:lnTo>
                  <a:pt x="12849" y="5730"/>
                </a:lnTo>
              </a:path>
              <a:path w="6475" h="621">
                <a:moveTo>
                  <a:pt x="13072" y="5705"/>
                </a:moveTo>
                <a:lnTo>
                  <a:pt x="13072" y="5705"/>
                </a:lnTo>
              </a:path>
              <a:path w="6475" h="621">
                <a:moveTo>
                  <a:pt x="6623" y="5928"/>
                </a:moveTo>
                <a:cubicBezTo>
                  <a:pt x="6615" y="5928"/>
                  <a:pt x="6606" y="5928"/>
                  <a:pt x="6598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1920" y="2446200"/>
            <a:ext cx="179280" cy="12564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3423" y="6796"/>
                </a:moveTo>
                <a:cubicBezTo>
                  <a:pt x="3423" y="6891"/>
                  <a:pt x="3401" y="7119"/>
                  <a:pt x="3448" y="7119"/>
                </a:cubicBezTo>
              </a:path>
              <a:path w="497" h="349">
                <a:moveTo>
                  <a:pt x="3646" y="6846"/>
                </a:moveTo>
                <a:cubicBezTo>
                  <a:pt x="3676" y="6831"/>
                  <a:pt x="3789" y="6788"/>
                  <a:pt x="3820" y="6846"/>
                </a:cubicBezTo>
                <a:cubicBezTo>
                  <a:pt x="3864" y="6928"/>
                  <a:pt x="3768" y="6998"/>
                  <a:pt x="3721" y="7045"/>
                </a:cubicBezTo>
                <a:cubicBezTo>
                  <a:pt x="3698" y="7067"/>
                  <a:pt x="3690" y="7072"/>
                  <a:pt x="3696" y="7094"/>
                </a:cubicBezTo>
                <a:cubicBezTo>
                  <a:pt x="3770" y="7094"/>
                  <a:pt x="3845" y="7094"/>
                  <a:pt x="3919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98760" y="2133720"/>
            <a:ext cx="723600" cy="152280"/>
          </a:xfrm>
          <a:custGeom>
            <a:avLst/>
            <a:gdLst/>
            <a:ahLst/>
            <a:rect l="l" t="t" r="r" b="b"/>
            <a:pathLst>
              <a:path w="2010" h="423">
                <a:moveTo>
                  <a:pt x="4812" y="5928"/>
                </a:moveTo>
                <a:cubicBezTo>
                  <a:pt x="4759" y="5939"/>
                  <a:pt x="4720" y="5953"/>
                  <a:pt x="4663" y="5953"/>
                </a:cubicBezTo>
                <a:cubicBezTo>
                  <a:pt x="4609" y="5953"/>
                  <a:pt x="4610" y="5997"/>
                  <a:pt x="4589" y="6028"/>
                </a:cubicBezTo>
                <a:cubicBezTo>
                  <a:pt x="4581" y="6036"/>
                  <a:pt x="4572" y="6044"/>
                  <a:pt x="4564" y="6052"/>
                </a:cubicBezTo>
                <a:cubicBezTo>
                  <a:pt x="4637" y="6052"/>
                  <a:pt x="4695" y="6047"/>
                  <a:pt x="4762" y="6077"/>
                </a:cubicBezTo>
                <a:cubicBezTo>
                  <a:pt x="4810" y="6101"/>
                  <a:pt x="4827" y="6107"/>
                  <a:pt x="4812" y="6152"/>
                </a:cubicBezTo>
                <a:cubicBezTo>
                  <a:pt x="4710" y="6232"/>
                  <a:pt x="4617" y="6243"/>
                  <a:pt x="4490" y="6251"/>
                </a:cubicBezTo>
                <a:cubicBezTo>
                  <a:pt x="4473" y="6251"/>
                  <a:pt x="4457" y="6251"/>
                  <a:pt x="4440" y="6251"/>
                </a:cubicBezTo>
              </a:path>
              <a:path w="2010" h="423">
                <a:moveTo>
                  <a:pt x="4911" y="6226"/>
                </a:moveTo>
                <a:cubicBezTo>
                  <a:pt x="4920" y="6270"/>
                  <a:pt x="4936" y="6303"/>
                  <a:pt x="4936" y="6350"/>
                </a:cubicBezTo>
              </a:path>
              <a:path w="2010" h="423">
                <a:moveTo>
                  <a:pt x="5234" y="5978"/>
                </a:moveTo>
                <a:cubicBezTo>
                  <a:pt x="5209" y="5978"/>
                  <a:pt x="5201" y="5978"/>
                  <a:pt x="5209" y="5953"/>
                </a:cubicBezTo>
                <a:cubicBezTo>
                  <a:pt x="5194" y="6055"/>
                  <a:pt x="5184" y="6146"/>
                  <a:pt x="5184" y="6251"/>
                </a:cubicBezTo>
              </a:path>
              <a:path w="2010" h="423">
                <a:moveTo>
                  <a:pt x="5482" y="5953"/>
                </a:moveTo>
                <a:cubicBezTo>
                  <a:pt x="5423" y="6032"/>
                  <a:pt x="5379" y="6114"/>
                  <a:pt x="5333" y="6201"/>
                </a:cubicBezTo>
                <a:cubicBezTo>
                  <a:pt x="5444" y="6249"/>
                  <a:pt x="5563" y="6242"/>
                  <a:pt x="5606" y="6102"/>
                </a:cubicBezTo>
                <a:cubicBezTo>
                  <a:pt x="5641" y="5987"/>
                  <a:pt x="5606" y="5985"/>
                  <a:pt x="5531" y="5953"/>
                </a:cubicBezTo>
              </a:path>
              <a:path w="2010" h="423">
                <a:moveTo>
                  <a:pt x="5705" y="6226"/>
                </a:moveTo>
                <a:cubicBezTo>
                  <a:pt x="5705" y="6284"/>
                  <a:pt x="5708" y="6304"/>
                  <a:pt x="5680" y="6350"/>
                </a:cubicBezTo>
              </a:path>
              <a:path w="2010" h="423">
                <a:moveTo>
                  <a:pt x="6003" y="6003"/>
                </a:moveTo>
                <a:cubicBezTo>
                  <a:pt x="5978" y="6087"/>
                  <a:pt x="5978" y="6161"/>
                  <a:pt x="5978" y="6251"/>
                </a:cubicBezTo>
              </a:path>
              <a:path w="2010" h="423">
                <a:moveTo>
                  <a:pt x="6400" y="5978"/>
                </a:moveTo>
                <a:cubicBezTo>
                  <a:pt x="6367" y="5953"/>
                  <a:pt x="6332" y="5931"/>
                  <a:pt x="6300" y="5978"/>
                </a:cubicBezTo>
                <a:cubicBezTo>
                  <a:pt x="6281" y="6019"/>
                  <a:pt x="6273" y="6025"/>
                  <a:pt x="6276" y="6052"/>
                </a:cubicBezTo>
                <a:cubicBezTo>
                  <a:pt x="6380" y="6052"/>
                  <a:pt x="6364" y="6060"/>
                  <a:pt x="6449" y="6127"/>
                </a:cubicBezTo>
                <a:cubicBezTo>
                  <a:pt x="6399" y="6201"/>
                  <a:pt x="6413" y="6175"/>
                  <a:pt x="6300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920" y="2125800"/>
            <a:ext cx="534960" cy="15228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7069" y="5928"/>
                </a:moveTo>
                <a:cubicBezTo>
                  <a:pt x="7111" y="5928"/>
                  <a:pt x="7119" y="5928"/>
                  <a:pt x="7144" y="5928"/>
                </a:cubicBezTo>
                <a:cubicBezTo>
                  <a:pt x="7144" y="6041"/>
                  <a:pt x="7094" y="6093"/>
                  <a:pt x="6995" y="6152"/>
                </a:cubicBezTo>
                <a:cubicBezTo>
                  <a:pt x="6970" y="6152"/>
                  <a:pt x="6962" y="6152"/>
                  <a:pt x="6970" y="6176"/>
                </a:cubicBezTo>
                <a:cubicBezTo>
                  <a:pt x="7059" y="6176"/>
                  <a:pt x="7133" y="6170"/>
                  <a:pt x="7218" y="6152"/>
                </a:cubicBezTo>
              </a:path>
              <a:path w="1489" h="422">
                <a:moveTo>
                  <a:pt x="7491" y="5953"/>
                </a:moveTo>
                <a:cubicBezTo>
                  <a:pt x="7418" y="5997"/>
                  <a:pt x="7368" y="6037"/>
                  <a:pt x="7317" y="6102"/>
                </a:cubicBezTo>
                <a:cubicBezTo>
                  <a:pt x="7387" y="6172"/>
                  <a:pt x="7502" y="6166"/>
                  <a:pt x="7565" y="6052"/>
                </a:cubicBezTo>
                <a:cubicBezTo>
                  <a:pt x="7595" y="5998"/>
                  <a:pt x="7522" y="5978"/>
                  <a:pt x="7491" y="5953"/>
                </a:cubicBezTo>
              </a:path>
              <a:path w="1489" h="422">
                <a:moveTo>
                  <a:pt x="7689" y="6276"/>
                </a:moveTo>
                <a:cubicBezTo>
                  <a:pt x="7689" y="6300"/>
                  <a:pt x="7689" y="6309"/>
                  <a:pt x="7689" y="6325"/>
                </a:cubicBezTo>
              </a:path>
              <a:path w="1489" h="422">
                <a:moveTo>
                  <a:pt x="7987" y="5953"/>
                </a:moveTo>
                <a:cubicBezTo>
                  <a:pt x="8002" y="5956"/>
                  <a:pt x="8103" y="5969"/>
                  <a:pt x="8111" y="5978"/>
                </a:cubicBezTo>
                <a:cubicBezTo>
                  <a:pt x="8197" y="6074"/>
                  <a:pt x="8022" y="6108"/>
                  <a:pt x="7962" y="6102"/>
                </a:cubicBezTo>
                <a:cubicBezTo>
                  <a:pt x="7954" y="6094"/>
                  <a:pt x="7946" y="6085"/>
                  <a:pt x="7938" y="6077"/>
                </a:cubicBezTo>
                <a:cubicBezTo>
                  <a:pt x="7872" y="6077"/>
                  <a:pt x="8003" y="6072"/>
                  <a:pt x="8062" y="6102"/>
                </a:cubicBezTo>
                <a:cubicBezTo>
                  <a:pt x="8062" y="6127"/>
                  <a:pt x="8062" y="6135"/>
                  <a:pt x="8086" y="6127"/>
                </a:cubicBezTo>
              </a:path>
              <a:path w="1489" h="422">
                <a:moveTo>
                  <a:pt x="8458" y="5928"/>
                </a:moveTo>
                <a:cubicBezTo>
                  <a:pt x="8414" y="5910"/>
                  <a:pt x="8392" y="5921"/>
                  <a:pt x="8334" y="5928"/>
                </a:cubicBezTo>
                <a:cubicBezTo>
                  <a:pt x="8366" y="5973"/>
                  <a:pt x="8418" y="6003"/>
                  <a:pt x="8434" y="6052"/>
                </a:cubicBezTo>
                <a:cubicBezTo>
                  <a:pt x="8462" y="6136"/>
                  <a:pt x="8284" y="6123"/>
                  <a:pt x="8235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24160" y="2089080"/>
            <a:ext cx="731880" cy="169920"/>
          </a:xfrm>
          <a:custGeom>
            <a:avLst/>
            <a:gdLst/>
            <a:ahLst/>
            <a:rect l="l" t="t" r="r" b="b"/>
            <a:pathLst>
              <a:path w="2035" h="473">
                <a:moveTo>
                  <a:pt x="8954" y="5804"/>
                </a:moveTo>
                <a:cubicBezTo>
                  <a:pt x="8985" y="5835"/>
                  <a:pt x="9051" y="5822"/>
                  <a:pt x="9103" y="5854"/>
                </a:cubicBezTo>
                <a:cubicBezTo>
                  <a:pt x="9071" y="5911"/>
                  <a:pt x="9039" y="5933"/>
                  <a:pt x="9054" y="5953"/>
                </a:cubicBezTo>
                <a:cubicBezTo>
                  <a:pt x="9136" y="6065"/>
                  <a:pt x="9106" y="6092"/>
                  <a:pt x="8979" y="6127"/>
                </a:cubicBezTo>
                <a:cubicBezTo>
                  <a:pt x="8936" y="6127"/>
                  <a:pt x="8933" y="6110"/>
                  <a:pt x="8979" y="6052"/>
                </a:cubicBezTo>
              </a:path>
              <a:path w="2035" h="473">
                <a:moveTo>
                  <a:pt x="9252" y="5879"/>
                </a:moveTo>
                <a:cubicBezTo>
                  <a:pt x="9235" y="5931"/>
                  <a:pt x="9215" y="5974"/>
                  <a:pt x="9203" y="6028"/>
                </a:cubicBezTo>
                <a:cubicBezTo>
                  <a:pt x="9286" y="6069"/>
                  <a:pt x="9397" y="6041"/>
                  <a:pt x="9426" y="5928"/>
                </a:cubicBezTo>
                <a:cubicBezTo>
                  <a:pt x="9391" y="5894"/>
                  <a:pt x="9368" y="5881"/>
                  <a:pt x="9327" y="5879"/>
                </a:cubicBezTo>
              </a:path>
              <a:path w="2035" h="473">
                <a:moveTo>
                  <a:pt x="9624" y="5829"/>
                </a:moveTo>
                <a:cubicBezTo>
                  <a:pt x="9669" y="5829"/>
                  <a:pt x="9742" y="5807"/>
                  <a:pt x="9748" y="5854"/>
                </a:cubicBezTo>
                <a:cubicBezTo>
                  <a:pt x="9753" y="5896"/>
                  <a:pt x="9729" y="5896"/>
                  <a:pt x="9699" y="5904"/>
                </a:cubicBezTo>
                <a:cubicBezTo>
                  <a:pt x="9724" y="5953"/>
                  <a:pt x="9854" y="5974"/>
                  <a:pt x="9823" y="6052"/>
                </a:cubicBezTo>
                <a:cubicBezTo>
                  <a:pt x="9786" y="6147"/>
                  <a:pt x="9687" y="6093"/>
                  <a:pt x="9624" y="6077"/>
                </a:cubicBezTo>
              </a:path>
              <a:path w="2035" h="473">
                <a:moveTo>
                  <a:pt x="9996" y="5829"/>
                </a:moveTo>
                <a:cubicBezTo>
                  <a:pt x="10008" y="5925"/>
                  <a:pt x="10049" y="5957"/>
                  <a:pt x="10120" y="6028"/>
                </a:cubicBezTo>
                <a:cubicBezTo>
                  <a:pt x="10128" y="6036"/>
                  <a:pt x="10137" y="6044"/>
                  <a:pt x="10145" y="6052"/>
                </a:cubicBezTo>
              </a:path>
              <a:path w="2035" h="473">
                <a:moveTo>
                  <a:pt x="10195" y="6226"/>
                </a:moveTo>
                <a:cubicBezTo>
                  <a:pt x="10176" y="6252"/>
                  <a:pt x="10170" y="6295"/>
                  <a:pt x="10170" y="6251"/>
                </a:cubicBezTo>
              </a:path>
              <a:path w="2035" h="473">
                <a:moveTo>
                  <a:pt x="10443" y="5804"/>
                </a:moveTo>
                <a:cubicBezTo>
                  <a:pt x="10420" y="5944"/>
                  <a:pt x="10398" y="5931"/>
                  <a:pt x="10542" y="5953"/>
                </a:cubicBezTo>
              </a:path>
              <a:path w="2035" h="473">
                <a:moveTo>
                  <a:pt x="10691" y="5804"/>
                </a:moveTo>
                <a:cubicBezTo>
                  <a:pt x="10677" y="5861"/>
                  <a:pt x="10585" y="6014"/>
                  <a:pt x="10592" y="6077"/>
                </a:cubicBezTo>
                <a:cubicBezTo>
                  <a:pt x="10600" y="6077"/>
                  <a:pt x="10608" y="6077"/>
                  <a:pt x="10616" y="6077"/>
                </a:cubicBezTo>
              </a:path>
              <a:path w="2035" h="473">
                <a:moveTo>
                  <a:pt x="10840" y="5879"/>
                </a:moveTo>
                <a:cubicBezTo>
                  <a:pt x="10827" y="5944"/>
                  <a:pt x="10800" y="6008"/>
                  <a:pt x="10790" y="6077"/>
                </a:cubicBezTo>
                <a:cubicBezTo>
                  <a:pt x="10818" y="6072"/>
                  <a:pt x="11084" y="5979"/>
                  <a:pt x="10988" y="5904"/>
                </a:cubicBezTo>
                <a:cubicBezTo>
                  <a:pt x="10904" y="5883"/>
                  <a:pt x="10885" y="5882"/>
                  <a:pt x="10840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3240" y="1973160"/>
            <a:ext cx="973440" cy="268560"/>
          </a:xfrm>
          <a:custGeom>
            <a:avLst/>
            <a:gdLst/>
            <a:ahLst/>
            <a:rect l="l" t="t" r="r" b="b"/>
            <a:pathLst>
              <a:path w="2705" h="745">
                <a:moveTo>
                  <a:pt x="11559" y="5755"/>
                </a:moveTo>
                <a:cubicBezTo>
                  <a:pt x="11527" y="5859"/>
                  <a:pt x="11509" y="5944"/>
                  <a:pt x="11509" y="6052"/>
                </a:cubicBezTo>
              </a:path>
              <a:path w="2705" h="745">
                <a:moveTo>
                  <a:pt x="11708" y="5829"/>
                </a:moveTo>
                <a:cubicBezTo>
                  <a:pt x="11737" y="5892"/>
                  <a:pt x="11873" y="6024"/>
                  <a:pt x="11807" y="6003"/>
                </a:cubicBezTo>
                <a:cubicBezTo>
                  <a:pt x="11774" y="5986"/>
                  <a:pt x="11741" y="5970"/>
                  <a:pt x="11708" y="5953"/>
                </a:cubicBezTo>
              </a:path>
              <a:path w="2705" h="745">
                <a:moveTo>
                  <a:pt x="12055" y="5755"/>
                </a:moveTo>
                <a:cubicBezTo>
                  <a:pt x="12025" y="5770"/>
                  <a:pt x="11947" y="5840"/>
                  <a:pt x="12005" y="5879"/>
                </a:cubicBezTo>
                <a:cubicBezTo>
                  <a:pt x="12131" y="5964"/>
                  <a:pt x="12075" y="5909"/>
                  <a:pt x="12129" y="6003"/>
                </a:cubicBezTo>
                <a:cubicBezTo>
                  <a:pt x="12008" y="6038"/>
                  <a:pt x="12021" y="5994"/>
                  <a:pt x="11931" y="5904"/>
                </a:cubicBezTo>
              </a:path>
              <a:path w="2705" h="745">
                <a:moveTo>
                  <a:pt x="11956" y="5779"/>
                </a:moveTo>
                <a:cubicBezTo>
                  <a:pt x="12024" y="5769"/>
                  <a:pt x="12202" y="5771"/>
                  <a:pt x="12229" y="5730"/>
                </a:cubicBezTo>
                <a:cubicBezTo>
                  <a:pt x="12250" y="5778"/>
                  <a:pt x="12232" y="5933"/>
                  <a:pt x="12328" y="5904"/>
                </a:cubicBezTo>
                <a:cubicBezTo>
                  <a:pt x="12466" y="5863"/>
                  <a:pt x="12492" y="5781"/>
                  <a:pt x="12378" y="5730"/>
                </a:cubicBezTo>
              </a:path>
              <a:path w="2705" h="745">
                <a:moveTo>
                  <a:pt x="12700" y="5779"/>
                </a:moveTo>
                <a:cubicBezTo>
                  <a:pt x="12598" y="5830"/>
                  <a:pt x="12688" y="5853"/>
                  <a:pt x="12725" y="5904"/>
                </a:cubicBezTo>
                <a:cubicBezTo>
                  <a:pt x="12759" y="5951"/>
                  <a:pt x="12774" y="5950"/>
                  <a:pt x="12675" y="5928"/>
                </a:cubicBezTo>
              </a:path>
              <a:path w="2705" h="745">
                <a:moveTo>
                  <a:pt x="12849" y="5730"/>
                </a:moveTo>
                <a:cubicBezTo>
                  <a:pt x="12939" y="5789"/>
                  <a:pt x="12805" y="5759"/>
                  <a:pt x="12973" y="5829"/>
                </a:cubicBezTo>
                <a:cubicBezTo>
                  <a:pt x="13022" y="5854"/>
                  <a:pt x="13039" y="5863"/>
                  <a:pt x="13047" y="5904"/>
                </a:cubicBezTo>
                <a:cubicBezTo>
                  <a:pt x="12957" y="5947"/>
                  <a:pt x="12950" y="5919"/>
                  <a:pt x="12849" y="5879"/>
                </a:cubicBezTo>
              </a:path>
              <a:path w="2705" h="745">
                <a:moveTo>
                  <a:pt x="12898" y="5705"/>
                </a:moveTo>
                <a:cubicBezTo>
                  <a:pt x="12952" y="5693"/>
                  <a:pt x="13052" y="5646"/>
                  <a:pt x="13072" y="5705"/>
                </a:cubicBezTo>
              </a:path>
              <a:path w="2705" h="745">
                <a:moveTo>
                  <a:pt x="13146" y="6003"/>
                </a:moveTo>
                <a:cubicBezTo>
                  <a:pt x="13146" y="6086"/>
                  <a:pt x="13146" y="6102"/>
                  <a:pt x="13146" y="6152"/>
                </a:cubicBezTo>
              </a:path>
              <a:path w="2705" h="745">
                <a:moveTo>
                  <a:pt x="13370" y="5730"/>
                </a:moveTo>
                <a:cubicBezTo>
                  <a:pt x="13362" y="5780"/>
                  <a:pt x="13277" y="5962"/>
                  <a:pt x="13320" y="6003"/>
                </a:cubicBezTo>
                <a:cubicBezTo>
                  <a:pt x="13363" y="6044"/>
                  <a:pt x="13594" y="6006"/>
                  <a:pt x="13543" y="5953"/>
                </a:cubicBezTo>
                <a:cubicBezTo>
                  <a:pt x="13517" y="5926"/>
                  <a:pt x="13463" y="5966"/>
                  <a:pt x="13444" y="5978"/>
                </a:cubicBezTo>
              </a:path>
              <a:path w="2705" h="745">
                <a:moveTo>
                  <a:pt x="13891" y="5804"/>
                </a:moveTo>
                <a:cubicBezTo>
                  <a:pt x="13816" y="5842"/>
                  <a:pt x="13769" y="5896"/>
                  <a:pt x="13742" y="5978"/>
                </a:cubicBezTo>
                <a:cubicBezTo>
                  <a:pt x="13837" y="5993"/>
                  <a:pt x="13994" y="5998"/>
                  <a:pt x="14015" y="5854"/>
                </a:cubicBezTo>
                <a:cubicBezTo>
                  <a:pt x="14026" y="5778"/>
                  <a:pt x="13873" y="5764"/>
                  <a:pt x="13841" y="5755"/>
                </a:cubicBezTo>
              </a:path>
              <a:path w="2705" h="745">
                <a:moveTo>
                  <a:pt x="13246" y="6127"/>
                </a:moveTo>
                <a:cubicBezTo>
                  <a:pt x="13221" y="6127"/>
                  <a:pt x="13213" y="6127"/>
                  <a:pt x="13221" y="6102"/>
                </a:cubicBezTo>
                <a:cubicBezTo>
                  <a:pt x="13233" y="6188"/>
                  <a:pt x="13234" y="6175"/>
                  <a:pt x="13345" y="6201"/>
                </a:cubicBezTo>
                <a:cubicBezTo>
                  <a:pt x="13497" y="6237"/>
                  <a:pt x="13597" y="6222"/>
                  <a:pt x="13742" y="6176"/>
                </a:cubicBezTo>
                <a:cubicBezTo>
                  <a:pt x="13831" y="6148"/>
                  <a:pt x="13955" y="6077"/>
                  <a:pt x="14015" y="6052"/>
                </a:cubicBezTo>
                <a:cubicBezTo>
                  <a:pt x="14110" y="6013"/>
                  <a:pt x="14149" y="5992"/>
                  <a:pt x="14188" y="5904"/>
                </a:cubicBezTo>
                <a:cubicBezTo>
                  <a:pt x="14229" y="5812"/>
                  <a:pt x="14182" y="5738"/>
                  <a:pt x="14139" y="5655"/>
                </a:cubicBezTo>
                <a:cubicBezTo>
                  <a:pt x="14121" y="5621"/>
                  <a:pt x="14103" y="5582"/>
                  <a:pt x="14064" y="5556"/>
                </a:cubicBezTo>
                <a:cubicBezTo>
                  <a:pt x="14005" y="5517"/>
                  <a:pt x="13935" y="5484"/>
                  <a:pt x="13866" y="5482"/>
                </a:cubicBezTo>
                <a:cubicBezTo>
                  <a:pt x="13737" y="5477"/>
                  <a:pt x="13666" y="5511"/>
                  <a:pt x="13543" y="5531"/>
                </a:cubicBezTo>
                <a:cubicBezTo>
                  <a:pt x="13447" y="5547"/>
                  <a:pt x="13435" y="5604"/>
                  <a:pt x="13370" y="5680"/>
                </a:cubicBezTo>
                <a:cubicBezTo>
                  <a:pt x="13327" y="5730"/>
                  <a:pt x="13286" y="5809"/>
                  <a:pt x="13271" y="5879"/>
                </a:cubicBezTo>
                <a:cubicBezTo>
                  <a:pt x="13256" y="5948"/>
                  <a:pt x="13266" y="6046"/>
                  <a:pt x="13295" y="6102"/>
                </a:cubicBezTo>
                <a:cubicBezTo>
                  <a:pt x="13315" y="6140"/>
                  <a:pt x="13335" y="6166"/>
                  <a:pt x="13370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66960" y="2419200"/>
            <a:ext cx="1098360" cy="169920"/>
          </a:xfrm>
          <a:custGeom>
            <a:avLst/>
            <a:gdLst/>
            <a:ahLst/>
            <a:rect l="l" t="t" r="r" b="b"/>
            <a:pathLst>
              <a:path w="3052" h="472">
                <a:moveTo>
                  <a:pt x="5184" y="7193"/>
                </a:moveTo>
                <a:lnTo>
                  <a:pt x="5184" y="7193"/>
                </a:lnTo>
              </a:path>
              <a:path w="3052" h="472">
                <a:moveTo>
                  <a:pt x="6077" y="7069"/>
                </a:moveTo>
                <a:lnTo>
                  <a:pt x="6077" y="7069"/>
                </a:lnTo>
              </a:path>
              <a:path w="3052" h="472">
                <a:moveTo>
                  <a:pt x="6251" y="7094"/>
                </a:moveTo>
                <a:cubicBezTo>
                  <a:pt x="6259" y="7119"/>
                  <a:pt x="6268" y="7144"/>
                  <a:pt x="6276" y="7169"/>
                </a:cubicBezTo>
              </a:path>
              <a:path w="3052" h="472">
                <a:moveTo>
                  <a:pt x="7838" y="6722"/>
                </a:moveTo>
                <a:cubicBezTo>
                  <a:pt x="7794" y="6824"/>
                  <a:pt x="7772" y="6886"/>
                  <a:pt x="7764" y="6995"/>
                </a:cubicBezTo>
              </a:path>
              <a:path w="3052" h="472">
                <a:moveTo>
                  <a:pt x="7764" y="6995"/>
                </a:moveTo>
                <a:lnTo>
                  <a:pt x="7764" y="6995"/>
                </a:lnTo>
              </a:path>
              <a:path w="3052" h="472">
                <a:moveTo>
                  <a:pt x="8235" y="7094"/>
                </a:moveTo>
                <a:cubicBezTo>
                  <a:pt x="8215" y="7135"/>
                  <a:pt x="8206" y="7141"/>
                  <a:pt x="821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760" y="2330280"/>
            <a:ext cx="2000160" cy="258840"/>
          </a:xfrm>
          <a:custGeom>
            <a:avLst/>
            <a:gdLst/>
            <a:ahLst/>
            <a:rect l="l" t="t" r="r" b="b"/>
            <a:pathLst>
              <a:path w="5557" h="720">
                <a:moveTo>
                  <a:pt x="4589" y="6796"/>
                </a:moveTo>
                <a:cubicBezTo>
                  <a:pt x="4589" y="6856"/>
                  <a:pt x="4549" y="7063"/>
                  <a:pt x="4614" y="7020"/>
                </a:cubicBezTo>
              </a:path>
              <a:path w="5557" h="720">
                <a:moveTo>
                  <a:pt x="4837" y="6772"/>
                </a:moveTo>
                <a:cubicBezTo>
                  <a:pt x="4887" y="6754"/>
                  <a:pt x="4936" y="6732"/>
                  <a:pt x="4986" y="6722"/>
                </a:cubicBezTo>
                <a:cubicBezTo>
                  <a:pt x="4976" y="6830"/>
                  <a:pt x="4926" y="6901"/>
                  <a:pt x="4837" y="6970"/>
                </a:cubicBezTo>
                <a:cubicBezTo>
                  <a:pt x="4805" y="6995"/>
                  <a:pt x="4910" y="6970"/>
                  <a:pt x="4961" y="6970"/>
                </a:cubicBezTo>
              </a:path>
              <a:path w="5557" h="720">
                <a:moveTo>
                  <a:pt x="5184" y="7069"/>
                </a:moveTo>
                <a:cubicBezTo>
                  <a:pt x="5184" y="7144"/>
                  <a:pt x="5184" y="7152"/>
                  <a:pt x="5184" y="7193"/>
                </a:cubicBezTo>
              </a:path>
              <a:path w="5557" h="720">
                <a:moveTo>
                  <a:pt x="5507" y="6747"/>
                </a:moveTo>
                <a:cubicBezTo>
                  <a:pt x="5542" y="6747"/>
                  <a:pt x="5559" y="6742"/>
                  <a:pt x="5581" y="6722"/>
                </a:cubicBezTo>
                <a:cubicBezTo>
                  <a:pt x="5674" y="6860"/>
                  <a:pt x="5561" y="6858"/>
                  <a:pt x="5482" y="6970"/>
                </a:cubicBezTo>
                <a:cubicBezTo>
                  <a:pt x="5445" y="7022"/>
                  <a:pt x="5714" y="6949"/>
                  <a:pt x="5730" y="6945"/>
                </a:cubicBezTo>
              </a:path>
              <a:path w="5557" h="720">
                <a:moveTo>
                  <a:pt x="5829" y="6796"/>
                </a:moveTo>
                <a:cubicBezTo>
                  <a:pt x="5829" y="6821"/>
                  <a:pt x="5829" y="6846"/>
                  <a:pt x="5829" y="6871"/>
                </a:cubicBezTo>
                <a:cubicBezTo>
                  <a:pt x="5951" y="6871"/>
                  <a:pt x="6010" y="6856"/>
                  <a:pt x="6127" y="6821"/>
                </a:cubicBezTo>
              </a:path>
              <a:path w="5557" h="720">
                <a:moveTo>
                  <a:pt x="6127" y="6697"/>
                </a:moveTo>
                <a:cubicBezTo>
                  <a:pt x="6096" y="6826"/>
                  <a:pt x="6077" y="6936"/>
                  <a:pt x="6077" y="7069"/>
                </a:cubicBezTo>
              </a:path>
              <a:path w="5557" h="720">
                <a:moveTo>
                  <a:pt x="6499" y="6772"/>
                </a:moveTo>
                <a:cubicBezTo>
                  <a:pt x="6523" y="6772"/>
                  <a:pt x="6767" y="6753"/>
                  <a:pt x="6747" y="6796"/>
                </a:cubicBezTo>
                <a:cubicBezTo>
                  <a:pt x="6705" y="6838"/>
                  <a:pt x="6697" y="6846"/>
                  <a:pt x="6672" y="6871"/>
                </a:cubicBezTo>
                <a:cubicBezTo>
                  <a:pt x="6655" y="6871"/>
                  <a:pt x="6788" y="6864"/>
                  <a:pt x="6796" y="6970"/>
                </a:cubicBezTo>
                <a:cubicBezTo>
                  <a:pt x="6804" y="7084"/>
                  <a:pt x="6569" y="7033"/>
                  <a:pt x="6524" y="6995"/>
                </a:cubicBezTo>
                <a:cubicBezTo>
                  <a:pt x="6524" y="6987"/>
                  <a:pt x="6524" y="6978"/>
                  <a:pt x="6524" y="6970"/>
                </a:cubicBezTo>
              </a:path>
              <a:path w="5557" h="720">
                <a:moveTo>
                  <a:pt x="6970" y="6747"/>
                </a:moveTo>
                <a:cubicBezTo>
                  <a:pt x="6942" y="6805"/>
                  <a:pt x="6857" y="6849"/>
                  <a:pt x="6871" y="6945"/>
                </a:cubicBezTo>
                <a:cubicBezTo>
                  <a:pt x="6888" y="7058"/>
                  <a:pt x="7114" y="7035"/>
                  <a:pt x="7169" y="6970"/>
                </a:cubicBezTo>
                <a:cubicBezTo>
                  <a:pt x="7188" y="6913"/>
                  <a:pt x="7196" y="6906"/>
                  <a:pt x="7193" y="6871"/>
                </a:cubicBezTo>
                <a:cubicBezTo>
                  <a:pt x="7098" y="6899"/>
                  <a:pt x="7019" y="6913"/>
                  <a:pt x="6970" y="6995"/>
                </a:cubicBezTo>
              </a:path>
              <a:path w="5557" h="720">
                <a:moveTo>
                  <a:pt x="7317" y="7119"/>
                </a:moveTo>
                <a:cubicBezTo>
                  <a:pt x="7317" y="7160"/>
                  <a:pt x="7317" y="7168"/>
                  <a:pt x="7317" y="7193"/>
                </a:cubicBezTo>
              </a:path>
              <a:path w="5557" h="720">
                <a:moveTo>
                  <a:pt x="7640" y="6722"/>
                </a:moveTo>
                <a:cubicBezTo>
                  <a:pt x="7640" y="6697"/>
                  <a:pt x="7640" y="6689"/>
                  <a:pt x="7615" y="6697"/>
                </a:cubicBezTo>
                <a:cubicBezTo>
                  <a:pt x="7615" y="6742"/>
                  <a:pt x="7581" y="6802"/>
                  <a:pt x="7615" y="6821"/>
                </a:cubicBezTo>
                <a:cubicBezTo>
                  <a:pt x="7724" y="6883"/>
                  <a:pt x="7818" y="6784"/>
                  <a:pt x="7888" y="6722"/>
                </a:cubicBezTo>
              </a:path>
              <a:path w="5557" h="720">
                <a:moveTo>
                  <a:pt x="8062" y="6722"/>
                </a:moveTo>
                <a:cubicBezTo>
                  <a:pt x="8002" y="6729"/>
                  <a:pt x="7874" y="6738"/>
                  <a:pt x="7938" y="6846"/>
                </a:cubicBezTo>
                <a:cubicBezTo>
                  <a:pt x="7995" y="6904"/>
                  <a:pt x="8003" y="6913"/>
                  <a:pt x="8037" y="6945"/>
                </a:cubicBezTo>
                <a:cubicBezTo>
                  <a:pt x="7987" y="6945"/>
                  <a:pt x="7971" y="6945"/>
                  <a:pt x="7938" y="6945"/>
                </a:cubicBezTo>
                <a:cubicBezTo>
                  <a:pt x="7958" y="6863"/>
                  <a:pt x="8026" y="6825"/>
                  <a:pt x="8062" y="6747"/>
                </a:cubicBezTo>
                <a:cubicBezTo>
                  <a:pt x="8062" y="6722"/>
                  <a:pt x="8062" y="6714"/>
                  <a:pt x="8062" y="6697"/>
                </a:cubicBezTo>
              </a:path>
              <a:path w="5557" h="720">
                <a:moveTo>
                  <a:pt x="8533" y="6697"/>
                </a:moveTo>
                <a:cubicBezTo>
                  <a:pt x="8533" y="6648"/>
                  <a:pt x="8470" y="6794"/>
                  <a:pt x="8458" y="6821"/>
                </a:cubicBezTo>
                <a:cubicBezTo>
                  <a:pt x="8436" y="6888"/>
                  <a:pt x="8425" y="6906"/>
                  <a:pt x="8458" y="6945"/>
                </a:cubicBezTo>
                <a:cubicBezTo>
                  <a:pt x="8563" y="6960"/>
                  <a:pt x="8692" y="6989"/>
                  <a:pt x="8781" y="6896"/>
                </a:cubicBezTo>
                <a:cubicBezTo>
                  <a:pt x="8800" y="6838"/>
                  <a:pt x="8809" y="6831"/>
                  <a:pt x="8806" y="6796"/>
                </a:cubicBezTo>
                <a:cubicBezTo>
                  <a:pt x="8710" y="6797"/>
                  <a:pt x="8612" y="6829"/>
                  <a:pt x="8558" y="6921"/>
                </a:cubicBezTo>
              </a:path>
              <a:path w="5557" h="720">
                <a:moveTo>
                  <a:pt x="9029" y="6697"/>
                </a:moveTo>
                <a:cubicBezTo>
                  <a:pt x="8951" y="6746"/>
                  <a:pt x="8937" y="6766"/>
                  <a:pt x="8880" y="6846"/>
                </a:cubicBezTo>
                <a:cubicBezTo>
                  <a:pt x="8978" y="6873"/>
                  <a:pt x="9147" y="6908"/>
                  <a:pt x="9153" y="6747"/>
                </a:cubicBezTo>
                <a:cubicBezTo>
                  <a:pt x="9157" y="6644"/>
                  <a:pt x="9094" y="6672"/>
                  <a:pt x="9029" y="6672"/>
                </a:cubicBezTo>
              </a:path>
              <a:path w="5557" h="720">
                <a:moveTo>
                  <a:pt x="9351" y="7045"/>
                </a:moveTo>
                <a:cubicBezTo>
                  <a:pt x="9409" y="6987"/>
                  <a:pt x="9357" y="7088"/>
                  <a:pt x="9351" y="7119"/>
                </a:cubicBezTo>
              </a:path>
              <a:path w="5557" h="720">
                <a:moveTo>
                  <a:pt x="9575" y="6722"/>
                </a:moveTo>
                <a:cubicBezTo>
                  <a:pt x="9587" y="6684"/>
                  <a:pt x="9656" y="6684"/>
                  <a:pt x="9699" y="6672"/>
                </a:cubicBezTo>
                <a:cubicBezTo>
                  <a:pt x="9707" y="6672"/>
                  <a:pt x="9715" y="6672"/>
                  <a:pt x="9723" y="6672"/>
                </a:cubicBezTo>
                <a:cubicBezTo>
                  <a:pt x="9742" y="6786"/>
                  <a:pt x="9722" y="6828"/>
                  <a:pt x="9699" y="6945"/>
                </a:cubicBezTo>
                <a:cubicBezTo>
                  <a:pt x="9699" y="6953"/>
                  <a:pt x="9699" y="6962"/>
                  <a:pt x="9699" y="6970"/>
                </a:cubicBezTo>
              </a:path>
              <a:path w="5557" h="720">
                <a:moveTo>
                  <a:pt x="9996" y="6672"/>
                </a:moveTo>
                <a:cubicBezTo>
                  <a:pt x="10044" y="6660"/>
                  <a:pt x="10052" y="6631"/>
                  <a:pt x="10096" y="6672"/>
                </a:cubicBezTo>
                <a:cubicBezTo>
                  <a:pt x="10168" y="6740"/>
                  <a:pt x="10159" y="6775"/>
                  <a:pt x="10096" y="6846"/>
                </a:cubicBezTo>
                <a:cubicBezTo>
                  <a:pt x="10052" y="6896"/>
                  <a:pt x="9997" y="6928"/>
                  <a:pt x="9947" y="6970"/>
                </a:cubicBezTo>
                <a:cubicBezTo>
                  <a:pt x="10015" y="6962"/>
                  <a:pt x="10076" y="6945"/>
                  <a:pt x="10145" y="6945"/>
                </a:cubicBezTo>
              </a:path>
              <a:path w="5557" h="720">
                <a:moveTo>
                  <a:pt x="8210" y="7094"/>
                </a:moveTo>
                <a:cubicBezTo>
                  <a:pt x="8266" y="7101"/>
                  <a:pt x="8256" y="7100"/>
                  <a:pt x="8310" y="7119"/>
                </a:cubicBezTo>
                <a:cubicBezTo>
                  <a:pt x="8412" y="7156"/>
                  <a:pt x="8448" y="7133"/>
                  <a:pt x="8558" y="7119"/>
                </a:cubicBezTo>
                <a:cubicBezTo>
                  <a:pt x="8620" y="7111"/>
                  <a:pt x="8696" y="7110"/>
                  <a:pt x="8756" y="7094"/>
                </a:cubicBezTo>
                <a:cubicBezTo>
                  <a:pt x="8817" y="7077"/>
                  <a:pt x="8871" y="7043"/>
                  <a:pt x="8930" y="7020"/>
                </a:cubicBezTo>
                <a:cubicBezTo>
                  <a:pt x="8993" y="6995"/>
                  <a:pt x="9071" y="6981"/>
                  <a:pt x="9128" y="6945"/>
                </a:cubicBezTo>
                <a:cubicBezTo>
                  <a:pt x="9139" y="6938"/>
                  <a:pt x="9165" y="6882"/>
                  <a:pt x="9178" y="6871"/>
                </a:cubicBezTo>
                <a:cubicBezTo>
                  <a:pt x="9231" y="6825"/>
                  <a:pt x="9274" y="6816"/>
                  <a:pt x="9302" y="6747"/>
                </a:cubicBezTo>
                <a:cubicBezTo>
                  <a:pt x="9339" y="6656"/>
                  <a:pt x="9339" y="6648"/>
                  <a:pt x="9277" y="6598"/>
                </a:cubicBezTo>
                <a:cubicBezTo>
                  <a:pt x="9225" y="6556"/>
                  <a:pt x="9140" y="6521"/>
                  <a:pt x="9079" y="6499"/>
                </a:cubicBezTo>
                <a:cubicBezTo>
                  <a:pt x="8981" y="6464"/>
                  <a:pt x="8883" y="6474"/>
                  <a:pt x="8781" y="6474"/>
                </a:cubicBezTo>
                <a:cubicBezTo>
                  <a:pt x="8675" y="6474"/>
                  <a:pt x="8581" y="6466"/>
                  <a:pt x="8483" y="6499"/>
                </a:cubicBezTo>
                <a:cubicBezTo>
                  <a:pt x="8433" y="6516"/>
                  <a:pt x="8395" y="6565"/>
                  <a:pt x="8334" y="6623"/>
                </a:cubicBezTo>
                <a:cubicBezTo>
                  <a:pt x="8285" y="6669"/>
                  <a:pt x="8248" y="6735"/>
                  <a:pt x="8235" y="6796"/>
                </a:cubicBezTo>
                <a:cubicBezTo>
                  <a:pt x="8227" y="6836"/>
                  <a:pt x="8248" y="6930"/>
                  <a:pt x="8260" y="6970"/>
                </a:cubicBezTo>
                <a:cubicBezTo>
                  <a:pt x="8271" y="7007"/>
                  <a:pt x="8272" y="7085"/>
                  <a:pt x="8285" y="7119"/>
                </a:cubicBezTo>
                <a:cubicBezTo>
                  <a:pt x="8308" y="7178"/>
                  <a:pt x="8432" y="7197"/>
                  <a:pt x="8483" y="7193"/>
                </a:cubicBezTo>
                <a:cubicBezTo>
                  <a:pt x="8557" y="7175"/>
                  <a:pt x="8564" y="7167"/>
                  <a:pt x="8607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97320" y="2170080"/>
            <a:ext cx="9864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4461" y="6176"/>
                </a:moveTo>
                <a:cubicBezTo>
                  <a:pt x="14558" y="6146"/>
                  <a:pt x="14400" y="6262"/>
                  <a:pt x="14436" y="6325"/>
                </a:cubicBezTo>
                <a:cubicBezTo>
                  <a:pt x="14477" y="6396"/>
                  <a:pt x="14608" y="6337"/>
                  <a:pt x="14660" y="6325"/>
                </a:cubicBezTo>
              </a:path>
              <a:path w="274" h="497">
                <a:moveTo>
                  <a:pt x="14709" y="6028"/>
                </a:moveTo>
                <a:cubicBezTo>
                  <a:pt x="14668" y="6149"/>
                  <a:pt x="14673" y="6334"/>
                  <a:pt x="14660" y="6474"/>
                </a:cubicBezTo>
                <a:cubicBezTo>
                  <a:pt x="14660" y="6519"/>
                  <a:pt x="14656" y="6539"/>
                  <a:pt x="14684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4080" y="3224160"/>
            <a:ext cx="2687760" cy="803160"/>
          </a:xfrm>
          <a:custGeom>
            <a:avLst/>
            <a:gdLst/>
            <a:ahLst/>
            <a:rect l="l" t="t" r="r" b="b"/>
            <a:pathLst>
              <a:path w="7467" h="2234">
                <a:moveTo>
                  <a:pt x="10344" y="8979"/>
                </a:moveTo>
                <a:cubicBezTo>
                  <a:pt x="10360" y="8971"/>
                  <a:pt x="10377" y="8962"/>
                  <a:pt x="10393" y="8954"/>
                </a:cubicBezTo>
              </a:path>
              <a:path w="7467" h="2234">
                <a:moveTo>
                  <a:pt x="3026" y="9922"/>
                </a:moveTo>
                <a:cubicBezTo>
                  <a:pt x="2965" y="10024"/>
                  <a:pt x="2932" y="10026"/>
                  <a:pt x="2927" y="10170"/>
                </a:cubicBezTo>
                <a:cubicBezTo>
                  <a:pt x="2927" y="10183"/>
                  <a:pt x="2925" y="10314"/>
                  <a:pt x="2952" y="10319"/>
                </a:cubicBezTo>
                <a:cubicBezTo>
                  <a:pt x="3086" y="10345"/>
                  <a:pt x="3173" y="10322"/>
                  <a:pt x="3249" y="10220"/>
                </a:cubicBezTo>
                <a:cubicBezTo>
                  <a:pt x="3235" y="10163"/>
                  <a:pt x="3186" y="10153"/>
                  <a:pt x="3125" y="10170"/>
                </a:cubicBezTo>
                <a:cubicBezTo>
                  <a:pt x="3057" y="10189"/>
                  <a:pt x="3076" y="10214"/>
                  <a:pt x="3076" y="10269"/>
                </a:cubicBezTo>
              </a:path>
              <a:path w="7467" h="2234">
                <a:moveTo>
                  <a:pt x="3373" y="10046"/>
                </a:moveTo>
                <a:lnTo>
                  <a:pt x="3373" y="10046"/>
                </a:lnTo>
                <a:lnTo>
                  <a:pt x="3373" y="10046"/>
                </a:lnTo>
              </a:path>
              <a:path w="7467" h="2234">
                <a:moveTo>
                  <a:pt x="3373" y="10046"/>
                </a:moveTo>
                <a:lnTo>
                  <a:pt x="3373" y="10046"/>
                </a:lnTo>
              </a:path>
              <a:path w="7467" h="2234">
                <a:moveTo>
                  <a:pt x="3696" y="9971"/>
                </a:moveTo>
                <a:cubicBezTo>
                  <a:pt x="3683" y="10024"/>
                  <a:pt x="3633" y="10138"/>
                  <a:pt x="3646" y="10195"/>
                </a:cubicBezTo>
                <a:cubicBezTo>
                  <a:pt x="3673" y="10312"/>
                  <a:pt x="3861" y="10328"/>
                  <a:pt x="3944" y="10269"/>
                </a:cubicBezTo>
                <a:cubicBezTo>
                  <a:pt x="3952" y="10253"/>
                  <a:pt x="3961" y="10236"/>
                  <a:pt x="3969" y="10220"/>
                </a:cubicBezTo>
                <a:cubicBezTo>
                  <a:pt x="3932" y="10190"/>
                  <a:pt x="3858" y="10127"/>
                  <a:pt x="3820" y="10195"/>
                </a:cubicBezTo>
                <a:cubicBezTo>
                  <a:pt x="3800" y="10255"/>
                  <a:pt x="3781" y="10270"/>
                  <a:pt x="3820" y="10294"/>
                </a:cubicBezTo>
              </a:path>
              <a:path w="7467" h="2234">
                <a:moveTo>
                  <a:pt x="4242" y="10319"/>
                </a:moveTo>
                <a:cubicBezTo>
                  <a:pt x="4242" y="10347"/>
                  <a:pt x="4244" y="10357"/>
                  <a:pt x="4266" y="10368"/>
                </a:cubicBezTo>
              </a:path>
              <a:path w="7467" h="2234">
                <a:moveTo>
                  <a:pt x="4564" y="10244"/>
                </a:moveTo>
                <a:lnTo>
                  <a:pt x="4564" y="10244"/>
                </a:lnTo>
              </a:path>
              <a:path w="7467" h="2234">
                <a:moveTo>
                  <a:pt x="6697" y="9947"/>
                </a:moveTo>
                <a:cubicBezTo>
                  <a:pt x="6710" y="10052"/>
                  <a:pt x="6717" y="10061"/>
                  <a:pt x="6821" y="10071"/>
                </a:cubicBezTo>
              </a:path>
              <a:path w="7467" h="2234">
                <a:moveTo>
                  <a:pt x="6821" y="10071"/>
                </a:moveTo>
                <a:lnTo>
                  <a:pt x="6821" y="10071"/>
                </a:lnTo>
              </a:path>
              <a:path w="7467" h="2234">
                <a:moveTo>
                  <a:pt x="7045" y="10319"/>
                </a:moveTo>
                <a:lnTo>
                  <a:pt x="7045" y="10319"/>
                </a:lnTo>
              </a:path>
              <a:path w="7467" h="2234">
                <a:moveTo>
                  <a:pt x="3200" y="10641"/>
                </a:moveTo>
                <a:cubicBezTo>
                  <a:pt x="3284" y="10599"/>
                  <a:pt x="3010" y="10700"/>
                  <a:pt x="2977" y="10716"/>
                </a:cubicBezTo>
                <a:cubicBezTo>
                  <a:pt x="2999" y="10738"/>
                  <a:pt x="3237" y="10819"/>
                  <a:pt x="3225" y="10889"/>
                </a:cubicBezTo>
                <a:cubicBezTo>
                  <a:pt x="3208" y="10906"/>
                  <a:pt x="3192" y="10922"/>
                  <a:pt x="3175" y="10939"/>
                </a:cubicBezTo>
                <a:cubicBezTo>
                  <a:pt x="3043" y="10920"/>
                  <a:pt x="3108" y="10842"/>
                  <a:pt x="3175" y="10765"/>
                </a:cubicBezTo>
                <a:cubicBezTo>
                  <a:pt x="3227" y="10705"/>
                  <a:pt x="3225" y="10715"/>
                  <a:pt x="3225" y="10641"/>
                </a:cubicBezTo>
              </a:path>
              <a:path w="7467" h="2234">
                <a:moveTo>
                  <a:pt x="3473" y="10344"/>
                </a:moveTo>
                <a:cubicBezTo>
                  <a:pt x="3473" y="10368"/>
                  <a:pt x="3473" y="10376"/>
                  <a:pt x="3448" y="10368"/>
                </a:cubicBezTo>
              </a:path>
              <a:path w="7467" h="2234">
                <a:moveTo>
                  <a:pt x="3349" y="10666"/>
                </a:moveTo>
                <a:lnTo>
                  <a:pt x="3349" y="10666"/>
                </a:lnTo>
              </a:path>
              <a:path w="7467" h="2234">
                <a:moveTo>
                  <a:pt x="3398" y="10939"/>
                </a:moveTo>
                <a:cubicBezTo>
                  <a:pt x="3406" y="10939"/>
                  <a:pt x="3415" y="10939"/>
                  <a:pt x="3423" y="10939"/>
                </a:cubicBezTo>
              </a:path>
              <a:path w="7467" h="2234">
                <a:moveTo>
                  <a:pt x="3423" y="10939"/>
                </a:moveTo>
                <a:lnTo>
                  <a:pt x="3423" y="10939"/>
                </a:lnTo>
              </a:path>
              <a:path w="7467" h="2234">
                <a:moveTo>
                  <a:pt x="4018" y="11088"/>
                </a:moveTo>
                <a:cubicBezTo>
                  <a:pt x="3999" y="11145"/>
                  <a:pt x="3991" y="11152"/>
                  <a:pt x="3994" y="11187"/>
                </a:cubicBezTo>
              </a:path>
              <a:path w="7467" h="2234">
                <a:moveTo>
                  <a:pt x="5730" y="10840"/>
                </a:moveTo>
                <a:lnTo>
                  <a:pt x="5730" y="1084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03200" y="3500280"/>
            <a:ext cx="1384560" cy="544680"/>
          </a:xfrm>
          <a:custGeom>
            <a:avLst/>
            <a:gdLst/>
            <a:ahLst/>
            <a:rect l="l" t="t" r="r" b="b"/>
            <a:pathLst>
              <a:path w="3846" h="1515">
                <a:moveTo>
                  <a:pt x="4539" y="10046"/>
                </a:moveTo>
                <a:cubicBezTo>
                  <a:pt x="4539" y="10120"/>
                  <a:pt x="4543" y="10176"/>
                  <a:pt x="4564" y="10244"/>
                </a:cubicBezTo>
              </a:path>
              <a:path w="3846" h="1515">
                <a:moveTo>
                  <a:pt x="4713" y="10071"/>
                </a:moveTo>
                <a:cubicBezTo>
                  <a:pt x="4754" y="10076"/>
                  <a:pt x="5014" y="10107"/>
                  <a:pt x="4961" y="10220"/>
                </a:cubicBezTo>
                <a:cubicBezTo>
                  <a:pt x="4927" y="10292"/>
                  <a:pt x="4790" y="10254"/>
                  <a:pt x="4738" y="10244"/>
                </a:cubicBezTo>
                <a:cubicBezTo>
                  <a:pt x="4824" y="10235"/>
                  <a:pt x="4865" y="10288"/>
                  <a:pt x="4961" y="10294"/>
                </a:cubicBezTo>
                <a:cubicBezTo>
                  <a:pt x="4978" y="10294"/>
                  <a:pt x="4994" y="10294"/>
                  <a:pt x="5011" y="10294"/>
                </a:cubicBezTo>
              </a:path>
              <a:path w="3846" h="1515">
                <a:moveTo>
                  <a:pt x="5457" y="9996"/>
                </a:moveTo>
                <a:cubicBezTo>
                  <a:pt x="5447" y="10064"/>
                  <a:pt x="5432" y="10126"/>
                  <a:pt x="5432" y="10195"/>
                </a:cubicBezTo>
              </a:path>
              <a:path w="3846" h="1515">
                <a:moveTo>
                  <a:pt x="5730" y="9996"/>
                </a:moveTo>
                <a:cubicBezTo>
                  <a:pt x="5673" y="9996"/>
                  <a:pt x="5654" y="9985"/>
                  <a:pt x="5631" y="10021"/>
                </a:cubicBezTo>
                <a:cubicBezTo>
                  <a:pt x="5674" y="10107"/>
                  <a:pt x="5842" y="10140"/>
                  <a:pt x="5879" y="10244"/>
                </a:cubicBezTo>
                <a:cubicBezTo>
                  <a:pt x="5871" y="10252"/>
                  <a:pt x="5862" y="10261"/>
                  <a:pt x="5854" y="10269"/>
                </a:cubicBezTo>
                <a:cubicBezTo>
                  <a:pt x="5722" y="10237"/>
                  <a:pt x="5745" y="10194"/>
                  <a:pt x="5779" y="10096"/>
                </a:cubicBezTo>
                <a:cubicBezTo>
                  <a:pt x="5779" y="10071"/>
                  <a:pt x="5779" y="10063"/>
                  <a:pt x="5804" y="10071"/>
                </a:cubicBezTo>
              </a:path>
              <a:path w="3846" h="1515">
                <a:moveTo>
                  <a:pt x="6052" y="10294"/>
                </a:moveTo>
                <a:cubicBezTo>
                  <a:pt x="6052" y="10319"/>
                  <a:pt x="6052" y="10327"/>
                  <a:pt x="6052" y="10344"/>
                </a:cubicBezTo>
              </a:path>
              <a:path w="3846" h="1515">
                <a:moveTo>
                  <a:pt x="6276" y="9996"/>
                </a:moveTo>
                <a:cubicBezTo>
                  <a:pt x="6369" y="10005"/>
                  <a:pt x="6482" y="10015"/>
                  <a:pt x="6474" y="10145"/>
                </a:cubicBezTo>
                <a:cubicBezTo>
                  <a:pt x="6469" y="10218"/>
                  <a:pt x="6306" y="10163"/>
                  <a:pt x="6276" y="10145"/>
                </a:cubicBezTo>
                <a:cubicBezTo>
                  <a:pt x="6337" y="10145"/>
                  <a:pt x="6400" y="10198"/>
                  <a:pt x="6449" y="10195"/>
                </a:cubicBezTo>
                <a:cubicBezTo>
                  <a:pt x="6515" y="10162"/>
                  <a:pt x="6548" y="10145"/>
                  <a:pt x="6598" y="10120"/>
                </a:cubicBezTo>
              </a:path>
              <a:path w="3846" h="1515">
                <a:moveTo>
                  <a:pt x="6896" y="9947"/>
                </a:moveTo>
                <a:cubicBezTo>
                  <a:pt x="6887" y="10040"/>
                  <a:pt x="6871" y="10126"/>
                  <a:pt x="6871" y="10220"/>
                </a:cubicBezTo>
                <a:cubicBezTo>
                  <a:pt x="6871" y="10228"/>
                  <a:pt x="6871" y="10236"/>
                  <a:pt x="6871" y="10244"/>
                </a:cubicBezTo>
              </a:path>
              <a:path w="3846" h="1515">
                <a:moveTo>
                  <a:pt x="7020" y="10244"/>
                </a:moveTo>
                <a:cubicBezTo>
                  <a:pt x="7022" y="10258"/>
                  <a:pt x="7045" y="10382"/>
                  <a:pt x="7045" y="10319"/>
                </a:cubicBezTo>
              </a:path>
              <a:path w="3846" h="1515">
                <a:moveTo>
                  <a:pt x="7243" y="9922"/>
                </a:moveTo>
                <a:cubicBezTo>
                  <a:pt x="7283" y="9914"/>
                  <a:pt x="7378" y="9865"/>
                  <a:pt x="7417" y="9897"/>
                </a:cubicBezTo>
                <a:cubicBezTo>
                  <a:pt x="7459" y="9932"/>
                  <a:pt x="7328" y="9969"/>
                  <a:pt x="7317" y="9971"/>
                </a:cubicBezTo>
                <a:cubicBezTo>
                  <a:pt x="7407" y="9986"/>
                  <a:pt x="7424" y="9996"/>
                  <a:pt x="7466" y="10071"/>
                </a:cubicBezTo>
                <a:cubicBezTo>
                  <a:pt x="7362" y="10091"/>
                  <a:pt x="7317" y="10101"/>
                  <a:pt x="7218" y="10071"/>
                </a:cubicBezTo>
              </a:path>
              <a:path w="3846" h="1515">
                <a:moveTo>
                  <a:pt x="3721" y="10691"/>
                </a:moveTo>
                <a:cubicBezTo>
                  <a:pt x="3628" y="10719"/>
                  <a:pt x="3633" y="10692"/>
                  <a:pt x="3621" y="10765"/>
                </a:cubicBezTo>
                <a:cubicBezTo>
                  <a:pt x="3685" y="10822"/>
                  <a:pt x="3744" y="10874"/>
                  <a:pt x="3795" y="10939"/>
                </a:cubicBezTo>
                <a:cubicBezTo>
                  <a:pt x="3728" y="10996"/>
                  <a:pt x="3585" y="11029"/>
                  <a:pt x="3671" y="10864"/>
                </a:cubicBezTo>
                <a:cubicBezTo>
                  <a:pt x="3721" y="10769"/>
                  <a:pt x="3786" y="10765"/>
                  <a:pt x="3770" y="10691"/>
                </a:cubicBezTo>
              </a:path>
              <a:path w="3846" h="1515">
                <a:moveTo>
                  <a:pt x="4217" y="10790"/>
                </a:moveTo>
                <a:cubicBezTo>
                  <a:pt x="4217" y="10867"/>
                  <a:pt x="4237" y="10937"/>
                  <a:pt x="4242" y="11013"/>
                </a:cubicBezTo>
                <a:cubicBezTo>
                  <a:pt x="4242" y="11046"/>
                  <a:pt x="4242" y="11046"/>
                  <a:pt x="4242" y="10988"/>
                </a:cubicBezTo>
              </a:path>
              <a:path w="3846" h="1515">
                <a:moveTo>
                  <a:pt x="4415" y="10765"/>
                </a:moveTo>
                <a:cubicBezTo>
                  <a:pt x="4393" y="10860"/>
                  <a:pt x="4347" y="10990"/>
                  <a:pt x="4465" y="11038"/>
                </a:cubicBezTo>
                <a:cubicBezTo>
                  <a:pt x="4598" y="11092"/>
                  <a:pt x="4670" y="11046"/>
                  <a:pt x="4738" y="10939"/>
                </a:cubicBezTo>
                <a:cubicBezTo>
                  <a:pt x="4649" y="10921"/>
                  <a:pt x="4618" y="10898"/>
                  <a:pt x="4589" y="11013"/>
                </a:cubicBezTo>
                <a:cubicBezTo>
                  <a:pt x="4589" y="11030"/>
                  <a:pt x="4589" y="11046"/>
                  <a:pt x="4589" y="11063"/>
                </a:cubicBezTo>
              </a:path>
              <a:path w="3846" h="1515">
                <a:moveTo>
                  <a:pt x="4936" y="11063"/>
                </a:moveTo>
                <a:cubicBezTo>
                  <a:pt x="4936" y="11131"/>
                  <a:pt x="4917" y="11147"/>
                  <a:pt x="4961" y="11162"/>
                </a:cubicBezTo>
              </a:path>
              <a:path w="3846" h="1515">
                <a:moveTo>
                  <a:pt x="5159" y="10765"/>
                </a:moveTo>
                <a:cubicBezTo>
                  <a:pt x="5231" y="10779"/>
                  <a:pt x="5444" y="10844"/>
                  <a:pt x="5333" y="10964"/>
                </a:cubicBezTo>
                <a:cubicBezTo>
                  <a:pt x="5274" y="10964"/>
                  <a:pt x="5248" y="10967"/>
                  <a:pt x="5209" y="10988"/>
                </a:cubicBezTo>
                <a:cubicBezTo>
                  <a:pt x="5229" y="10930"/>
                  <a:pt x="5283" y="10982"/>
                  <a:pt x="5333" y="10988"/>
                </a:cubicBezTo>
                <a:cubicBezTo>
                  <a:pt x="5358" y="10988"/>
                  <a:pt x="5382" y="10988"/>
                  <a:pt x="5407" y="10988"/>
                </a:cubicBezTo>
              </a:path>
              <a:path w="3846" h="1515">
                <a:moveTo>
                  <a:pt x="5507" y="10765"/>
                </a:moveTo>
                <a:cubicBezTo>
                  <a:pt x="5507" y="10818"/>
                  <a:pt x="5502" y="10871"/>
                  <a:pt x="5556" y="10889"/>
                </a:cubicBezTo>
                <a:cubicBezTo>
                  <a:pt x="5673" y="10928"/>
                  <a:pt x="5655" y="10913"/>
                  <a:pt x="5730" y="10840"/>
                </a:cubicBezTo>
              </a:path>
              <a:path w="3846" h="1515">
                <a:moveTo>
                  <a:pt x="5730" y="10740"/>
                </a:moveTo>
                <a:cubicBezTo>
                  <a:pt x="5677" y="10860"/>
                  <a:pt x="5655" y="10931"/>
                  <a:pt x="5655" y="11063"/>
                </a:cubicBezTo>
                <a:cubicBezTo>
                  <a:pt x="5655" y="11071"/>
                  <a:pt x="5655" y="11080"/>
                  <a:pt x="5655" y="11088"/>
                </a:cubicBezTo>
              </a:path>
              <a:path w="3846" h="1515">
                <a:moveTo>
                  <a:pt x="5680" y="11137"/>
                </a:moveTo>
                <a:cubicBezTo>
                  <a:pt x="5751" y="11144"/>
                  <a:pt x="5661" y="11161"/>
                  <a:pt x="5829" y="11112"/>
                </a:cubicBezTo>
                <a:cubicBezTo>
                  <a:pt x="5957" y="11075"/>
                  <a:pt x="6075" y="11028"/>
                  <a:pt x="6201" y="10988"/>
                </a:cubicBezTo>
                <a:cubicBezTo>
                  <a:pt x="6305" y="10955"/>
                  <a:pt x="6398" y="10887"/>
                  <a:pt x="6499" y="10864"/>
                </a:cubicBezTo>
                <a:cubicBezTo>
                  <a:pt x="6579" y="10846"/>
                  <a:pt x="6702" y="10848"/>
                  <a:pt x="6772" y="10790"/>
                </a:cubicBezTo>
                <a:cubicBezTo>
                  <a:pt x="6819" y="10751"/>
                  <a:pt x="6852" y="10687"/>
                  <a:pt x="6896" y="10641"/>
                </a:cubicBezTo>
                <a:cubicBezTo>
                  <a:pt x="6960" y="10574"/>
                  <a:pt x="6955" y="10508"/>
                  <a:pt x="6995" y="10443"/>
                </a:cubicBezTo>
                <a:cubicBezTo>
                  <a:pt x="7018" y="10406"/>
                  <a:pt x="7061" y="10383"/>
                  <a:pt x="7069" y="10344"/>
                </a:cubicBezTo>
                <a:cubicBezTo>
                  <a:pt x="7080" y="10292"/>
                  <a:pt x="7079" y="10246"/>
                  <a:pt x="7094" y="10195"/>
                </a:cubicBezTo>
                <a:cubicBezTo>
                  <a:pt x="7112" y="10135"/>
                  <a:pt x="7128" y="10121"/>
                  <a:pt x="7144" y="10071"/>
                </a:cubicBezTo>
                <a:cubicBezTo>
                  <a:pt x="7167" y="9997"/>
                  <a:pt x="7179" y="9952"/>
                  <a:pt x="7144" y="9872"/>
                </a:cubicBezTo>
                <a:cubicBezTo>
                  <a:pt x="7127" y="9832"/>
                  <a:pt x="7061" y="9758"/>
                  <a:pt x="7020" y="9748"/>
                </a:cubicBezTo>
                <a:cubicBezTo>
                  <a:pt x="6940" y="9728"/>
                  <a:pt x="6809" y="9713"/>
                  <a:pt x="6722" y="9723"/>
                </a:cubicBezTo>
                <a:cubicBezTo>
                  <a:pt x="6671" y="9729"/>
                  <a:pt x="6616" y="9757"/>
                  <a:pt x="6573" y="9773"/>
                </a:cubicBezTo>
                <a:cubicBezTo>
                  <a:pt x="6525" y="9790"/>
                  <a:pt x="6468" y="9809"/>
                  <a:pt x="6424" y="9823"/>
                </a:cubicBezTo>
                <a:cubicBezTo>
                  <a:pt x="6375" y="9839"/>
                  <a:pt x="6293" y="9871"/>
                  <a:pt x="6251" y="9897"/>
                </a:cubicBezTo>
                <a:cubicBezTo>
                  <a:pt x="6191" y="9934"/>
                  <a:pt x="6130" y="9974"/>
                  <a:pt x="6077" y="10021"/>
                </a:cubicBezTo>
                <a:cubicBezTo>
                  <a:pt x="6027" y="10066"/>
                  <a:pt x="5987" y="10103"/>
                  <a:pt x="5928" y="10145"/>
                </a:cubicBezTo>
                <a:cubicBezTo>
                  <a:pt x="5848" y="10201"/>
                  <a:pt x="5769" y="10232"/>
                  <a:pt x="5680" y="10269"/>
                </a:cubicBezTo>
                <a:cubicBezTo>
                  <a:pt x="5594" y="10305"/>
                  <a:pt x="5498" y="10355"/>
                  <a:pt x="5407" y="10368"/>
                </a:cubicBezTo>
                <a:cubicBezTo>
                  <a:pt x="5311" y="10382"/>
                  <a:pt x="5220" y="10366"/>
                  <a:pt x="5135" y="10393"/>
                </a:cubicBezTo>
                <a:cubicBezTo>
                  <a:pt x="5039" y="10424"/>
                  <a:pt x="5052" y="10460"/>
                  <a:pt x="5011" y="10542"/>
                </a:cubicBezTo>
                <a:cubicBezTo>
                  <a:pt x="4966" y="10631"/>
                  <a:pt x="4927" y="10728"/>
                  <a:pt x="4887" y="10815"/>
                </a:cubicBezTo>
                <a:cubicBezTo>
                  <a:pt x="4861" y="10871"/>
                  <a:pt x="4845" y="10905"/>
                  <a:pt x="4837" y="10964"/>
                </a:cubicBezTo>
                <a:cubicBezTo>
                  <a:pt x="4828" y="11032"/>
                  <a:pt x="4849" y="11060"/>
                  <a:pt x="4887" y="11112"/>
                </a:cubicBezTo>
                <a:cubicBezTo>
                  <a:pt x="4922" y="11160"/>
                  <a:pt x="4963" y="11192"/>
                  <a:pt x="5035" y="11212"/>
                </a:cubicBezTo>
                <a:cubicBezTo>
                  <a:pt x="5112" y="11233"/>
                  <a:pt x="5176" y="11237"/>
                  <a:pt x="5259" y="11237"/>
                </a:cubicBezTo>
                <a:cubicBezTo>
                  <a:pt x="5349" y="11237"/>
                  <a:pt x="5427" y="11219"/>
                  <a:pt x="5507" y="11212"/>
                </a:cubicBezTo>
                <a:cubicBezTo>
                  <a:pt x="5614" y="11203"/>
                  <a:pt x="5697" y="11173"/>
                  <a:pt x="5804" y="11162"/>
                </a:cubicBezTo>
                <a:cubicBezTo>
                  <a:pt x="5962" y="11146"/>
                  <a:pt x="5862" y="11167"/>
                  <a:pt x="5953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5080" y="312588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9327" y="8830"/>
                </a:moveTo>
                <a:cubicBezTo>
                  <a:pt x="9470" y="8760"/>
                  <a:pt x="9562" y="8841"/>
                  <a:pt x="9475" y="9029"/>
                </a:cubicBezTo>
                <a:cubicBezTo>
                  <a:pt x="9361" y="9275"/>
                  <a:pt x="9124" y="9262"/>
                  <a:pt x="8905" y="9227"/>
                </a:cubicBezTo>
                <a:cubicBezTo>
                  <a:pt x="9019" y="9115"/>
                  <a:pt x="9169" y="9065"/>
                  <a:pt x="9327" y="9153"/>
                </a:cubicBezTo>
                <a:cubicBezTo>
                  <a:pt x="9415" y="9202"/>
                  <a:pt x="9401" y="9228"/>
                  <a:pt x="9401" y="9302"/>
                </a:cubicBezTo>
              </a:path>
              <a:path w="1018" h="621">
                <a:moveTo>
                  <a:pt x="9649" y="8830"/>
                </a:moveTo>
                <a:cubicBezTo>
                  <a:pt x="9640" y="8885"/>
                  <a:pt x="9622" y="8928"/>
                  <a:pt x="9599" y="8979"/>
                </a:cubicBezTo>
                <a:cubicBezTo>
                  <a:pt x="9711" y="9001"/>
                  <a:pt x="9776" y="8994"/>
                  <a:pt x="9897" y="8979"/>
                </a:cubicBezTo>
                <a:cubicBezTo>
                  <a:pt x="9922" y="8979"/>
                  <a:pt x="9930" y="8979"/>
                  <a:pt x="9922" y="8954"/>
                </a:cubicBezTo>
              </a:path>
              <a:path w="1018" h="621">
                <a:moveTo>
                  <a:pt x="9897" y="8682"/>
                </a:moveTo>
                <a:cubicBezTo>
                  <a:pt x="9866" y="8864"/>
                  <a:pt x="9829" y="9043"/>
                  <a:pt x="9823" y="9227"/>
                </a:cubicBezTo>
                <a:cubicBezTo>
                  <a:pt x="9823" y="9244"/>
                  <a:pt x="9823" y="9260"/>
                  <a:pt x="9823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4120" y="3527280"/>
            <a:ext cx="4357800" cy="295560"/>
          </a:xfrm>
          <a:custGeom>
            <a:avLst/>
            <a:gdLst/>
            <a:ahLst/>
            <a:rect l="l" t="t" r="r" b="b"/>
            <a:pathLst>
              <a:path w="12106" h="819">
                <a:moveTo>
                  <a:pt x="7615" y="9897"/>
                </a:moveTo>
                <a:cubicBezTo>
                  <a:pt x="7567" y="9993"/>
                  <a:pt x="7550" y="10022"/>
                  <a:pt x="7565" y="10096"/>
                </a:cubicBezTo>
                <a:cubicBezTo>
                  <a:pt x="7689" y="10147"/>
                  <a:pt x="7797" y="10098"/>
                  <a:pt x="7813" y="9947"/>
                </a:cubicBezTo>
                <a:cubicBezTo>
                  <a:pt x="7773" y="9906"/>
                  <a:pt x="7743" y="9892"/>
                  <a:pt x="7689" y="9897"/>
                </a:cubicBezTo>
              </a:path>
              <a:path w="12106" h="819">
                <a:moveTo>
                  <a:pt x="7987" y="10244"/>
                </a:moveTo>
                <a:cubicBezTo>
                  <a:pt x="7995" y="10252"/>
                  <a:pt x="8004" y="10261"/>
                  <a:pt x="8012" y="10269"/>
                </a:cubicBezTo>
              </a:path>
              <a:path w="12106" h="819">
                <a:moveTo>
                  <a:pt x="9178" y="10195"/>
                </a:moveTo>
                <a:lnTo>
                  <a:pt x="9178" y="10195"/>
                </a:lnTo>
                <a:lnTo>
                  <a:pt x="9178" y="10195"/>
                </a:lnTo>
              </a:path>
              <a:path w="12106" h="819">
                <a:moveTo>
                  <a:pt x="9178" y="10195"/>
                </a:moveTo>
                <a:lnTo>
                  <a:pt x="9178" y="10195"/>
                </a:lnTo>
              </a:path>
              <a:path w="12106" h="819">
                <a:moveTo>
                  <a:pt x="9550" y="9947"/>
                </a:moveTo>
                <a:cubicBezTo>
                  <a:pt x="9532" y="10005"/>
                  <a:pt x="9460" y="10123"/>
                  <a:pt x="9525" y="10145"/>
                </a:cubicBezTo>
              </a:path>
              <a:path w="12106" h="819">
                <a:moveTo>
                  <a:pt x="9525" y="10145"/>
                </a:moveTo>
                <a:lnTo>
                  <a:pt x="9525" y="10145"/>
                </a:lnTo>
              </a:path>
              <a:path w="12106" h="819">
                <a:moveTo>
                  <a:pt x="10319" y="10244"/>
                </a:moveTo>
                <a:lnTo>
                  <a:pt x="10319" y="10244"/>
                </a:lnTo>
              </a:path>
              <a:path w="12106" h="819">
                <a:moveTo>
                  <a:pt x="10691" y="10145"/>
                </a:moveTo>
                <a:lnTo>
                  <a:pt x="10691" y="10145"/>
                </a:lnTo>
              </a:path>
              <a:path w="12106" h="819">
                <a:moveTo>
                  <a:pt x="11559" y="9847"/>
                </a:moveTo>
                <a:lnTo>
                  <a:pt x="11559" y="9847"/>
                </a:lnTo>
              </a:path>
              <a:path w="12106" h="819">
                <a:moveTo>
                  <a:pt x="11881" y="9823"/>
                </a:moveTo>
                <a:cubicBezTo>
                  <a:pt x="11853" y="9938"/>
                  <a:pt x="11822" y="10052"/>
                  <a:pt x="11807" y="10170"/>
                </a:cubicBezTo>
              </a:path>
              <a:path w="12106" h="819">
                <a:moveTo>
                  <a:pt x="11807" y="10170"/>
                </a:moveTo>
                <a:lnTo>
                  <a:pt x="11807" y="10170"/>
                </a:lnTo>
              </a:path>
              <a:path w="12106" h="819">
                <a:moveTo>
                  <a:pt x="12650" y="9897"/>
                </a:moveTo>
                <a:cubicBezTo>
                  <a:pt x="12571" y="9962"/>
                  <a:pt x="12548" y="9974"/>
                  <a:pt x="12526" y="10071"/>
                </a:cubicBezTo>
                <a:cubicBezTo>
                  <a:pt x="12651" y="10105"/>
                  <a:pt x="12779" y="10127"/>
                  <a:pt x="12750" y="9947"/>
                </a:cubicBezTo>
                <a:cubicBezTo>
                  <a:pt x="12720" y="9917"/>
                  <a:pt x="12706" y="9906"/>
                  <a:pt x="12675" y="9897"/>
                </a:cubicBezTo>
              </a:path>
              <a:path w="12106" h="819">
                <a:moveTo>
                  <a:pt x="12675" y="9897"/>
                </a:moveTo>
                <a:lnTo>
                  <a:pt x="12675" y="9897"/>
                </a:lnTo>
              </a:path>
              <a:path w="12106" h="819">
                <a:moveTo>
                  <a:pt x="12849" y="10195"/>
                </a:moveTo>
                <a:cubicBezTo>
                  <a:pt x="12849" y="10203"/>
                  <a:pt x="12849" y="10212"/>
                  <a:pt x="12849" y="10220"/>
                </a:cubicBezTo>
              </a:path>
              <a:path w="12106" h="819">
                <a:moveTo>
                  <a:pt x="14808" y="10269"/>
                </a:moveTo>
                <a:cubicBezTo>
                  <a:pt x="14942" y="10364"/>
                  <a:pt x="14963" y="10458"/>
                  <a:pt x="14982" y="10616"/>
                </a:cubicBezTo>
              </a:path>
              <a:path w="12106" h="819">
                <a:moveTo>
                  <a:pt x="15627" y="10269"/>
                </a:moveTo>
                <a:lnTo>
                  <a:pt x="15627" y="10269"/>
                </a:lnTo>
              </a:path>
              <a:path w="12106" h="819">
                <a:moveTo>
                  <a:pt x="15776" y="10368"/>
                </a:moveTo>
                <a:lnTo>
                  <a:pt x="15776" y="10368"/>
                </a:lnTo>
                <a:lnTo>
                  <a:pt x="15776" y="10368"/>
                </a:lnTo>
              </a:path>
              <a:path w="12106" h="819">
                <a:moveTo>
                  <a:pt x="15776" y="10368"/>
                </a:moveTo>
                <a:lnTo>
                  <a:pt x="15776" y="10368"/>
                </a:lnTo>
              </a:path>
              <a:path w="12106" h="819">
                <a:moveTo>
                  <a:pt x="18951" y="10368"/>
                </a:moveTo>
                <a:lnTo>
                  <a:pt x="18951" y="10368"/>
                </a:lnTo>
              </a:path>
              <a:path w="12106" h="819">
                <a:moveTo>
                  <a:pt x="19273" y="9897"/>
                </a:moveTo>
                <a:cubicBezTo>
                  <a:pt x="19406" y="9863"/>
                  <a:pt x="19538" y="9833"/>
                  <a:pt x="19670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3537000"/>
            <a:ext cx="295560" cy="982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8186" y="9823"/>
                </a:moveTo>
                <a:cubicBezTo>
                  <a:pt x="8252" y="9823"/>
                  <a:pt x="8318" y="9823"/>
                  <a:pt x="8384" y="9823"/>
                </a:cubicBezTo>
                <a:cubicBezTo>
                  <a:pt x="8337" y="9856"/>
                  <a:pt x="8207" y="9892"/>
                  <a:pt x="8285" y="9922"/>
                </a:cubicBezTo>
                <a:cubicBezTo>
                  <a:pt x="8392" y="9964"/>
                  <a:pt x="8416" y="9975"/>
                  <a:pt x="8483" y="9996"/>
                </a:cubicBezTo>
                <a:cubicBezTo>
                  <a:pt x="8414" y="10083"/>
                  <a:pt x="8341" y="10086"/>
                  <a:pt x="8260" y="10021"/>
                </a:cubicBezTo>
              </a:path>
              <a:path w="819" h="274">
                <a:moveTo>
                  <a:pt x="8682" y="9847"/>
                </a:moveTo>
                <a:cubicBezTo>
                  <a:pt x="8682" y="9901"/>
                  <a:pt x="8660" y="10016"/>
                  <a:pt x="8731" y="10046"/>
                </a:cubicBezTo>
                <a:cubicBezTo>
                  <a:pt x="8850" y="10096"/>
                  <a:pt x="8911" y="10056"/>
                  <a:pt x="9004" y="9996"/>
                </a:cubicBezTo>
                <a:cubicBezTo>
                  <a:pt x="8895" y="9996"/>
                  <a:pt x="8907" y="9976"/>
                  <a:pt x="8880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75000" y="3544920"/>
            <a:ext cx="1090800" cy="152280"/>
          </a:xfrm>
          <a:custGeom>
            <a:avLst/>
            <a:gdLst/>
            <a:ahLst/>
            <a:rect l="l" t="t" r="r" b="b"/>
            <a:pathLst>
              <a:path w="3027" h="423">
                <a:moveTo>
                  <a:pt x="9376" y="9922"/>
                </a:moveTo>
                <a:cubicBezTo>
                  <a:pt x="9419" y="10021"/>
                  <a:pt x="9386" y="10033"/>
                  <a:pt x="9500" y="10021"/>
                </a:cubicBezTo>
              </a:path>
              <a:path w="3027" h="423">
                <a:moveTo>
                  <a:pt x="9699" y="9897"/>
                </a:moveTo>
                <a:cubicBezTo>
                  <a:pt x="9801" y="9907"/>
                  <a:pt x="9985" y="9901"/>
                  <a:pt x="10021" y="10021"/>
                </a:cubicBezTo>
                <a:cubicBezTo>
                  <a:pt x="10046" y="10105"/>
                  <a:pt x="9878" y="10093"/>
                  <a:pt x="9847" y="10096"/>
                </a:cubicBezTo>
                <a:cubicBezTo>
                  <a:pt x="9814" y="10096"/>
                  <a:pt x="9806" y="10087"/>
                  <a:pt x="9823" y="10046"/>
                </a:cubicBezTo>
                <a:cubicBezTo>
                  <a:pt x="9910" y="10054"/>
                  <a:pt x="9952" y="10066"/>
                  <a:pt x="10021" y="10120"/>
                </a:cubicBezTo>
              </a:path>
              <a:path w="3027" h="423">
                <a:moveTo>
                  <a:pt x="10269" y="10096"/>
                </a:moveTo>
                <a:cubicBezTo>
                  <a:pt x="10283" y="10152"/>
                  <a:pt x="10296" y="10221"/>
                  <a:pt x="10319" y="10244"/>
                </a:cubicBezTo>
              </a:path>
              <a:path w="3027" h="423">
                <a:moveTo>
                  <a:pt x="10418" y="9947"/>
                </a:moveTo>
                <a:cubicBezTo>
                  <a:pt x="10418" y="10030"/>
                  <a:pt x="10548" y="10051"/>
                  <a:pt x="10616" y="10021"/>
                </a:cubicBezTo>
                <a:cubicBezTo>
                  <a:pt x="10679" y="9959"/>
                  <a:pt x="10697" y="9949"/>
                  <a:pt x="10716" y="9897"/>
                </a:cubicBezTo>
              </a:path>
              <a:path w="3027" h="423">
                <a:moveTo>
                  <a:pt x="10691" y="9872"/>
                </a:moveTo>
                <a:cubicBezTo>
                  <a:pt x="10683" y="9900"/>
                  <a:pt x="10609" y="10167"/>
                  <a:pt x="10641" y="10170"/>
                </a:cubicBezTo>
                <a:cubicBezTo>
                  <a:pt x="10658" y="10162"/>
                  <a:pt x="10674" y="10153"/>
                  <a:pt x="10691" y="10145"/>
                </a:cubicBezTo>
              </a:path>
              <a:path w="3027" h="423">
                <a:moveTo>
                  <a:pt x="10964" y="9922"/>
                </a:moveTo>
                <a:cubicBezTo>
                  <a:pt x="10895" y="9927"/>
                  <a:pt x="10707" y="9938"/>
                  <a:pt x="10815" y="10071"/>
                </a:cubicBezTo>
                <a:cubicBezTo>
                  <a:pt x="10880" y="10114"/>
                  <a:pt x="10895" y="10125"/>
                  <a:pt x="10939" y="10145"/>
                </a:cubicBezTo>
                <a:cubicBezTo>
                  <a:pt x="10939" y="10153"/>
                  <a:pt x="10939" y="10162"/>
                  <a:pt x="10939" y="10170"/>
                </a:cubicBezTo>
                <a:cubicBezTo>
                  <a:pt x="10768" y="10136"/>
                  <a:pt x="10865" y="10069"/>
                  <a:pt x="10939" y="9971"/>
                </a:cubicBezTo>
                <a:cubicBezTo>
                  <a:pt x="10947" y="9955"/>
                  <a:pt x="10956" y="9938"/>
                  <a:pt x="10964" y="9922"/>
                </a:cubicBezTo>
              </a:path>
              <a:path w="3027" h="423">
                <a:moveTo>
                  <a:pt x="11088" y="10195"/>
                </a:moveTo>
                <a:cubicBezTo>
                  <a:pt x="11088" y="10220"/>
                  <a:pt x="11088" y="10228"/>
                  <a:pt x="11088" y="10244"/>
                </a:cubicBezTo>
              </a:path>
              <a:path w="3027" h="423">
                <a:moveTo>
                  <a:pt x="11361" y="9872"/>
                </a:moveTo>
                <a:cubicBezTo>
                  <a:pt x="11317" y="9894"/>
                  <a:pt x="11305" y="9897"/>
                  <a:pt x="11286" y="9922"/>
                </a:cubicBezTo>
                <a:cubicBezTo>
                  <a:pt x="11345" y="9981"/>
                  <a:pt x="11397" y="9982"/>
                  <a:pt x="11435" y="10071"/>
                </a:cubicBezTo>
                <a:cubicBezTo>
                  <a:pt x="11338" y="10120"/>
                  <a:pt x="11360" y="10095"/>
                  <a:pt x="11286" y="10021"/>
                </a:cubicBezTo>
              </a:path>
              <a:path w="3027" h="423">
                <a:moveTo>
                  <a:pt x="11286" y="9872"/>
                </a:moveTo>
                <a:cubicBezTo>
                  <a:pt x="11381" y="9854"/>
                  <a:pt x="11463" y="9847"/>
                  <a:pt x="11559" y="9847"/>
                </a:cubicBezTo>
              </a:path>
              <a:path w="3027" h="423">
                <a:moveTo>
                  <a:pt x="11633" y="9847"/>
                </a:moveTo>
                <a:cubicBezTo>
                  <a:pt x="11674" y="9969"/>
                  <a:pt x="11654" y="9996"/>
                  <a:pt x="11782" y="9996"/>
                </a:cubicBezTo>
              </a:path>
              <a:path w="3027" h="423">
                <a:moveTo>
                  <a:pt x="12005" y="10120"/>
                </a:moveTo>
                <a:cubicBezTo>
                  <a:pt x="11982" y="10173"/>
                  <a:pt x="11962" y="10223"/>
                  <a:pt x="11931" y="10269"/>
                </a:cubicBezTo>
              </a:path>
              <a:path w="3027" h="423">
                <a:moveTo>
                  <a:pt x="12204" y="9872"/>
                </a:moveTo>
                <a:cubicBezTo>
                  <a:pt x="12108" y="9908"/>
                  <a:pt x="12070" y="9983"/>
                  <a:pt x="12055" y="10096"/>
                </a:cubicBezTo>
                <a:cubicBezTo>
                  <a:pt x="12055" y="10104"/>
                  <a:pt x="12055" y="10112"/>
                  <a:pt x="12055" y="10120"/>
                </a:cubicBezTo>
                <a:cubicBezTo>
                  <a:pt x="12180" y="10114"/>
                  <a:pt x="12356" y="10123"/>
                  <a:pt x="12378" y="10021"/>
                </a:cubicBezTo>
                <a:cubicBezTo>
                  <a:pt x="12361" y="10024"/>
                  <a:pt x="12194" y="10115"/>
                  <a:pt x="12229" y="10120"/>
                </a:cubicBezTo>
                <a:cubicBezTo>
                  <a:pt x="12279" y="10120"/>
                  <a:pt x="12328" y="10120"/>
                  <a:pt x="1237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97280" y="352728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13097" y="9798"/>
                </a:moveTo>
                <a:cubicBezTo>
                  <a:pt x="13084" y="9840"/>
                  <a:pt x="12996" y="10066"/>
                  <a:pt x="13047" y="10096"/>
                </a:cubicBezTo>
                <a:cubicBezTo>
                  <a:pt x="13157" y="10162"/>
                  <a:pt x="13228" y="10082"/>
                  <a:pt x="13271" y="9996"/>
                </a:cubicBezTo>
                <a:cubicBezTo>
                  <a:pt x="13130" y="10009"/>
                  <a:pt x="13088" y="10057"/>
                  <a:pt x="13246" y="10096"/>
                </a:cubicBezTo>
              </a:path>
              <a:path w="795" h="323">
                <a:moveTo>
                  <a:pt x="13519" y="9823"/>
                </a:moveTo>
                <a:cubicBezTo>
                  <a:pt x="13513" y="9860"/>
                  <a:pt x="13456" y="10039"/>
                  <a:pt x="13494" y="10071"/>
                </a:cubicBezTo>
                <a:cubicBezTo>
                  <a:pt x="13578" y="10143"/>
                  <a:pt x="13810" y="10033"/>
                  <a:pt x="13841" y="9971"/>
                </a:cubicBezTo>
                <a:cubicBezTo>
                  <a:pt x="13841" y="9963"/>
                  <a:pt x="13841" y="9955"/>
                  <a:pt x="13841" y="9947"/>
                </a:cubicBezTo>
                <a:cubicBezTo>
                  <a:pt x="13766" y="9958"/>
                  <a:pt x="13589" y="9974"/>
                  <a:pt x="13618" y="10096"/>
                </a:cubicBezTo>
                <a:cubicBezTo>
                  <a:pt x="13626" y="10104"/>
                  <a:pt x="13635" y="10112"/>
                  <a:pt x="13643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56160" y="3670200"/>
            <a:ext cx="12564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5280" y="10195"/>
                </a:moveTo>
                <a:cubicBezTo>
                  <a:pt x="15247" y="10195"/>
                  <a:pt x="15166" y="10175"/>
                  <a:pt x="15156" y="10220"/>
                </a:cubicBezTo>
                <a:cubicBezTo>
                  <a:pt x="15156" y="10304"/>
                  <a:pt x="15149" y="10324"/>
                  <a:pt x="15180" y="10368"/>
                </a:cubicBezTo>
                <a:cubicBezTo>
                  <a:pt x="15326" y="10305"/>
                  <a:pt x="15375" y="10270"/>
                  <a:pt x="15503" y="10368"/>
                </a:cubicBezTo>
                <a:cubicBezTo>
                  <a:pt x="15463" y="10488"/>
                  <a:pt x="15309" y="10597"/>
                  <a:pt x="15180" y="10468"/>
                </a:cubicBezTo>
                <a:cubicBezTo>
                  <a:pt x="15180" y="10443"/>
                  <a:pt x="15180" y="10418"/>
                  <a:pt x="1518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23000" y="3606840"/>
            <a:ext cx="365040" cy="162000"/>
          </a:xfrm>
          <a:custGeom>
            <a:avLst/>
            <a:gdLst/>
            <a:ahLst/>
            <a:rect l="l" t="t" r="r" b="b"/>
            <a:pathLst>
              <a:path w="1018" h="448">
                <a:moveTo>
                  <a:pt x="16173" y="10120"/>
                </a:moveTo>
                <a:cubicBezTo>
                  <a:pt x="16258" y="10206"/>
                  <a:pt x="16225" y="10420"/>
                  <a:pt x="16346" y="10418"/>
                </a:cubicBezTo>
                <a:cubicBezTo>
                  <a:pt x="16346" y="10401"/>
                  <a:pt x="16346" y="10385"/>
                  <a:pt x="16346" y="10368"/>
                </a:cubicBezTo>
              </a:path>
              <a:path w="1018" h="448">
                <a:moveTo>
                  <a:pt x="16718" y="10021"/>
                </a:moveTo>
                <a:cubicBezTo>
                  <a:pt x="16644" y="10036"/>
                  <a:pt x="16602" y="10070"/>
                  <a:pt x="16545" y="10120"/>
                </a:cubicBezTo>
                <a:cubicBezTo>
                  <a:pt x="16706" y="10120"/>
                  <a:pt x="16812" y="10097"/>
                  <a:pt x="16917" y="10220"/>
                </a:cubicBezTo>
                <a:cubicBezTo>
                  <a:pt x="17040" y="10364"/>
                  <a:pt x="16707" y="10287"/>
                  <a:pt x="16669" y="10269"/>
                </a:cubicBezTo>
              </a:path>
              <a:path w="1018" h="448">
                <a:moveTo>
                  <a:pt x="17190" y="10344"/>
                </a:moveTo>
                <a:cubicBezTo>
                  <a:pt x="17190" y="10361"/>
                  <a:pt x="17190" y="10589"/>
                  <a:pt x="1719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3960" y="3589200"/>
            <a:ext cx="714240" cy="162000"/>
          </a:xfrm>
          <a:custGeom>
            <a:avLst/>
            <a:gdLst/>
            <a:ahLst/>
            <a:rect l="l" t="t" r="r" b="b"/>
            <a:pathLst>
              <a:path w="1985" h="448">
                <a:moveTo>
                  <a:pt x="17512" y="10096"/>
                </a:moveTo>
                <a:cubicBezTo>
                  <a:pt x="17520" y="10090"/>
                  <a:pt x="17718" y="10023"/>
                  <a:pt x="17711" y="10120"/>
                </a:cubicBezTo>
                <a:cubicBezTo>
                  <a:pt x="17683" y="10177"/>
                  <a:pt x="17667" y="10196"/>
                  <a:pt x="17611" y="10195"/>
                </a:cubicBezTo>
                <a:cubicBezTo>
                  <a:pt x="17619" y="10187"/>
                  <a:pt x="17628" y="10178"/>
                  <a:pt x="17636" y="10170"/>
                </a:cubicBezTo>
                <a:cubicBezTo>
                  <a:pt x="17749" y="10210"/>
                  <a:pt x="17919" y="10325"/>
                  <a:pt x="17686" y="10393"/>
                </a:cubicBezTo>
                <a:cubicBezTo>
                  <a:pt x="17608" y="10393"/>
                  <a:pt x="17590" y="10408"/>
                  <a:pt x="17562" y="10368"/>
                </a:cubicBezTo>
              </a:path>
              <a:path w="1985" h="448">
                <a:moveTo>
                  <a:pt x="18058" y="9996"/>
                </a:moveTo>
                <a:cubicBezTo>
                  <a:pt x="17950" y="10171"/>
                  <a:pt x="17944" y="10223"/>
                  <a:pt x="18058" y="10393"/>
                </a:cubicBezTo>
                <a:cubicBezTo>
                  <a:pt x="18192" y="10319"/>
                  <a:pt x="18395" y="10157"/>
                  <a:pt x="18132" y="10046"/>
                </a:cubicBezTo>
                <a:cubicBezTo>
                  <a:pt x="18054" y="10046"/>
                  <a:pt x="18036" y="10031"/>
                  <a:pt x="18008" y="10071"/>
                </a:cubicBezTo>
              </a:path>
              <a:path w="1985" h="448">
                <a:moveTo>
                  <a:pt x="18430" y="10319"/>
                </a:moveTo>
                <a:cubicBezTo>
                  <a:pt x="18454" y="10359"/>
                  <a:pt x="18479" y="10440"/>
                  <a:pt x="18479" y="10393"/>
                </a:cubicBezTo>
              </a:path>
              <a:path w="1985" h="448">
                <a:moveTo>
                  <a:pt x="18529" y="9971"/>
                </a:moveTo>
                <a:cubicBezTo>
                  <a:pt x="18529" y="10076"/>
                  <a:pt x="18565" y="10106"/>
                  <a:pt x="18678" y="10120"/>
                </a:cubicBezTo>
                <a:cubicBezTo>
                  <a:pt x="18797" y="10120"/>
                  <a:pt x="18835" y="10122"/>
                  <a:pt x="18901" y="10071"/>
                </a:cubicBezTo>
              </a:path>
              <a:path w="1985" h="448">
                <a:moveTo>
                  <a:pt x="18852" y="9971"/>
                </a:moveTo>
                <a:cubicBezTo>
                  <a:pt x="18883" y="10105"/>
                  <a:pt x="18904" y="10241"/>
                  <a:pt x="18951" y="10368"/>
                </a:cubicBezTo>
              </a:path>
              <a:path w="1985" h="448">
                <a:moveTo>
                  <a:pt x="19248" y="9971"/>
                </a:moveTo>
                <a:cubicBezTo>
                  <a:pt x="19272" y="10092"/>
                  <a:pt x="19392" y="10111"/>
                  <a:pt x="19472" y="10195"/>
                </a:cubicBezTo>
                <a:cubicBezTo>
                  <a:pt x="19596" y="10325"/>
                  <a:pt x="19235" y="10236"/>
                  <a:pt x="19199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6240" y="3963960"/>
            <a:ext cx="241560" cy="13500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14784" y="11112"/>
                </a:moveTo>
                <a:cubicBezTo>
                  <a:pt x="14869" y="11064"/>
                  <a:pt x="14892" y="11074"/>
                  <a:pt x="14982" y="11088"/>
                </a:cubicBezTo>
                <a:cubicBezTo>
                  <a:pt x="14946" y="11295"/>
                  <a:pt x="14896" y="11343"/>
                  <a:pt x="14684" y="11385"/>
                </a:cubicBezTo>
                <a:cubicBezTo>
                  <a:pt x="14728" y="11269"/>
                  <a:pt x="14800" y="11257"/>
                  <a:pt x="14908" y="11336"/>
                </a:cubicBezTo>
                <a:cubicBezTo>
                  <a:pt x="14947" y="11375"/>
                  <a:pt x="14948" y="11391"/>
                  <a:pt x="14982" y="11385"/>
                </a:cubicBezTo>
              </a:path>
              <a:path w="671" h="373">
                <a:moveTo>
                  <a:pt x="15106" y="11063"/>
                </a:moveTo>
                <a:cubicBezTo>
                  <a:pt x="15087" y="11252"/>
                  <a:pt x="15069" y="11245"/>
                  <a:pt x="15205" y="11361"/>
                </a:cubicBezTo>
                <a:cubicBezTo>
                  <a:pt x="15321" y="11270"/>
                  <a:pt x="15466" y="11092"/>
                  <a:pt x="15230" y="11013"/>
                </a:cubicBezTo>
                <a:cubicBezTo>
                  <a:pt x="15156" y="11013"/>
                  <a:pt x="15147" y="11013"/>
                  <a:pt x="15106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86280" y="3911760"/>
            <a:ext cx="312840" cy="142560"/>
          </a:xfrm>
          <a:custGeom>
            <a:avLst/>
            <a:gdLst/>
            <a:ahLst/>
            <a:rect l="l" t="t" r="r" b="b"/>
            <a:pathLst>
              <a:path w="870" h="398">
                <a:moveTo>
                  <a:pt x="16123" y="10988"/>
                </a:moveTo>
                <a:cubicBezTo>
                  <a:pt x="16252" y="10879"/>
                  <a:pt x="16346" y="10968"/>
                  <a:pt x="16470" y="11063"/>
                </a:cubicBezTo>
                <a:cubicBezTo>
                  <a:pt x="16404" y="11302"/>
                  <a:pt x="16311" y="11279"/>
                  <a:pt x="16073" y="11212"/>
                </a:cubicBezTo>
                <a:cubicBezTo>
                  <a:pt x="16186" y="11099"/>
                  <a:pt x="16278" y="11148"/>
                  <a:pt x="16421" y="11212"/>
                </a:cubicBezTo>
                <a:cubicBezTo>
                  <a:pt x="16470" y="11237"/>
                  <a:pt x="16487" y="11245"/>
                  <a:pt x="16520" y="11212"/>
                </a:cubicBezTo>
              </a:path>
              <a:path w="870" h="398">
                <a:moveTo>
                  <a:pt x="16644" y="10864"/>
                </a:moveTo>
                <a:cubicBezTo>
                  <a:pt x="16611" y="10955"/>
                  <a:pt x="16541" y="11198"/>
                  <a:pt x="16743" y="11162"/>
                </a:cubicBezTo>
                <a:cubicBezTo>
                  <a:pt x="16892" y="11135"/>
                  <a:pt x="17050" y="10922"/>
                  <a:pt x="16842" y="10864"/>
                </a:cubicBezTo>
                <a:cubicBezTo>
                  <a:pt x="16784" y="10864"/>
                  <a:pt x="16760" y="10848"/>
                  <a:pt x="16768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392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4982"/>
                </a:moveTo>
                <a:lnTo>
                  <a:pt x="3497" y="149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8280" y="54561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3522" y="15156"/>
                </a:moveTo>
                <a:cubicBezTo>
                  <a:pt x="3522" y="15164"/>
                  <a:pt x="3522" y="15172"/>
                  <a:pt x="3522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8280" y="5464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522" y="15180"/>
                </a:moveTo>
                <a:lnTo>
                  <a:pt x="3522" y="151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7760" y="2133720"/>
            <a:ext cx="20628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4266" y="6821"/>
                </a:moveTo>
                <a:lnTo>
                  <a:pt x="4266" y="6821"/>
                </a:lnTo>
              </a:path>
              <a:path w="571" h="1068">
                <a:moveTo>
                  <a:pt x="4217" y="6995"/>
                </a:moveTo>
                <a:cubicBezTo>
                  <a:pt x="4217" y="6987"/>
                  <a:pt x="4217" y="6978"/>
                  <a:pt x="4217" y="6970"/>
                </a:cubicBezTo>
              </a:path>
              <a:path w="571" h="1068">
                <a:moveTo>
                  <a:pt x="4217" y="6970"/>
                </a:moveTo>
                <a:lnTo>
                  <a:pt x="4217" y="6970"/>
                </a:lnTo>
              </a:path>
              <a:path w="571" h="1068">
                <a:moveTo>
                  <a:pt x="4291" y="6052"/>
                </a:moveTo>
                <a:lnTo>
                  <a:pt x="4291" y="6052"/>
                </a:lnTo>
              </a:path>
              <a:path w="571" h="1068">
                <a:moveTo>
                  <a:pt x="4266" y="6276"/>
                </a:moveTo>
                <a:lnTo>
                  <a:pt x="4266" y="6276"/>
                </a:lnTo>
                <a:lnTo>
                  <a:pt x="4266" y="6276"/>
                </a:lnTo>
              </a:path>
              <a:path w="571" h="1068">
                <a:moveTo>
                  <a:pt x="4266" y="6276"/>
                </a:moveTo>
                <a:lnTo>
                  <a:pt x="4266" y="6276"/>
                </a:lnTo>
              </a:path>
              <a:path w="571" h="1068">
                <a:moveTo>
                  <a:pt x="4787" y="5953"/>
                </a:moveTo>
                <a:lnTo>
                  <a:pt x="4787" y="5953"/>
                </a:lnTo>
                <a:lnTo>
                  <a:pt x="4787" y="5953"/>
                </a:lnTo>
                <a:lnTo>
                  <a:pt x="4787" y="5953"/>
                </a:lnTo>
              </a:path>
              <a:path w="571" h="1068">
                <a:moveTo>
                  <a:pt x="4787" y="5928"/>
                </a:moveTo>
                <a:lnTo>
                  <a:pt x="4787" y="5928"/>
                </a:lnTo>
              </a:path>
              <a:path w="571" h="1068">
                <a:moveTo>
                  <a:pt x="4787" y="5928"/>
                </a:moveTo>
                <a:lnTo>
                  <a:pt x="4787" y="59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4880" y="2187720"/>
            <a:ext cx="3706920" cy="1554120"/>
          </a:xfrm>
          <a:custGeom>
            <a:avLst/>
            <a:gdLst/>
            <a:ahLst/>
            <a:rect l="l" t="t" r="r" b="b"/>
            <a:pathLst>
              <a:path w="10295" h="4317">
                <a:moveTo>
                  <a:pt x="14684" y="6499"/>
                </a:moveTo>
                <a:lnTo>
                  <a:pt x="14684" y="6499"/>
                </a:lnTo>
              </a:path>
              <a:path w="10295" h="4317">
                <a:moveTo>
                  <a:pt x="14883" y="6176"/>
                </a:moveTo>
                <a:lnTo>
                  <a:pt x="14883" y="6176"/>
                </a:lnTo>
              </a:path>
              <a:path w="10295" h="4317">
                <a:moveTo>
                  <a:pt x="14982" y="6300"/>
                </a:moveTo>
                <a:cubicBezTo>
                  <a:pt x="14990" y="6300"/>
                  <a:pt x="14999" y="6300"/>
                  <a:pt x="15007" y="6300"/>
                </a:cubicBezTo>
              </a:path>
              <a:path w="10295" h="4317">
                <a:moveTo>
                  <a:pt x="15007" y="6300"/>
                </a:moveTo>
                <a:lnTo>
                  <a:pt x="15007" y="6300"/>
                </a:lnTo>
              </a:path>
              <a:path w="10295" h="4317">
                <a:moveTo>
                  <a:pt x="15255" y="6102"/>
                </a:moveTo>
                <a:cubicBezTo>
                  <a:pt x="15268" y="6240"/>
                  <a:pt x="15265" y="6233"/>
                  <a:pt x="15404" y="6201"/>
                </a:cubicBezTo>
              </a:path>
              <a:path w="10295" h="4317">
                <a:moveTo>
                  <a:pt x="15478" y="6077"/>
                </a:moveTo>
                <a:cubicBezTo>
                  <a:pt x="15465" y="6222"/>
                  <a:pt x="15463" y="6286"/>
                  <a:pt x="15503" y="6424"/>
                </a:cubicBezTo>
              </a:path>
              <a:path w="10295" h="4317">
                <a:moveTo>
                  <a:pt x="15503" y="6424"/>
                </a:moveTo>
                <a:lnTo>
                  <a:pt x="15503" y="6424"/>
                </a:lnTo>
              </a:path>
              <a:path w="10295" h="4317">
                <a:moveTo>
                  <a:pt x="5209" y="10294"/>
                </a:moveTo>
                <a:cubicBezTo>
                  <a:pt x="5228" y="10351"/>
                  <a:pt x="5237" y="10358"/>
                  <a:pt x="5234" y="10393"/>
                </a:cubicBezTo>
              </a:path>
              <a:path w="10295" h="4317">
                <a:moveTo>
                  <a:pt x="5234" y="10393"/>
                </a:moveTo>
                <a:lnTo>
                  <a:pt x="5234" y="103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1880" y="2178000"/>
            <a:ext cx="1938240" cy="358920"/>
          </a:xfrm>
          <a:custGeom>
            <a:avLst/>
            <a:gdLst/>
            <a:ahLst/>
            <a:rect l="l" t="t" r="r" b="b"/>
            <a:pathLst>
              <a:path w="5383" h="994">
                <a:moveTo>
                  <a:pt x="16148" y="6152"/>
                </a:moveTo>
                <a:cubicBezTo>
                  <a:pt x="16201" y="6251"/>
                  <a:pt x="16244" y="6350"/>
                  <a:pt x="16297" y="6449"/>
                </a:cubicBezTo>
              </a:path>
              <a:path w="5383" h="994">
                <a:moveTo>
                  <a:pt x="17239" y="6127"/>
                </a:moveTo>
                <a:cubicBezTo>
                  <a:pt x="17249" y="6242"/>
                  <a:pt x="17258" y="6351"/>
                  <a:pt x="17314" y="6449"/>
                </a:cubicBezTo>
              </a:path>
              <a:path w="5383" h="994">
                <a:moveTo>
                  <a:pt x="17314" y="6449"/>
                </a:moveTo>
                <a:lnTo>
                  <a:pt x="17314" y="6449"/>
                </a:lnTo>
              </a:path>
              <a:path w="5383" h="994">
                <a:moveTo>
                  <a:pt x="18355" y="6052"/>
                </a:moveTo>
                <a:cubicBezTo>
                  <a:pt x="18369" y="6174"/>
                  <a:pt x="18389" y="6286"/>
                  <a:pt x="18430" y="6400"/>
                </a:cubicBezTo>
              </a:path>
              <a:path w="5383" h="994">
                <a:moveTo>
                  <a:pt x="18008" y="6424"/>
                </a:moveTo>
                <a:cubicBezTo>
                  <a:pt x="18015" y="6465"/>
                  <a:pt x="18026" y="6507"/>
                  <a:pt x="18033" y="6548"/>
                </a:cubicBezTo>
              </a:path>
              <a:path w="5383" h="994">
                <a:moveTo>
                  <a:pt x="19224" y="6400"/>
                </a:moveTo>
                <a:cubicBezTo>
                  <a:pt x="19219" y="6468"/>
                  <a:pt x="19209" y="6531"/>
                  <a:pt x="19199" y="6598"/>
                </a:cubicBezTo>
              </a:path>
              <a:path w="5383" h="994">
                <a:moveTo>
                  <a:pt x="20042" y="6350"/>
                </a:moveTo>
                <a:lnTo>
                  <a:pt x="20042" y="6350"/>
                </a:lnTo>
              </a:path>
              <a:path w="5383" h="994">
                <a:moveTo>
                  <a:pt x="20414" y="6424"/>
                </a:moveTo>
                <a:cubicBezTo>
                  <a:pt x="20414" y="6449"/>
                  <a:pt x="20414" y="6474"/>
                  <a:pt x="20414" y="6499"/>
                </a:cubicBezTo>
              </a:path>
              <a:path w="5383" h="994">
                <a:moveTo>
                  <a:pt x="15032" y="7045"/>
                </a:moveTo>
                <a:lnTo>
                  <a:pt x="15032" y="7045"/>
                </a:lnTo>
                <a:lnTo>
                  <a:pt x="15032" y="7045"/>
                </a:lnTo>
              </a:path>
              <a:path w="5383" h="994">
                <a:moveTo>
                  <a:pt x="15032" y="7045"/>
                </a:moveTo>
                <a:lnTo>
                  <a:pt x="15032" y="70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0040" y="2455920"/>
            <a:ext cx="241200" cy="11592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14486" y="6821"/>
                </a:moveTo>
                <a:cubicBezTo>
                  <a:pt x="14455" y="6889"/>
                  <a:pt x="14338" y="7055"/>
                  <a:pt x="14412" y="7119"/>
                </a:cubicBezTo>
                <a:cubicBezTo>
                  <a:pt x="14512" y="7204"/>
                  <a:pt x="14724" y="7115"/>
                  <a:pt x="14784" y="7020"/>
                </a:cubicBezTo>
                <a:cubicBezTo>
                  <a:pt x="14784" y="7012"/>
                  <a:pt x="14784" y="7003"/>
                  <a:pt x="14784" y="6995"/>
                </a:cubicBezTo>
                <a:cubicBezTo>
                  <a:pt x="14701" y="6964"/>
                  <a:pt x="14640" y="6962"/>
                  <a:pt x="14610" y="7069"/>
                </a:cubicBezTo>
                <a:cubicBezTo>
                  <a:pt x="14610" y="7086"/>
                  <a:pt x="14610" y="7102"/>
                  <a:pt x="14610" y="7119"/>
                </a:cubicBezTo>
              </a:path>
              <a:path w="670" h="324">
                <a:moveTo>
                  <a:pt x="14982" y="6871"/>
                </a:moveTo>
                <a:cubicBezTo>
                  <a:pt x="15015" y="6871"/>
                  <a:pt x="15031" y="6871"/>
                  <a:pt x="1505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26080" y="2133720"/>
            <a:ext cx="1633680" cy="474480"/>
          </a:xfrm>
          <a:custGeom>
            <a:avLst/>
            <a:gdLst/>
            <a:ahLst/>
            <a:rect l="l" t="t" r="r" b="b"/>
            <a:pathLst>
              <a:path w="4540" h="1316">
                <a:moveTo>
                  <a:pt x="15776" y="6077"/>
                </a:moveTo>
                <a:cubicBezTo>
                  <a:pt x="15632" y="6168"/>
                  <a:pt x="15666" y="6190"/>
                  <a:pt x="15776" y="6300"/>
                </a:cubicBezTo>
                <a:cubicBezTo>
                  <a:pt x="15809" y="6333"/>
                  <a:pt x="15842" y="6367"/>
                  <a:pt x="15875" y="6400"/>
                </a:cubicBezTo>
                <a:cubicBezTo>
                  <a:pt x="15892" y="6416"/>
                  <a:pt x="15908" y="6433"/>
                  <a:pt x="15925" y="6449"/>
                </a:cubicBezTo>
                <a:cubicBezTo>
                  <a:pt x="15792" y="6383"/>
                  <a:pt x="15713" y="6297"/>
                  <a:pt x="15850" y="6152"/>
                </a:cubicBezTo>
                <a:cubicBezTo>
                  <a:pt x="15867" y="6144"/>
                  <a:pt x="15883" y="6135"/>
                  <a:pt x="15900" y="6127"/>
                </a:cubicBezTo>
              </a:path>
              <a:path w="4540" h="1316">
                <a:moveTo>
                  <a:pt x="16520" y="6102"/>
                </a:moveTo>
                <a:cubicBezTo>
                  <a:pt x="16579" y="6117"/>
                  <a:pt x="17050" y="6233"/>
                  <a:pt x="16842" y="6400"/>
                </a:cubicBezTo>
                <a:cubicBezTo>
                  <a:pt x="16726" y="6422"/>
                  <a:pt x="16693" y="6432"/>
                  <a:pt x="16619" y="6400"/>
                </a:cubicBezTo>
                <a:cubicBezTo>
                  <a:pt x="16705" y="6292"/>
                  <a:pt x="16787" y="6322"/>
                  <a:pt x="16892" y="6400"/>
                </a:cubicBezTo>
                <a:cubicBezTo>
                  <a:pt x="16900" y="6408"/>
                  <a:pt x="16909" y="6416"/>
                  <a:pt x="16917" y="6424"/>
                </a:cubicBezTo>
              </a:path>
              <a:path w="4540" h="1316">
                <a:moveTo>
                  <a:pt x="17438" y="6127"/>
                </a:moveTo>
                <a:cubicBezTo>
                  <a:pt x="17466" y="6233"/>
                  <a:pt x="17492" y="6449"/>
                  <a:pt x="17661" y="6424"/>
                </a:cubicBezTo>
                <a:cubicBezTo>
                  <a:pt x="17748" y="6411"/>
                  <a:pt x="17803" y="6332"/>
                  <a:pt x="17859" y="6276"/>
                </a:cubicBezTo>
                <a:cubicBezTo>
                  <a:pt x="17755" y="6311"/>
                  <a:pt x="17666" y="6368"/>
                  <a:pt x="17810" y="6400"/>
                </a:cubicBezTo>
              </a:path>
              <a:path w="4540" h="1316">
                <a:moveTo>
                  <a:pt x="18852" y="6028"/>
                </a:moveTo>
                <a:cubicBezTo>
                  <a:pt x="18772" y="6038"/>
                  <a:pt x="18765" y="6047"/>
                  <a:pt x="18703" y="6102"/>
                </a:cubicBezTo>
                <a:cubicBezTo>
                  <a:pt x="18747" y="6234"/>
                  <a:pt x="18863" y="6266"/>
                  <a:pt x="18976" y="6350"/>
                </a:cubicBezTo>
                <a:cubicBezTo>
                  <a:pt x="18936" y="6365"/>
                  <a:pt x="18682" y="6422"/>
                  <a:pt x="18752" y="6276"/>
                </a:cubicBezTo>
                <a:cubicBezTo>
                  <a:pt x="18785" y="6208"/>
                  <a:pt x="18850" y="6203"/>
                  <a:pt x="18876" y="6152"/>
                </a:cubicBezTo>
              </a:path>
              <a:path w="4540" h="1316">
                <a:moveTo>
                  <a:pt x="19496" y="6077"/>
                </a:moveTo>
                <a:cubicBezTo>
                  <a:pt x="19578" y="6057"/>
                  <a:pt x="19665" y="6046"/>
                  <a:pt x="19720" y="6152"/>
                </a:cubicBezTo>
                <a:cubicBezTo>
                  <a:pt x="19805" y="6315"/>
                  <a:pt x="19449" y="6357"/>
                  <a:pt x="19372" y="6375"/>
                </a:cubicBezTo>
                <a:cubicBezTo>
                  <a:pt x="19395" y="6319"/>
                  <a:pt x="19410" y="6300"/>
                  <a:pt x="19472" y="6300"/>
                </a:cubicBezTo>
                <a:cubicBezTo>
                  <a:pt x="19530" y="6300"/>
                  <a:pt x="19587" y="6300"/>
                  <a:pt x="19645" y="6300"/>
                </a:cubicBezTo>
              </a:path>
              <a:path w="4540" h="1316">
                <a:moveTo>
                  <a:pt x="15677" y="6474"/>
                </a:moveTo>
                <a:cubicBezTo>
                  <a:pt x="15685" y="6525"/>
                  <a:pt x="15701" y="6571"/>
                  <a:pt x="15701" y="6623"/>
                </a:cubicBezTo>
              </a:path>
              <a:path w="4540" h="1316">
                <a:moveTo>
                  <a:pt x="16173" y="6449"/>
                </a:moveTo>
                <a:cubicBezTo>
                  <a:pt x="16173" y="6507"/>
                  <a:pt x="16173" y="6565"/>
                  <a:pt x="16173" y="6623"/>
                </a:cubicBezTo>
              </a:path>
              <a:path w="4540" h="1316">
                <a:moveTo>
                  <a:pt x="17090" y="6524"/>
                </a:moveTo>
                <a:cubicBezTo>
                  <a:pt x="17100" y="6563"/>
                  <a:pt x="17115" y="6578"/>
                  <a:pt x="17115" y="6623"/>
                </a:cubicBezTo>
              </a:path>
              <a:path w="4540" h="1316">
                <a:moveTo>
                  <a:pt x="18281" y="6102"/>
                </a:moveTo>
                <a:cubicBezTo>
                  <a:pt x="18297" y="6054"/>
                  <a:pt x="18401" y="6077"/>
                  <a:pt x="18455" y="6077"/>
                </a:cubicBezTo>
                <a:cubicBezTo>
                  <a:pt x="18437" y="6217"/>
                  <a:pt x="18407" y="6300"/>
                  <a:pt x="18281" y="6375"/>
                </a:cubicBezTo>
                <a:cubicBezTo>
                  <a:pt x="18273" y="6375"/>
                  <a:pt x="18264" y="6375"/>
                  <a:pt x="18256" y="6375"/>
                </a:cubicBezTo>
                <a:cubicBezTo>
                  <a:pt x="18366" y="6422"/>
                  <a:pt x="18461" y="6389"/>
                  <a:pt x="18579" y="6375"/>
                </a:cubicBezTo>
                <a:cubicBezTo>
                  <a:pt x="18656" y="6366"/>
                  <a:pt x="18629" y="6398"/>
                  <a:pt x="18653" y="6325"/>
                </a:cubicBezTo>
              </a:path>
              <a:path w="4540" h="1316">
                <a:moveTo>
                  <a:pt x="18852" y="6077"/>
                </a:moveTo>
                <a:cubicBezTo>
                  <a:pt x="18733" y="6137"/>
                  <a:pt x="18733" y="6181"/>
                  <a:pt x="18752" y="6300"/>
                </a:cubicBezTo>
                <a:cubicBezTo>
                  <a:pt x="18878" y="6313"/>
                  <a:pt x="19043" y="6358"/>
                  <a:pt x="19075" y="6176"/>
                </a:cubicBezTo>
                <a:cubicBezTo>
                  <a:pt x="19107" y="5996"/>
                  <a:pt x="18831" y="5985"/>
                  <a:pt x="18728" y="6028"/>
                </a:cubicBezTo>
                <a:cubicBezTo>
                  <a:pt x="18556" y="6100"/>
                  <a:pt x="18557" y="6366"/>
                  <a:pt x="18777" y="6350"/>
                </a:cubicBezTo>
                <a:cubicBezTo>
                  <a:pt x="18894" y="6303"/>
                  <a:pt x="18932" y="6293"/>
                  <a:pt x="18951" y="6201"/>
                </a:cubicBezTo>
                <a:cubicBezTo>
                  <a:pt x="18909" y="6076"/>
                  <a:pt x="18948" y="6102"/>
                  <a:pt x="18827" y="6102"/>
                </a:cubicBezTo>
              </a:path>
              <a:path w="4540" h="1316">
                <a:moveTo>
                  <a:pt x="19918" y="6003"/>
                </a:moveTo>
                <a:cubicBezTo>
                  <a:pt x="19923" y="6034"/>
                  <a:pt x="19930" y="6166"/>
                  <a:pt x="19968" y="6176"/>
                </a:cubicBezTo>
                <a:cubicBezTo>
                  <a:pt x="20105" y="6214"/>
                  <a:pt x="20126" y="6088"/>
                  <a:pt x="20166" y="6003"/>
                </a:cubicBezTo>
              </a:path>
              <a:path w="4540" h="1316">
                <a:moveTo>
                  <a:pt x="20092" y="5928"/>
                </a:moveTo>
                <a:cubicBezTo>
                  <a:pt x="20047" y="6063"/>
                  <a:pt x="20042" y="6183"/>
                  <a:pt x="20042" y="6325"/>
                </a:cubicBezTo>
                <a:cubicBezTo>
                  <a:pt x="20042" y="6333"/>
                  <a:pt x="20042" y="6342"/>
                  <a:pt x="20042" y="6350"/>
                </a:cubicBezTo>
              </a:path>
              <a:path w="4540" h="1316">
                <a:moveTo>
                  <a:pt x="15627" y="6846"/>
                </a:moveTo>
                <a:cubicBezTo>
                  <a:pt x="15690" y="6888"/>
                  <a:pt x="15608" y="6986"/>
                  <a:pt x="15627" y="7069"/>
                </a:cubicBezTo>
                <a:cubicBezTo>
                  <a:pt x="15647" y="7160"/>
                  <a:pt x="15733" y="7063"/>
                  <a:pt x="15751" y="7045"/>
                </a:cubicBezTo>
                <a:cubicBezTo>
                  <a:pt x="15633" y="7055"/>
                  <a:pt x="15649" y="7034"/>
                  <a:pt x="15627" y="7144"/>
                </a:cubicBezTo>
              </a:path>
              <a:path w="4540" h="1316">
                <a:moveTo>
                  <a:pt x="16396" y="6846"/>
                </a:moveTo>
                <a:cubicBezTo>
                  <a:pt x="16475" y="6826"/>
                  <a:pt x="16551" y="6821"/>
                  <a:pt x="16644" y="6821"/>
                </a:cubicBezTo>
                <a:cubicBezTo>
                  <a:pt x="16644" y="6927"/>
                  <a:pt x="16604" y="6930"/>
                  <a:pt x="16570" y="7020"/>
                </a:cubicBezTo>
                <a:cubicBezTo>
                  <a:pt x="16570" y="7028"/>
                  <a:pt x="16570" y="7037"/>
                  <a:pt x="16570" y="7045"/>
                </a:cubicBezTo>
                <a:cubicBezTo>
                  <a:pt x="16644" y="7045"/>
                  <a:pt x="16719" y="7045"/>
                  <a:pt x="16793" y="7045"/>
                </a:cubicBezTo>
              </a:path>
              <a:path w="4540" h="1316">
                <a:moveTo>
                  <a:pt x="16321" y="6623"/>
                </a:moveTo>
                <a:cubicBezTo>
                  <a:pt x="16373" y="6637"/>
                  <a:pt x="16442" y="6666"/>
                  <a:pt x="16495" y="6672"/>
                </a:cubicBezTo>
                <a:cubicBezTo>
                  <a:pt x="16609" y="6684"/>
                  <a:pt x="16793" y="6676"/>
                  <a:pt x="16867" y="6648"/>
                </a:cubicBezTo>
                <a:cubicBezTo>
                  <a:pt x="16934" y="6623"/>
                  <a:pt x="16945" y="6624"/>
                  <a:pt x="16966" y="6548"/>
                </a:cubicBezTo>
                <a:cubicBezTo>
                  <a:pt x="16981" y="6494"/>
                  <a:pt x="16948" y="6440"/>
                  <a:pt x="16942" y="6400"/>
                </a:cubicBezTo>
                <a:cubicBezTo>
                  <a:pt x="16933" y="6340"/>
                  <a:pt x="16920" y="6286"/>
                  <a:pt x="16917" y="6226"/>
                </a:cubicBezTo>
                <a:cubicBezTo>
                  <a:pt x="16914" y="6172"/>
                  <a:pt x="16879" y="6146"/>
                  <a:pt x="16867" y="6102"/>
                </a:cubicBezTo>
                <a:cubicBezTo>
                  <a:pt x="16845" y="6022"/>
                  <a:pt x="16833" y="6042"/>
                  <a:pt x="16743" y="6003"/>
                </a:cubicBezTo>
                <a:cubicBezTo>
                  <a:pt x="16694" y="5982"/>
                  <a:pt x="16635" y="5956"/>
                  <a:pt x="16545" y="5953"/>
                </a:cubicBezTo>
                <a:cubicBezTo>
                  <a:pt x="16450" y="5950"/>
                  <a:pt x="16360" y="5955"/>
                  <a:pt x="16272" y="5978"/>
                </a:cubicBezTo>
                <a:cubicBezTo>
                  <a:pt x="16166" y="6006"/>
                  <a:pt x="16143" y="6021"/>
                  <a:pt x="16049" y="6077"/>
                </a:cubicBezTo>
                <a:cubicBezTo>
                  <a:pt x="15988" y="6113"/>
                  <a:pt x="15983" y="6157"/>
                  <a:pt x="15949" y="6226"/>
                </a:cubicBezTo>
                <a:cubicBezTo>
                  <a:pt x="15916" y="6294"/>
                  <a:pt x="15940" y="6428"/>
                  <a:pt x="15974" y="6499"/>
                </a:cubicBezTo>
                <a:cubicBezTo>
                  <a:pt x="15998" y="6550"/>
                  <a:pt x="16038" y="6601"/>
                  <a:pt x="16098" y="6623"/>
                </a:cubicBezTo>
                <a:cubicBezTo>
                  <a:pt x="16227" y="6670"/>
                  <a:pt x="16339" y="6628"/>
                  <a:pt x="16470" y="6623"/>
                </a:cubicBezTo>
                <a:cubicBezTo>
                  <a:pt x="16495" y="6623"/>
                  <a:pt x="16503" y="6623"/>
                  <a:pt x="16520" y="6623"/>
                </a:cubicBezTo>
              </a:path>
              <a:path w="4540" h="1316">
                <a:moveTo>
                  <a:pt x="16669" y="6623"/>
                </a:moveTo>
                <a:cubicBezTo>
                  <a:pt x="16605" y="6595"/>
                  <a:pt x="16550" y="6598"/>
                  <a:pt x="16470" y="6598"/>
                </a:cubicBezTo>
                <a:cubicBezTo>
                  <a:pt x="16408" y="6598"/>
                  <a:pt x="16353" y="6622"/>
                  <a:pt x="16297" y="6648"/>
                </a:cubicBezTo>
                <a:cubicBezTo>
                  <a:pt x="16258" y="6666"/>
                  <a:pt x="16187" y="6716"/>
                  <a:pt x="16173" y="6722"/>
                </a:cubicBezTo>
                <a:cubicBezTo>
                  <a:pt x="16114" y="6749"/>
                  <a:pt x="16055" y="6777"/>
                  <a:pt x="16024" y="6821"/>
                </a:cubicBezTo>
                <a:cubicBezTo>
                  <a:pt x="15991" y="6868"/>
                  <a:pt x="15995" y="6904"/>
                  <a:pt x="15974" y="6945"/>
                </a:cubicBezTo>
                <a:cubicBezTo>
                  <a:pt x="15943" y="7006"/>
                  <a:pt x="15950" y="7034"/>
                  <a:pt x="15999" y="7094"/>
                </a:cubicBezTo>
                <a:cubicBezTo>
                  <a:pt x="16072" y="7182"/>
                  <a:pt x="16172" y="7166"/>
                  <a:pt x="16272" y="7193"/>
                </a:cubicBezTo>
                <a:cubicBezTo>
                  <a:pt x="16351" y="7214"/>
                  <a:pt x="16435" y="7232"/>
                  <a:pt x="16520" y="7243"/>
                </a:cubicBezTo>
                <a:cubicBezTo>
                  <a:pt x="16608" y="7254"/>
                  <a:pt x="16682" y="7229"/>
                  <a:pt x="16768" y="7218"/>
                </a:cubicBezTo>
                <a:cubicBezTo>
                  <a:pt x="16842" y="7209"/>
                  <a:pt x="16898" y="7177"/>
                  <a:pt x="16942" y="7144"/>
                </a:cubicBezTo>
                <a:cubicBezTo>
                  <a:pt x="16960" y="7130"/>
                  <a:pt x="17017" y="7040"/>
                  <a:pt x="17016" y="7020"/>
                </a:cubicBezTo>
                <a:cubicBezTo>
                  <a:pt x="17011" y="6947"/>
                  <a:pt x="16979" y="6937"/>
                  <a:pt x="16942" y="6896"/>
                </a:cubicBezTo>
                <a:cubicBezTo>
                  <a:pt x="16914" y="6865"/>
                  <a:pt x="16913" y="6826"/>
                  <a:pt x="16892" y="6796"/>
                </a:cubicBezTo>
                <a:cubicBezTo>
                  <a:pt x="16842" y="6724"/>
                  <a:pt x="16769" y="6707"/>
                  <a:pt x="16694" y="6672"/>
                </a:cubicBezTo>
                <a:cubicBezTo>
                  <a:pt x="16628" y="6641"/>
                  <a:pt x="16592" y="6626"/>
                  <a:pt x="16520" y="6623"/>
                </a:cubicBezTo>
                <a:cubicBezTo>
                  <a:pt x="16503" y="6623"/>
                  <a:pt x="16487" y="6623"/>
                  <a:pt x="16470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2482920"/>
            <a:ext cx="4813200" cy="2633760"/>
          </a:xfrm>
          <a:custGeom>
            <a:avLst/>
            <a:gdLst/>
            <a:ahLst/>
            <a:rect l="l" t="t" r="r" b="b"/>
            <a:pathLst>
              <a:path w="13371" h="7318">
                <a:moveTo>
                  <a:pt x="15925" y="7094"/>
                </a:moveTo>
                <a:cubicBezTo>
                  <a:pt x="15954" y="7146"/>
                  <a:pt x="15948" y="7156"/>
                  <a:pt x="15999" y="7169"/>
                </a:cubicBezTo>
              </a:path>
              <a:path w="13371" h="7318">
                <a:moveTo>
                  <a:pt x="15999" y="7169"/>
                </a:moveTo>
                <a:lnTo>
                  <a:pt x="15999" y="7169"/>
                </a:lnTo>
              </a:path>
              <a:path w="13371" h="7318">
                <a:moveTo>
                  <a:pt x="16197" y="6896"/>
                </a:moveTo>
                <a:cubicBezTo>
                  <a:pt x="16208" y="6952"/>
                  <a:pt x="16239" y="7071"/>
                  <a:pt x="16297" y="7094"/>
                </a:cubicBezTo>
                <a:cubicBezTo>
                  <a:pt x="16297" y="7086"/>
                  <a:pt x="16297" y="7077"/>
                  <a:pt x="16297" y="7069"/>
                </a:cubicBezTo>
              </a:path>
              <a:path w="13371" h="7318">
                <a:moveTo>
                  <a:pt x="2952" y="14213"/>
                </a:moveTo>
                <a:lnTo>
                  <a:pt x="2952" y="14213"/>
                </a:lnTo>
              </a:path>
              <a:path w="13371" h="7318">
                <a:moveTo>
                  <a:pt x="2927" y="14213"/>
                </a:moveTo>
                <a:lnTo>
                  <a:pt x="2927" y="14213"/>
                </a:lnTo>
              </a:path>
              <a:path w="13371" h="7318">
                <a:moveTo>
                  <a:pt x="2927" y="14213"/>
                </a:moveTo>
                <a:lnTo>
                  <a:pt x="2927" y="142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3760" y="174132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20340" y="4961"/>
                </a:moveTo>
                <a:cubicBezTo>
                  <a:pt x="20309" y="5037"/>
                  <a:pt x="20389" y="5235"/>
                  <a:pt x="20414" y="5333"/>
                </a:cubicBezTo>
                <a:cubicBezTo>
                  <a:pt x="20433" y="5390"/>
                  <a:pt x="20442" y="5397"/>
                  <a:pt x="20439" y="5432"/>
                </a:cubicBezTo>
              </a:path>
              <a:path w="993" h="596">
                <a:moveTo>
                  <a:pt x="20613" y="4961"/>
                </a:moveTo>
                <a:cubicBezTo>
                  <a:pt x="20632" y="4903"/>
                  <a:pt x="20717" y="4882"/>
                  <a:pt x="20786" y="4862"/>
                </a:cubicBezTo>
                <a:cubicBezTo>
                  <a:pt x="20883" y="4833"/>
                  <a:pt x="20956" y="4835"/>
                  <a:pt x="21010" y="4911"/>
                </a:cubicBezTo>
                <a:cubicBezTo>
                  <a:pt x="21065" y="4989"/>
                  <a:pt x="21058" y="5054"/>
                  <a:pt x="21010" y="5135"/>
                </a:cubicBezTo>
                <a:cubicBezTo>
                  <a:pt x="20958" y="5224"/>
                  <a:pt x="20890" y="5264"/>
                  <a:pt x="20836" y="5358"/>
                </a:cubicBezTo>
                <a:cubicBezTo>
                  <a:pt x="20823" y="5380"/>
                  <a:pt x="20811" y="5462"/>
                  <a:pt x="20811" y="5407"/>
                </a:cubicBezTo>
                <a:cubicBezTo>
                  <a:pt x="20821" y="5335"/>
                  <a:pt x="20832" y="5313"/>
                  <a:pt x="20910" y="5308"/>
                </a:cubicBezTo>
                <a:cubicBezTo>
                  <a:pt x="21030" y="5301"/>
                  <a:pt x="21131" y="5392"/>
                  <a:pt x="21258" y="5358"/>
                </a:cubicBezTo>
                <a:cubicBezTo>
                  <a:pt x="21288" y="5350"/>
                  <a:pt x="21301" y="5327"/>
                  <a:pt x="21307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97280" y="5045040"/>
            <a:ext cx="3598920" cy="608040"/>
          </a:xfrm>
          <a:custGeom>
            <a:avLst/>
            <a:gdLst/>
            <a:ahLst/>
            <a:rect l="l" t="t" r="r" b="b"/>
            <a:pathLst>
              <a:path w="9998" h="1687">
                <a:moveTo>
                  <a:pt x="23044" y="14015"/>
                </a:moveTo>
                <a:lnTo>
                  <a:pt x="23044" y="14015"/>
                </a:lnTo>
              </a:path>
              <a:path w="9998" h="1687">
                <a:moveTo>
                  <a:pt x="18504" y="15106"/>
                </a:moveTo>
                <a:cubicBezTo>
                  <a:pt x="18504" y="15098"/>
                  <a:pt x="18504" y="15089"/>
                  <a:pt x="18504" y="15081"/>
                </a:cubicBezTo>
              </a:path>
              <a:path w="9998" h="1687">
                <a:moveTo>
                  <a:pt x="13047" y="14337"/>
                </a:moveTo>
                <a:cubicBezTo>
                  <a:pt x="13178" y="14439"/>
                  <a:pt x="13202" y="14551"/>
                  <a:pt x="13246" y="14709"/>
                </a:cubicBezTo>
              </a:path>
              <a:path w="9998" h="1687">
                <a:moveTo>
                  <a:pt x="14139" y="14387"/>
                </a:moveTo>
                <a:cubicBezTo>
                  <a:pt x="14131" y="14387"/>
                  <a:pt x="14122" y="14387"/>
                  <a:pt x="14114" y="14387"/>
                </a:cubicBezTo>
              </a:path>
              <a:path w="9998" h="1687">
                <a:moveTo>
                  <a:pt x="14188" y="14560"/>
                </a:moveTo>
                <a:lnTo>
                  <a:pt x="14188" y="14560"/>
                </a:lnTo>
                <a:lnTo>
                  <a:pt x="14188" y="14560"/>
                </a:lnTo>
              </a:path>
              <a:path w="9998" h="1687">
                <a:moveTo>
                  <a:pt x="14188" y="14560"/>
                </a:moveTo>
                <a:lnTo>
                  <a:pt x="14188" y="14560"/>
                </a:lnTo>
              </a:path>
              <a:path w="9998" h="1687">
                <a:moveTo>
                  <a:pt x="15478" y="14660"/>
                </a:moveTo>
                <a:cubicBezTo>
                  <a:pt x="15517" y="14737"/>
                  <a:pt x="15516" y="14752"/>
                  <a:pt x="15553" y="14784"/>
                </a:cubicBezTo>
              </a:path>
              <a:path w="9998" h="1687">
                <a:moveTo>
                  <a:pt x="16619" y="14585"/>
                </a:moveTo>
                <a:cubicBezTo>
                  <a:pt x="16668" y="14682"/>
                  <a:pt x="16683" y="14717"/>
                  <a:pt x="16743" y="14610"/>
                </a:cubicBezTo>
              </a:path>
              <a:path w="9998" h="1687">
                <a:moveTo>
                  <a:pt x="16743" y="14610"/>
                </a:moveTo>
                <a:lnTo>
                  <a:pt x="16743" y="14610"/>
                </a:lnTo>
              </a:path>
              <a:path w="9998" h="1687">
                <a:moveTo>
                  <a:pt x="17686" y="14684"/>
                </a:moveTo>
                <a:cubicBezTo>
                  <a:pt x="17716" y="14744"/>
                  <a:pt x="17734" y="14754"/>
                  <a:pt x="17785" y="14684"/>
                </a:cubicBezTo>
              </a:path>
              <a:path w="9998" h="1687">
                <a:moveTo>
                  <a:pt x="17785" y="14684"/>
                </a:moveTo>
                <a:lnTo>
                  <a:pt x="17785" y="14684"/>
                </a:lnTo>
              </a:path>
              <a:path w="9998" h="1687">
                <a:moveTo>
                  <a:pt x="18281" y="14436"/>
                </a:moveTo>
                <a:lnTo>
                  <a:pt x="18281" y="14436"/>
                </a:lnTo>
              </a:path>
              <a:path w="9998" h="1687">
                <a:moveTo>
                  <a:pt x="13866" y="15304"/>
                </a:moveTo>
                <a:lnTo>
                  <a:pt x="13866" y="15304"/>
                </a:lnTo>
                <a:lnTo>
                  <a:pt x="13866" y="15304"/>
                </a:lnTo>
              </a:path>
              <a:path w="9998" h="1687">
                <a:moveTo>
                  <a:pt x="13866" y="15304"/>
                </a:moveTo>
                <a:lnTo>
                  <a:pt x="13866" y="15304"/>
                </a:lnTo>
              </a:path>
              <a:path w="9998" h="1687">
                <a:moveTo>
                  <a:pt x="13990" y="15528"/>
                </a:moveTo>
                <a:lnTo>
                  <a:pt x="13990" y="15528"/>
                </a:lnTo>
              </a:path>
              <a:path w="9998" h="1687">
                <a:moveTo>
                  <a:pt x="14337" y="15577"/>
                </a:moveTo>
                <a:lnTo>
                  <a:pt x="14337" y="15577"/>
                </a:lnTo>
              </a:path>
              <a:path w="9998" h="1687">
                <a:moveTo>
                  <a:pt x="15205" y="15627"/>
                </a:moveTo>
                <a:cubicBezTo>
                  <a:pt x="15225" y="15667"/>
                  <a:pt x="15234" y="15674"/>
                  <a:pt x="15230" y="15701"/>
                </a:cubicBezTo>
              </a:path>
              <a:path w="9998" h="1687">
                <a:moveTo>
                  <a:pt x="15230" y="15701"/>
                </a:moveTo>
                <a:lnTo>
                  <a:pt x="15230" y="15701"/>
                </a:lnTo>
              </a:path>
              <a:path w="9998" h="1687">
                <a:moveTo>
                  <a:pt x="16446" y="15478"/>
                </a:moveTo>
                <a:cubicBezTo>
                  <a:pt x="16446" y="15539"/>
                  <a:pt x="16436" y="15555"/>
                  <a:pt x="16470" y="15577"/>
                </a:cubicBezTo>
              </a:path>
              <a:path w="9998" h="1687">
                <a:moveTo>
                  <a:pt x="16470" y="15577"/>
                </a:moveTo>
                <a:lnTo>
                  <a:pt x="16470" y="15577"/>
                </a:lnTo>
              </a:path>
              <a:path w="9998" h="1687">
                <a:moveTo>
                  <a:pt x="16917" y="15081"/>
                </a:moveTo>
                <a:cubicBezTo>
                  <a:pt x="16953" y="15227"/>
                  <a:pt x="16982" y="15353"/>
                  <a:pt x="16991" y="15503"/>
                </a:cubicBezTo>
              </a:path>
              <a:path w="9998" h="1687">
                <a:moveTo>
                  <a:pt x="16991" y="15503"/>
                </a:moveTo>
                <a:lnTo>
                  <a:pt x="16991" y="1550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16680" y="4813200"/>
            <a:ext cx="1938240" cy="938160"/>
          </a:xfrm>
          <a:custGeom>
            <a:avLst/>
            <a:gdLst/>
            <a:ahLst/>
            <a:rect l="l" t="t" r="r" b="b"/>
            <a:pathLst>
              <a:path w="5384" h="2605">
                <a:moveTo>
                  <a:pt x="17810" y="14188"/>
                </a:moveTo>
                <a:cubicBezTo>
                  <a:pt x="17877" y="14272"/>
                  <a:pt x="17898" y="14421"/>
                  <a:pt x="18008" y="14412"/>
                </a:cubicBezTo>
                <a:cubicBezTo>
                  <a:pt x="18104" y="14380"/>
                  <a:pt x="18140" y="14353"/>
                  <a:pt x="18157" y="14263"/>
                </a:cubicBezTo>
              </a:path>
              <a:path w="5384" h="2605">
                <a:moveTo>
                  <a:pt x="18083" y="14139"/>
                </a:moveTo>
                <a:cubicBezTo>
                  <a:pt x="18091" y="14241"/>
                  <a:pt x="18086" y="14460"/>
                  <a:pt x="18157" y="14536"/>
                </a:cubicBezTo>
                <a:cubicBezTo>
                  <a:pt x="18232" y="14536"/>
                  <a:pt x="18263" y="14516"/>
                  <a:pt x="18281" y="14436"/>
                </a:cubicBezTo>
              </a:path>
              <a:path w="5384" h="2605">
                <a:moveTo>
                  <a:pt x="18554" y="14064"/>
                </a:moveTo>
                <a:cubicBezTo>
                  <a:pt x="18462" y="14144"/>
                  <a:pt x="18279" y="14245"/>
                  <a:pt x="18455" y="14337"/>
                </a:cubicBezTo>
                <a:cubicBezTo>
                  <a:pt x="18523" y="14373"/>
                  <a:pt x="18662" y="14407"/>
                  <a:pt x="18703" y="14461"/>
                </a:cubicBezTo>
                <a:cubicBezTo>
                  <a:pt x="18613" y="14491"/>
                  <a:pt x="18572" y="14496"/>
                  <a:pt x="18504" y="14461"/>
                </a:cubicBezTo>
                <a:cubicBezTo>
                  <a:pt x="18526" y="14315"/>
                  <a:pt x="18636" y="14164"/>
                  <a:pt x="18604" y="14163"/>
                </a:cubicBezTo>
              </a:path>
              <a:path w="5384" h="2605">
                <a:moveTo>
                  <a:pt x="14213" y="15205"/>
                </a:moveTo>
                <a:cubicBezTo>
                  <a:pt x="14227" y="15310"/>
                  <a:pt x="14252" y="15492"/>
                  <a:pt x="14312" y="15577"/>
                </a:cubicBezTo>
                <a:cubicBezTo>
                  <a:pt x="14320" y="15577"/>
                  <a:pt x="14329" y="15577"/>
                  <a:pt x="14337" y="15577"/>
                </a:cubicBezTo>
              </a:path>
              <a:path w="5384" h="2605">
                <a:moveTo>
                  <a:pt x="14585" y="15255"/>
                </a:moveTo>
                <a:cubicBezTo>
                  <a:pt x="14600" y="15361"/>
                  <a:pt x="14609" y="15494"/>
                  <a:pt x="14684" y="15577"/>
                </a:cubicBezTo>
                <a:cubicBezTo>
                  <a:pt x="14774" y="15678"/>
                  <a:pt x="14881" y="15528"/>
                  <a:pt x="14908" y="15453"/>
                </a:cubicBezTo>
                <a:cubicBezTo>
                  <a:pt x="14908" y="15445"/>
                  <a:pt x="14908" y="15437"/>
                  <a:pt x="14908" y="15429"/>
                </a:cubicBezTo>
                <a:cubicBezTo>
                  <a:pt x="14841" y="15458"/>
                  <a:pt x="14718" y="15547"/>
                  <a:pt x="14784" y="15577"/>
                </a:cubicBezTo>
                <a:cubicBezTo>
                  <a:pt x="14809" y="15577"/>
                  <a:pt x="14833" y="15577"/>
                  <a:pt x="14858" y="15577"/>
                </a:cubicBezTo>
              </a:path>
              <a:path w="5384" h="2605">
                <a:moveTo>
                  <a:pt x="15280" y="15180"/>
                </a:moveTo>
                <a:cubicBezTo>
                  <a:pt x="15353" y="15174"/>
                  <a:pt x="15623" y="15082"/>
                  <a:pt x="15577" y="15230"/>
                </a:cubicBezTo>
                <a:cubicBezTo>
                  <a:pt x="15531" y="15277"/>
                  <a:pt x="15519" y="15291"/>
                  <a:pt x="15478" y="15304"/>
                </a:cubicBezTo>
                <a:cubicBezTo>
                  <a:pt x="15478" y="15304"/>
                  <a:pt x="15610" y="15335"/>
                  <a:pt x="15652" y="15429"/>
                </a:cubicBezTo>
                <a:cubicBezTo>
                  <a:pt x="15567" y="15471"/>
                  <a:pt x="15466" y="15500"/>
                  <a:pt x="15404" y="15453"/>
                </a:cubicBezTo>
              </a:path>
              <a:path w="5384" h="2605">
                <a:moveTo>
                  <a:pt x="15726" y="15205"/>
                </a:moveTo>
                <a:cubicBezTo>
                  <a:pt x="15848" y="15156"/>
                  <a:pt x="16005" y="15119"/>
                  <a:pt x="16098" y="15255"/>
                </a:cubicBezTo>
                <a:cubicBezTo>
                  <a:pt x="16208" y="15416"/>
                  <a:pt x="15852" y="15444"/>
                  <a:pt x="15801" y="15453"/>
                </a:cubicBezTo>
                <a:cubicBezTo>
                  <a:pt x="15757" y="15432"/>
                  <a:pt x="15736" y="15429"/>
                  <a:pt x="15776" y="15404"/>
                </a:cubicBezTo>
                <a:cubicBezTo>
                  <a:pt x="15928" y="15359"/>
                  <a:pt x="16038" y="15349"/>
                  <a:pt x="16148" y="15503"/>
                </a:cubicBezTo>
                <a:cubicBezTo>
                  <a:pt x="16148" y="15511"/>
                  <a:pt x="16148" y="15520"/>
                  <a:pt x="16148" y="15528"/>
                </a:cubicBezTo>
              </a:path>
              <a:path w="5384" h="2605">
                <a:moveTo>
                  <a:pt x="16694" y="15205"/>
                </a:moveTo>
                <a:cubicBezTo>
                  <a:pt x="16712" y="15279"/>
                  <a:pt x="16772" y="15364"/>
                  <a:pt x="16867" y="15354"/>
                </a:cubicBezTo>
                <a:cubicBezTo>
                  <a:pt x="16908" y="15337"/>
                  <a:pt x="16950" y="15321"/>
                  <a:pt x="16991" y="15304"/>
                </a:cubicBezTo>
              </a:path>
              <a:path w="5384" h="2605">
                <a:moveTo>
                  <a:pt x="17314" y="15131"/>
                </a:moveTo>
                <a:cubicBezTo>
                  <a:pt x="17226" y="15196"/>
                  <a:pt x="17198" y="15206"/>
                  <a:pt x="17190" y="15280"/>
                </a:cubicBezTo>
                <a:cubicBezTo>
                  <a:pt x="17245" y="15306"/>
                  <a:pt x="17641" y="15444"/>
                  <a:pt x="17487" y="15553"/>
                </a:cubicBezTo>
                <a:cubicBezTo>
                  <a:pt x="17454" y="15561"/>
                  <a:pt x="17421" y="15569"/>
                  <a:pt x="17388" y="15577"/>
                </a:cubicBezTo>
                <a:cubicBezTo>
                  <a:pt x="17388" y="15451"/>
                  <a:pt x="17513" y="15318"/>
                  <a:pt x="17512" y="15205"/>
                </a:cubicBezTo>
                <a:cubicBezTo>
                  <a:pt x="17504" y="15205"/>
                  <a:pt x="17495" y="15205"/>
                  <a:pt x="17487" y="15205"/>
                </a:cubicBezTo>
              </a:path>
              <a:path w="5384" h="2605">
                <a:moveTo>
                  <a:pt x="16867" y="15974"/>
                </a:moveTo>
                <a:cubicBezTo>
                  <a:pt x="17243" y="15831"/>
                  <a:pt x="17609" y="15675"/>
                  <a:pt x="17983" y="15528"/>
                </a:cubicBezTo>
                <a:cubicBezTo>
                  <a:pt x="18320" y="15396"/>
                  <a:pt x="18658" y="15256"/>
                  <a:pt x="18976" y="15081"/>
                </a:cubicBezTo>
                <a:cubicBezTo>
                  <a:pt x="19184" y="14966"/>
                  <a:pt x="19340" y="14832"/>
                  <a:pt x="19472" y="14635"/>
                </a:cubicBezTo>
                <a:cubicBezTo>
                  <a:pt x="19581" y="14472"/>
                  <a:pt x="19633" y="14314"/>
                  <a:pt x="19596" y="14114"/>
                </a:cubicBezTo>
                <a:cubicBezTo>
                  <a:pt x="19548" y="13859"/>
                  <a:pt x="19448" y="13695"/>
                  <a:pt x="19248" y="13543"/>
                </a:cubicBezTo>
                <a:cubicBezTo>
                  <a:pt x="19051" y="13394"/>
                  <a:pt x="18820" y="13346"/>
                  <a:pt x="18579" y="13395"/>
                </a:cubicBezTo>
                <a:cubicBezTo>
                  <a:pt x="18392" y="13433"/>
                  <a:pt x="18225" y="13598"/>
                  <a:pt x="18083" y="13717"/>
                </a:cubicBezTo>
                <a:cubicBezTo>
                  <a:pt x="17980" y="13803"/>
                  <a:pt x="17851" y="13892"/>
                  <a:pt x="17760" y="13990"/>
                </a:cubicBezTo>
                <a:cubicBezTo>
                  <a:pt x="17706" y="14047"/>
                  <a:pt x="17634" y="14164"/>
                  <a:pt x="17611" y="14238"/>
                </a:cubicBezTo>
                <a:cubicBezTo>
                  <a:pt x="17576" y="14349"/>
                  <a:pt x="17580" y="14447"/>
                  <a:pt x="17487" y="14536"/>
                </a:cubicBezTo>
                <a:cubicBezTo>
                  <a:pt x="17363" y="14655"/>
                  <a:pt x="17203" y="14732"/>
                  <a:pt x="17041" y="14784"/>
                </a:cubicBezTo>
                <a:cubicBezTo>
                  <a:pt x="16916" y="14824"/>
                  <a:pt x="16796" y="14870"/>
                  <a:pt x="16669" y="14908"/>
                </a:cubicBezTo>
                <a:cubicBezTo>
                  <a:pt x="16577" y="14936"/>
                  <a:pt x="16425" y="14949"/>
                  <a:pt x="16346" y="15007"/>
                </a:cubicBezTo>
                <a:cubicBezTo>
                  <a:pt x="16256" y="15073"/>
                  <a:pt x="16242" y="15156"/>
                  <a:pt x="16272" y="15255"/>
                </a:cubicBezTo>
                <a:cubicBezTo>
                  <a:pt x="16295" y="15331"/>
                  <a:pt x="16354" y="15440"/>
                  <a:pt x="16396" y="15503"/>
                </a:cubicBezTo>
                <a:cubicBezTo>
                  <a:pt x="16469" y="15614"/>
                  <a:pt x="16562" y="15690"/>
                  <a:pt x="16694" y="15726"/>
                </a:cubicBezTo>
                <a:cubicBezTo>
                  <a:pt x="16881" y="15777"/>
                  <a:pt x="17028" y="15763"/>
                  <a:pt x="17214" y="15751"/>
                </a:cubicBezTo>
                <a:cubicBezTo>
                  <a:pt x="17331" y="15751"/>
                  <a:pt x="17366" y="15753"/>
                  <a:pt x="1743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88160" y="4589640"/>
            <a:ext cx="268560" cy="250560"/>
          </a:xfrm>
          <a:custGeom>
            <a:avLst/>
            <a:gdLst/>
            <a:ahLst/>
            <a:rect l="l" t="t" r="r" b="b"/>
            <a:pathLst>
              <a:path w="745" h="695">
                <a:moveTo>
                  <a:pt x="21382" y="12750"/>
                </a:moveTo>
                <a:cubicBezTo>
                  <a:pt x="21372" y="12861"/>
                  <a:pt x="21357" y="12949"/>
                  <a:pt x="21382" y="13047"/>
                </a:cubicBezTo>
                <a:cubicBezTo>
                  <a:pt x="21404" y="13133"/>
                  <a:pt x="21564" y="13035"/>
                  <a:pt x="21605" y="13022"/>
                </a:cubicBezTo>
              </a:path>
              <a:path w="745" h="695">
                <a:moveTo>
                  <a:pt x="21506" y="12750"/>
                </a:moveTo>
                <a:cubicBezTo>
                  <a:pt x="21483" y="12982"/>
                  <a:pt x="21481" y="13210"/>
                  <a:pt x="21481" y="13444"/>
                </a:cubicBezTo>
                <a:cubicBezTo>
                  <a:pt x="21481" y="13436"/>
                  <a:pt x="21481" y="13427"/>
                  <a:pt x="21481" y="13419"/>
                </a:cubicBezTo>
              </a:path>
              <a:path w="745" h="695">
                <a:moveTo>
                  <a:pt x="22101" y="12774"/>
                </a:moveTo>
                <a:cubicBezTo>
                  <a:pt x="21978" y="12810"/>
                  <a:pt x="21584" y="12909"/>
                  <a:pt x="21803" y="13097"/>
                </a:cubicBezTo>
                <a:cubicBezTo>
                  <a:pt x="21944" y="13167"/>
                  <a:pt x="21988" y="13186"/>
                  <a:pt x="22051" y="13271"/>
                </a:cubicBezTo>
                <a:cubicBezTo>
                  <a:pt x="22051" y="13333"/>
                  <a:pt x="22040" y="13357"/>
                  <a:pt x="21977" y="13370"/>
                </a:cubicBezTo>
                <a:cubicBezTo>
                  <a:pt x="21764" y="13171"/>
                  <a:pt x="21947" y="13084"/>
                  <a:pt x="22076" y="12824"/>
                </a:cubicBezTo>
                <a:cubicBezTo>
                  <a:pt x="22076" y="12783"/>
                  <a:pt x="22060" y="12774"/>
                  <a:pt x="22002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40200" y="5143680"/>
            <a:ext cx="133560" cy="14256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13469" y="14288"/>
                </a:moveTo>
                <a:cubicBezTo>
                  <a:pt x="13562" y="14316"/>
                  <a:pt x="13966" y="14458"/>
                  <a:pt x="13742" y="14635"/>
                </a:cubicBezTo>
                <a:cubicBezTo>
                  <a:pt x="13595" y="14683"/>
                  <a:pt x="13547" y="14700"/>
                  <a:pt x="13444" y="14660"/>
                </a:cubicBezTo>
                <a:cubicBezTo>
                  <a:pt x="13444" y="14618"/>
                  <a:pt x="13444" y="14610"/>
                  <a:pt x="13444" y="14585"/>
                </a:cubicBezTo>
                <a:cubicBezTo>
                  <a:pt x="13581" y="14608"/>
                  <a:pt x="13700" y="14638"/>
                  <a:pt x="1381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7320" y="510696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14436" y="14213"/>
                </a:moveTo>
                <a:cubicBezTo>
                  <a:pt x="14445" y="14237"/>
                  <a:pt x="14572" y="14530"/>
                  <a:pt x="14585" y="14536"/>
                </a:cubicBezTo>
                <a:cubicBezTo>
                  <a:pt x="14593" y="14528"/>
                  <a:pt x="14602" y="14519"/>
                  <a:pt x="14610" y="14511"/>
                </a:cubicBezTo>
              </a:path>
              <a:path w="721" h="423">
                <a:moveTo>
                  <a:pt x="14709" y="14188"/>
                </a:moveTo>
                <a:cubicBezTo>
                  <a:pt x="14846" y="14200"/>
                  <a:pt x="15085" y="14222"/>
                  <a:pt x="15131" y="14387"/>
                </a:cubicBezTo>
                <a:cubicBezTo>
                  <a:pt x="15184" y="14580"/>
                  <a:pt x="14891" y="14651"/>
                  <a:pt x="14784" y="14536"/>
                </a:cubicBezTo>
                <a:cubicBezTo>
                  <a:pt x="14784" y="14519"/>
                  <a:pt x="14784" y="14503"/>
                  <a:pt x="14784" y="14486"/>
                </a:cubicBezTo>
                <a:cubicBezTo>
                  <a:pt x="14943" y="14461"/>
                  <a:pt x="15048" y="14435"/>
                  <a:pt x="15156" y="14585"/>
                </a:cubicBezTo>
                <a:cubicBezTo>
                  <a:pt x="15156" y="14593"/>
                  <a:pt x="15156" y="14602"/>
                  <a:pt x="1515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7000" y="5062680"/>
            <a:ext cx="679680" cy="188640"/>
          </a:xfrm>
          <a:custGeom>
            <a:avLst/>
            <a:gdLst/>
            <a:ahLst/>
            <a:rect l="l" t="t" r="r" b="b"/>
            <a:pathLst>
              <a:path w="1886" h="522">
                <a:moveTo>
                  <a:pt x="15652" y="14238"/>
                </a:moveTo>
                <a:cubicBezTo>
                  <a:pt x="15688" y="14226"/>
                  <a:pt x="15702" y="14181"/>
                  <a:pt x="15776" y="14213"/>
                </a:cubicBezTo>
                <a:cubicBezTo>
                  <a:pt x="15974" y="14298"/>
                  <a:pt x="16013" y="14498"/>
                  <a:pt x="15776" y="14560"/>
                </a:cubicBezTo>
                <a:cubicBezTo>
                  <a:pt x="15667" y="14560"/>
                  <a:pt x="15640" y="14565"/>
                  <a:pt x="15577" y="14536"/>
                </a:cubicBezTo>
                <a:cubicBezTo>
                  <a:pt x="15651" y="14438"/>
                  <a:pt x="15808" y="14497"/>
                  <a:pt x="15925" y="14511"/>
                </a:cubicBezTo>
                <a:cubicBezTo>
                  <a:pt x="15933" y="14511"/>
                  <a:pt x="15941" y="14511"/>
                  <a:pt x="15949" y="14511"/>
                </a:cubicBezTo>
              </a:path>
              <a:path w="1886" h="522">
                <a:moveTo>
                  <a:pt x="16024" y="14188"/>
                </a:moveTo>
                <a:cubicBezTo>
                  <a:pt x="16039" y="14266"/>
                  <a:pt x="16101" y="14463"/>
                  <a:pt x="16222" y="14362"/>
                </a:cubicBezTo>
                <a:cubicBezTo>
                  <a:pt x="16332" y="14270"/>
                  <a:pt x="16321" y="14089"/>
                  <a:pt x="16222" y="14089"/>
                </a:cubicBezTo>
                <a:cubicBezTo>
                  <a:pt x="16244" y="14182"/>
                  <a:pt x="16296" y="14458"/>
                  <a:pt x="16396" y="14511"/>
                </a:cubicBezTo>
                <a:cubicBezTo>
                  <a:pt x="16413" y="14511"/>
                  <a:pt x="16429" y="14511"/>
                  <a:pt x="16446" y="14511"/>
                </a:cubicBezTo>
              </a:path>
              <a:path w="1886" h="522">
                <a:moveTo>
                  <a:pt x="16867" y="14163"/>
                </a:moveTo>
                <a:cubicBezTo>
                  <a:pt x="16894" y="14184"/>
                  <a:pt x="17001" y="14224"/>
                  <a:pt x="16991" y="14238"/>
                </a:cubicBezTo>
                <a:cubicBezTo>
                  <a:pt x="16936" y="14293"/>
                  <a:pt x="16938" y="14318"/>
                  <a:pt x="16892" y="14312"/>
                </a:cubicBezTo>
                <a:cubicBezTo>
                  <a:pt x="16954" y="14324"/>
                  <a:pt x="16985" y="14351"/>
                  <a:pt x="17041" y="14387"/>
                </a:cubicBezTo>
                <a:cubicBezTo>
                  <a:pt x="17022" y="14444"/>
                  <a:pt x="16756" y="14690"/>
                  <a:pt x="16768" y="14486"/>
                </a:cubicBezTo>
                <a:cubicBezTo>
                  <a:pt x="16793" y="14445"/>
                  <a:pt x="16817" y="14403"/>
                  <a:pt x="16842" y="14362"/>
                </a:cubicBezTo>
              </a:path>
              <a:path w="1886" h="522">
                <a:moveTo>
                  <a:pt x="17115" y="14188"/>
                </a:moveTo>
                <a:cubicBezTo>
                  <a:pt x="17125" y="14251"/>
                  <a:pt x="17117" y="14553"/>
                  <a:pt x="17214" y="14560"/>
                </a:cubicBezTo>
                <a:cubicBezTo>
                  <a:pt x="17359" y="14570"/>
                  <a:pt x="17404" y="14487"/>
                  <a:pt x="17462" y="14387"/>
                </a:cubicBezTo>
                <a:cubicBezTo>
                  <a:pt x="17427" y="14387"/>
                  <a:pt x="17238" y="14494"/>
                  <a:pt x="17338" y="14585"/>
                </a:cubicBezTo>
                <a:cubicBezTo>
                  <a:pt x="17355" y="14585"/>
                  <a:pt x="17371" y="14585"/>
                  <a:pt x="17388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75800" y="4606920"/>
            <a:ext cx="36360" cy="1000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24656" y="12799"/>
                </a:moveTo>
                <a:cubicBezTo>
                  <a:pt x="24683" y="12903"/>
                  <a:pt x="24707" y="12977"/>
                  <a:pt x="24755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1840" y="3963960"/>
            <a:ext cx="4224240" cy="1295280"/>
          </a:xfrm>
          <a:custGeom>
            <a:avLst/>
            <a:gdLst/>
            <a:ahLst/>
            <a:rect l="l" t="t" r="r" b="b"/>
            <a:pathLst>
              <a:path w="11734" h="3598">
                <a:moveTo>
                  <a:pt x="15602" y="11013"/>
                </a:moveTo>
                <a:lnTo>
                  <a:pt x="15602" y="11013"/>
                </a:lnTo>
              </a:path>
              <a:path w="11734" h="3598">
                <a:moveTo>
                  <a:pt x="15602" y="11187"/>
                </a:moveTo>
                <a:cubicBezTo>
                  <a:pt x="15610" y="11187"/>
                  <a:pt x="15619" y="11187"/>
                  <a:pt x="15627" y="11187"/>
                </a:cubicBezTo>
              </a:path>
              <a:path w="11734" h="3598">
                <a:moveTo>
                  <a:pt x="15627" y="11187"/>
                </a:moveTo>
                <a:lnTo>
                  <a:pt x="15627" y="11187"/>
                </a:lnTo>
              </a:path>
              <a:path w="11734" h="3598">
                <a:moveTo>
                  <a:pt x="3894" y="14560"/>
                </a:moveTo>
                <a:cubicBezTo>
                  <a:pt x="3917" y="14583"/>
                  <a:pt x="3925" y="14587"/>
                  <a:pt x="3919" y="14610"/>
                </a:cubicBezTo>
              </a:path>
              <a:path w="11734" h="3598">
                <a:moveTo>
                  <a:pt x="3919" y="14610"/>
                </a:moveTo>
                <a:lnTo>
                  <a:pt x="3919" y="146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4760" y="3973680"/>
            <a:ext cx="401400" cy="90360"/>
          </a:xfrm>
          <a:custGeom>
            <a:avLst/>
            <a:gdLst/>
            <a:ahLst/>
            <a:rect l="l" t="t" r="r" b="b"/>
            <a:pathLst>
              <a:path w="1117" h="249">
                <a:moveTo>
                  <a:pt x="17289" y="11112"/>
                </a:moveTo>
                <a:cubicBezTo>
                  <a:pt x="17312" y="11203"/>
                  <a:pt x="17320" y="11226"/>
                  <a:pt x="17314" y="11286"/>
                </a:cubicBezTo>
              </a:path>
              <a:path w="1117" h="249">
                <a:moveTo>
                  <a:pt x="17760" y="11162"/>
                </a:moveTo>
                <a:lnTo>
                  <a:pt x="17760" y="11162"/>
                </a:lnTo>
              </a:path>
              <a:path w="1117" h="249">
                <a:moveTo>
                  <a:pt x="18355" y="11038"/>
                </a:moveTo>
                <a:cubicBezTo>
                  <a:pt x="18383" y="11120"/>
                  <a:pt x="18393" y="11153"/>
                  <a:pt x="18405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86680" y="3143160"/>
            <a:ext cx="1635120" cy="901800"/>
          </a:xfrm>
          <a:custGeom>
            <a:avLst/>
            <a:gdLst/>
            <a:ahLst/>
            <a:rect l="l" t="t" r="r" b="b"/>
            <a:pathLst>
              <a:path w="4541" h="2507">
                <a:moveTo>
                  <a:pt x="17462" y="10914"/>
                </a:moveTo>
                <a:cubicBezTo>
                  <a:pt x="17462" y="10889"/>
                  <a:pt x="17462" y="10881"/>
                  <a:pt x="17462" y="10864"/>
                </a:cubicBezTo>
                <a:cubicBezTo>
                  <a:pt x="17462" y="10899"/>
                  <a:pt x="17440" y="11000"/>
                  <a:pt x="17487" y="11013"/>
                </a:cubicBezTo>
                <a:cubicBezTo>
                  <a:pt x="17577" y="11038"/>
                  <a:pt x="17673" y="11002"/>
                  <a:pt x="17735" y="10939"/>
                </a:cubicBezTo>
              </a:path>
              <a:path w="4541" h="2507">
                <a:moveTo>
                  <a:pt x="17686" y="10790"/>
                </a:moveTo>
                <a:cubicBezTo>
                  <a:pt x="17686" y="10910"/>
                  <a:pt x="17737" y="11018"/>
                  <a:pt x="17760" y="11137"/>
                </a:cubicBezTo>
                <a:cubicBezTo>
                  <a:pt x="17760" y="11145"/>
                  <a:pt x="17760" y="11154"/>
                  <a:pt x="17760" y="11162"/>
                </a:cubicBezTo>
              </a:path>
              <a:path w="4541" h="2507">
                <a:moveTo>
                  <a:pt x="17909" y="10840"/>
                </a:moveTo>
                <a:cubicBezTo>
                  <a:pt x="17896" y="10941"/>
                  <a:pt x="17891" y="11187"/>
                  <a:pt x="18083" y="11063"/>
                </a:cubicBezTo>
                <a:cubicBezTo>
                  <a:pt x="18181" y="11000"/>
                  <a:pt x="18160" y="10825"/>
                  <a:pt x="18033" y="10840"/>
                </a:cubicBezTo>
                <a:cubicBezTo>
                  <a:pt x="18008" y="10848"/>
                  <a:pt x="17984" y="10856"/>
                  <a:pt x="17959" y="10864"/>
                </a:cubicBezTo>
              </a:path>
              <a:path w="4541" h="2507">
                <a:moveTo>
                  <a:pt x="18703" y="10815"/>
                </a:moveTo>
                <a:cubicBezTo>
                  <a:pt x="18745" y="10801"/>
                  <a:pt x="18728" y="10702"/>
                  <a:pt x="18728" y="10840"/>
                </a:cubicBezTo>
                <a:cubicBezTo>
                  <a:pt x="18728" y="10979"/>
                  <a:pt x="18719" y="11116"/>
                  <a:pt x="18901" y="11112"/>
                </a:cubicBezTo>
                <a:cubicBezTo>
                  <a:pt x="19043" y="11109"/>
                  <a:pt x="19068" y="11068"/>
                  <a:pt x="19124" y="10964"/>
                </a:cubicBezTo>
                <a:cubicBezTo>
                  <a:pt x="19077" y="10893"/>
                  <a:pt x="18990" y="10973"/>
                  <a:pt x="18951" y="11038"/>
                </a:cubicBezTo>
                <a:cubicBezTo>
                  <a:pt x="18913" y="11102"/>
                  <a:pt x="19060" y="11027"/>
                  <a:pt x="19124" y="10988"/>
                </a:cubicBezTo>
              </a:path>
              <a:path w="4541" h="2507">
                <a:moveTo>
                  <a:pt x="19298" y="10740"/>
                </a:moveTo>
                <a:cubicBezTo>
                  <a:pt x="19247" y="10757"/>
                  <a:pt x="19188" y="10924"/>
                  <a:pt x="19199" y="10988"/>
                </a:cubicBezTo>
                <a:cubicBezTo>
                  <a:pt x="19215" y="11005"/>
                  <a:pt x="19232" y="11021"/>
                  <a:pt x="19248" y="11038"/>
                </a:cubicBezTo>
                <a:cubicBezTo>
                  <a:pt x="19322" y="11025"/>
                  <a:pt x="19665" y="10902"/>
                  <a:pt x="19472" y="10765"/>
                </a:cubicBezTo>
                <a:cubicBezTo>
                  <a:pt x="19365" y="10743"/>
                  <a:pt x="19341" y="10735"/>
                  <a:pt x="19273" y="10740"/>
                </a:cubicBezTo>
              </a:path>
              <a:path w="4541" h="2507">
                <a:moveTo>
                  <a:pt x="19745" y="10368"/>
                </a:moveTo>
                <a:cubicBezTo>
                  <a:pt x="19745" y="10410"/>
                  <a:pt x="19745" y="10418"/>
                  <a:pt x="19745" y="10443"/>
                </a:cubicBezTo>
              </a:path>
              <a:path w="4541" h="2507">
                <a:moveTo>
                  <a:pt x="20191" y="9922"/>
                </a:moveTo>
                <a:cubicBezTo>
                  <a:pt x="20177" y="10037"/>
                  <a:pt x="20139" y="10177"/>
                  <a:pt x="20166" y="10294"/>
                </a:cubicBezTo>
                <a:cubicBezTo>
                  <a:pt x="20202" y="10452"/>
                  <a:pt x="20407" y="10265"/>
                  <a:pt x="20439" y="10220"/>
                </a:cubicBezTo>
                <a:cubicBezTo>
                  <a:pt x="20495" y="10142"/>
                  <a:pt x="20387" y="10108"/>
                  <a:pt x="20340" y="10145"/>
                </a:cubicBezTo>
                <a:cubicBezTo>
                  <a:pt x="20247" y="10217"/>
                  <a:pt x="20334" y="10250"/>
                  <a:pt x="20389" y="10244"/>
                </a:cubicBezTo>
              </a:path>
              <a:path w="4541" h="2507">
                <a:moveTo>
                  <a:pt x="20762" y="9947"/>
                </a:moveTo>
                <a:cubicBezTo>
                  <a:pt x="20686" y="9909"/>
                  <a:pt x="20630" y="10043"/>
                  <a:pt x="20613" y="10120"/>
                </a:cubicBezTo>
                <a:cubicBezTo>
                  <a:pt x="20613" y="10153"/>
                  <a:pt x="20613" y="10187"/>
                  <a:pt x="20613" y="10220"/>
                </a:cubicBezTo>
                <a:cubicBezTo>
                  <a:pt x="20726" y="10248"/>
                  <a:pt x="21020" y="10196"/>
                  <a:pt x="20886" y="9971"/>
                </a:cubicBezTo>
                <a:cubicBezTo>
                  <a:pt x="20815" y="9852"/>
                  <a:pt x="20683" y="9900"/>
                  <a:pt x="20588" y="9922"/>
                </a:cubicBezTo>
              </a:path>
              <a:path w="4541" h="2507">
                <a:moveTo>
                  <a:pt x="19918" y="11212"/>
                </a:moveTo>
                <a:cubicBezTo>
                  <a:pt x="20057" y="11165"/>
                  <a:pt x="20139" y="11113"/>
                  <a:pt x="20265" y="11038"/>
                </a:cubicBezTo>
                <a:cubicBezTo>
                  <a:pt x="20502" y="10897"/>
                  <a:pt x="20724" y="10764"/>
                  <a:pt x="20935" y="10592"/>
                </a:cubicBezTo>
                <a:cubicBezTo>
                  <a:pt x="21043" y="10504"/>
                  <a:pt x="21125" y="10404"/>
                  <a:pt x="21208" y="10294"/>
                </a:cubicBezTo>
                <a:cubicBezTo>
                  <a:pt x="21290" y="10185"/>
                  <a:pt x="21307" y="10129"/>
                  <a:pt x="21307" y="9996"/>
                </a:cubicBezTo>
                <a:cubicBezTo>
                  <a:pt x="21307" y="9906"/>
                  <a:pt x="21342" y="9830"/>
                  <a:pt x="21307" y="9748"/>
                </a:cubicBezTo>
                <a:cubicBezTo>
                  <a:pt x="21299" y="9729"/>
                  <a:pt x="21218" y="9664"/>
                  <a:pt x="21183" y="9649"/>
                </a:cubicBezTo>
                <a:cubicBezTo>
                  <a:pt x="21046" y="9591"/>
                  <a:pt x="20878" y="9582"/>
                  <a:pt x="20737" y="9624"/>
                </a:cubicBezTo>
                <a:cubicBezTo>
                  <a:pt x="20593" y="9667"/>
                  <a:pt x="20456" y="9722"/>
                  <a:pt x="20315" y="9773"/>
                </a:cubicBezTo>
                <a:cubicBezTo>
                  <a:pt x="20221" y="9807"/>
                  <a:pt x="20170" y="9841"/>
                  <a:pt x="20092" y="9897"/>
                </a:cubicBezTo>
                <a:cubicBezTo>
                  <a:pt x="19988" y="9972"/>
                  <a:pt x="19943" y="10067"/>
                  <a:pt x="19869" y="10170"/>
                </a:cubicBezTo>
                <a:cubicBezTo>
                  <a:pt x="19815" y="10244"/>
                  <a:pt x="19761" y="10330"/>
                  <a:pt x="19670" y="10368"/>
                </a:cubicBezTo>
                <a:cubicBezTo>
                  <a:pt x="19577" y="10407"/>
                  <a:pt x="19465" y="10414"/>
                  <a:pt x="19372" y="10443"/>
                </a:cubicBezTo>
                <a:cubicBezTo>
                  <a:pt x="19262" y="10477"/>
                  <a:pt x="19177" y="10544"/>
                  <a:pt x="19075" y="10592"/>
                </a:cubicBezTo>
                <a:cubicBezTo>
                  <a:pt x="18982" y="10635"/>
                  <a:pt x="18895" y="10647"/>
                  <a:pt x="18802" y="10691"/>
                </a:cubicBezTo>
                <a:cubicBezTo>
                  <a:pt x="18714" y="10733"/>
                  <a:pt x="18671" y="10734"/>
                  <a:pt x="18604" y="10790"/>
                </a:cubicBezTo>
                <a:cubicBezTo>
                  <a:pt x="18551" y="10835"/>
                  <a:pt x="18483" y="10893"/>
                  <a:pt x="18455" y="10964"/>
                </a:cubicBezTo>
                <a:cubicBezTo>
                  <a:pt x="18431" y="11025"/>
                  <a:pt x="18462" y="11099"/>
                  <a:pt x="18504" y="11137"/>
                </a:cubicBezTo>
                <a:cubicBezTo>
                  <a:pt x="18577" y="11203"/>
                  <a:pt x="18733" y="11226"/>
                  <a:pt x="18827" y="11237"/>
                </a:cubicBezTo>
                <a:cubicBezTo>
                  <a:pt x="18922" y="11248"/>
                  <a:pt x="19009" y="11226"/>
                  <a:pt x="19100" y="11212"/>
                </a:cubicBezTo>
                <a:cubicBezTo>
                  <a:pt x="19198" y="11197"/>
                  <a:pt x="19300" y="11203"/>
                  <a:pt x="19397" y="11187"/>
                </a:cubicBezTo>
                <a:cubicBezTo>
                  <a:pt x="19463" y="11176"/>
                  <a:pt x="19527" y="11145"/>
                  <a:pt x="19596" y="11137"/>
                </a:cubicBezTo>
                <a:cubicBezTo>
                  <a:pt x="19768" y="11116"/>
                  <a:pt x="19900" y="11094"/>
                  <a:pt x="20067" y="11038"/>
                </a:cubicBezTo>
                <a:cubicBezTo>
                  <a:pt x="20100" y="11027"/>
                  <a:pt x="20190" y="11010"/>
                  <a:pt x="20216" y="10988"/>
                </a:cubicBezTo>
                <a:cubicBezTo>
                  <a:pt x="20259" y="10988"/>
                  <a:pt x="20272" y="10971"/>
                  <a:pt x="20265" y="10914"/>
                </a:cubicBezTo>
              </a:path>
              <a:path w="4541" h="2507">
                <a:moveTo>
                  <a:pt x="21134" y="8731"/>
                </a:moveTo>
                <a:cubicBezTo>
                  <a:pt x="21134" y="8885"/>
                  <a:pt x="21058" y="9006"/>
                  <a:pt x="21034" y="9153"/>
                </a:cubicBezTo>
                <a:cubicBezTo>
                  <a:pt x="21034" y="9194"/>
                  <a:pt x="21034" y="9236"/>
                  <a:pt x="21034" y="9277"/>
                </a:cubicBezTo>
                <a:cubicBezTo>
                  <a:pt x="21295" y="9315"/>
                  <a:pt x="21357" y="9226"/>
                  <a:pt x="21506" y="9029"/>
                </a:cubicBezTo>
                <a:cubicBezTo>
                  <a:pt x="21462" y="9039"/>
                  <a:pt x="21043" y="9275"/>
                  <a:pt x="21208" y="9351"/>
                </a:cubicBezTo>
                <a:cubicBezTo>
                  <a:pt x="21249" y="9343"/>
                  <a:pt x="21291" y="9335"/>
                  <a:pt x="21332" y="9327"/>
                </a:cubicBezTo>
              </a:path>
              <a:path w="4541" h="2507">
                <a:moveTo>
                  <a:pt x="21654" y="8781"/>
                </a:moveTo>
                <a:cubicBezTo>
                  <a:pt x="21526" y="8961"/>
                  <a:pt x="21506" y="8990"/>
                  <a:pt x="21506" y="9203"/>
                </a:cubicBezTo>
                <a:cubicBezTo>
                  <a:pt x="21720" y="9280"/>
                  <a:pt x="22022" y="9277"/>
                  <a:pt x="22002" y="8930"/>
                </a:cubicBezTo>
                <a:cubicBezTo>
                  <a:pt x="21989" y="8693"/>
                  <a:pt x="21662" y="8797"/>
                  <a:pt x="2153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97000" y="5133960"/>
            <a:ext cx="936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3324" y="14263"/>
                </a:moveTo>
                <a:lnTo>
                  <a:pt x="3324" y="14263"/>
                </a:lnTo>
              </a:path>
              <a:path w="26" h="298">
                <a:moveTo>
                  <a:pt x="3349" y="14560"/>
                </a:moveTo>
                <a:lnTo>
                  <a:pt x="3349" y="14560"/>
                </a:lnTo>
                <a:lnTo>
                  <a:pt x="3349" y="14560"/>
                </a:lnTo>
                <a:lnTo>
                  <a:pt x="3349" y="14560"/>
                </a:lnTo>
              </a:path>
              <a:path w="26" h="298">
                <a:moveTo>
                  <a:pt x="3349" y="14560"/>
                </a:moveTo>
                <a:lnTo>
                  <a:pt x="3349" y="145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5000" y="5106960"/>
            <a:ext cx="608040" cy="411120"/>
          </a:xfrm>
          <a:custGeom>
            <a:avLst/>
            <a:gdLst/>
            <a:ahLst/>
            <a:rect l="l" t="t" r="r" b="b"/>
            <a:pathLst>
              <a:path w="1688" h="1142">
                <a:moveTo>
                  <a:pt x="2952" y="14213"/>
                </a:moveTo>
                <a:cubicBezTo>
                  <a:pt x="2991" y="14203"/>
                  <a:pt x="3006" y="14188"/>
                  <a:pt x="3051" y="14188"/>
                </a:cubicBezTo>
                <a:cubicBezTo>
                  <a:pt x="3083" y="14188"/>
                  <a:pt x="3095" y="14205"/>
                  <a:pt x="3125" y="14213"/>
                </a:cubicBezTo>
                <a:cubicBezTo>
                  <a:pt x="3113" y="14263"/>
                  <a:pt x="3084" y="14320"/>
                  <a:pt x="3026" y="14337"/>
                </a:cubicBezTo>
                <a:cubicBezTo>
                  <a:pt x="2985" y="14337"/>
                  <a:pt x="2977" y="14337"/>
                  <a:pt x="2952" y="14337"/>
                </a:cubicBezTo>
                <a:cubicBezTo>
                  <a:pt x="3005" y="14337"/>
                  <a:pt x="3187" y="14348"/>
                  <a:pt x="3200" y="14412"/>
                </a:cubicBezTo>
                <a:cubicBezTo>
                  <a:pt x="3228" y="14550"/>
                  <a:pt x="2980" y="14648"/>
                  <a:pt x="2877" y="14610"/>
                </a:cubicBezTo>
                <a:cubicBezTo>
                  <a:pt x="2877" y="14602"/>
                  <a:pt x="2877" y="14593"/>
                  <a:pt x="2877" y="14585"/>
                </a:cubicBezTo>
              </a:path>
              <a:path w="1688" h="1142">
                <a:moveTo>
                  <a:pt x="3175" y="14957"/>
                </a:moveTo>
                <a:cubicBezTo>
                  <a:pt x="3111" y="14957"/>
                  <a:pt x="3053" y="14942"/>
                  <a:pt x="3026" y="14982"/>
                </a:cubicBezTo>
                <a:cubicBezTo>
                  <a:pt x="2979" y="15053"/>
                  <a:pt x="2962" y="15077"/>
                  <a:pt x="2952" y="15156"/>
                </a:cubicBezTo>
                <a:cubicBezTo>
                  <a:pt x="3013" y="15156"/>
                  <a:pt x="3235" y="15112"/>
                  <a:pt x="3249" y="15205"/>
                </a:cubicBezTo>
                <a:cubicBezTo>
                  <a:pt x="3270" y="15346"/>
                  <a:pt x="3088" y="15311"/>
                  <a:pt x="3026" y="15304"/>
                </a:cubicBezTo>
                <a:cubicBezTo>
                  <a:pt x="2993" y="15304"/>
                  <a:pt x="2985" y="15296"/>
                  <a:pt x="3001" y="15255"/>
                </a:cubicBezTo>
              </a:path>
              <a:path w="1688" h="1142">
                <a:moveTo>
                  <a:pt x="3646" y="14238"/>
                </a:moveTo>
                <a:cubicBezTo>
                  <a:pt x="3693" y="14210"/>
                  <a:pt x="3841" y="14164"/>
                  <a:pt x="3820" y="14288"/>
                </a:cubicBezTo>
                <a:cubicBezTo>
                  <a:pt x="3809" y="14352"/>
                  <a:pt x="3722" y="14399"/>
                  <a:pt x="3671" y="14412"/>
                </a:cubicBezTo>
                <a:cubicBezTo>
                  <a:pt x="3740" y="14412"/>
                  <a:pt x="3812" y="14438"/>
                  <a:pt x="3770" y="14536"/>
                </a:cubicBezTo>
                <a:cubicBezTo>
                  <a:pt x="3723" y="14646"/>
                  <a:pt x="3630" y="14618"/>
                  <a:pt x="3547" y="14610"/>
                </a:cubicBezTo>
                <a:cubicBezTo>
                  <a:pt x="3539" y="14610"/>
                  <a:pt x="3530" y="14610"/>
                  <a:pt x="3522" y="14610"/>
                </a:cubicBezTo>
              </a:path>
              <a:path w="1688" h="1142">
                <a:moveTo>
                  <a:pt x="4192" y="14213"/>
                </a:moveTo>
                <a:cubicBezTo>
                  <a:pt x="4234" y="14296"/>
                  <a:pt x="4196" y="14366"/>
                  <a:pt x="4192" y="14461"/>
                </a:cubicBezTo>
                <a:cubicBezTo>
                  <a:pt x="4188" y="14568"/>
                  <a:pt x="4255" y="14605"/>
                  <a:pt x="4366" y="14585"/>
                </a:cubicBezTo>
                <a:cubicBezTo>
                  <a:pt x="4479" y="14564"/>
                  <a:pt x="4478" y="14549"/>
                  <a:pt x="4539" y="14461"/>
                </a:cubicBezTo>
                <a:cubicBezTo>
                  <a:pt x="4547" y="14453"/>
                  <a:pt x="4556" y="14444"/>
                  <a:pt x="4564" y="14436"/>
                </a:cubicBezTo>
                <a:cubicBezTo>
                  <a:pt x="4532" y="14413"/>
                  <a:pt x="4485" y="14372"/>
                  <a:pt x="4440" y="14387"/>
                </a:cubicBezTo>
                <a:cubicBezTo>
                  <a:pt x="4406" y="14398"/>
                  <a:pt x="4352" y="14483"/>
                  <a:pt x="4341" y="14511"/>
                </a:cubicBezTo>
                <a:cubicBezTo>
                  <a:pt x="4341" y="14536"/>
                  <a:pt x="4341" y="14544"/>
                  <a:pt x="4366" y="14536"/>
                </a:cubicBezTo>
              </a:path>
              <a:path w="1688" h="1142">
                <a:moveTo>
                  <a:pt x="4118" y="14932"/>
                </a:moveTo>
                <a:cubicBezTo>
                  <a:pt x="4044" y="14918"/>
                  <a:pt x="3958" y="14881"/>
                  <a:pt x="3919" y="14932"/>
                </a:cubicBezTo>
                <a:cubicBezTo>
                  <a:pt x="3883" y="14979"/>
                  <a:pt x="3877" y="14997"/>
                  <a:pt x="3870" y="15056"/>
                </a:cubicBezTo>
                <a:cubicBezTo>
                  <a:pt x="3923" y="15056"/>
                  <a:pt x="4113" y="15037"/>
                  <a:pt x="4118" y="15131"/>
                </a:cubicBezTo>
                <a:cubicBezTo>
                  <a:pt x="4126" y="15287"/>
                  <a:pt x="3931" y="15265"/>
                  <a:pt x="3845" y="15255"/>
                </a:cubicBezTo>
                <a:cubicBezTo>
                  <a:pt x="3837" y="15255"/>
                  <a:pt x="3828" y="15255"/>
                  <a:pt x="3820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81160" y="5099040"/>
            <a:ext cx="214200" cy="115920"/>
          </a:xfrm>
          <a:custGeom>
            <a:avLst/>
            <a:gdLst/>
            <a:ahLst/>
            <a:rect l="l" t="t" r="r" b="b"/>
            <a:pathLst>
              <a:path w="597" h="324">
                <a:moveTo>
                  <a:pt x="5779" y="14213"/>
                </a:moveTo>
                <a:cubicBezTo>
                  <a:pt x="5779" y="14304"/>
                  <a:pt x="5779" y="14395"/>
                  <a:pt x="5779" y="14486"/>
                </a:cubicBezTo>
              </a:path>
              <a:path w="597" h="324">
                <a:moveTo>
                  <a:pt x="6077" y="14163"/>
                </a:moveTo>
                <a:cubicBezTo>
                  <a:pt x="6160" y="14180"/>
                  <a:pt x="6238" y="14173"/>
                  <a:pt x="6300" y="14238"/>
                </a:cubicBezTo>
                <a:cubicBezTo>
                  <a:pt x="6344" y="14303"/>
                  <a:pt x="6355" y="14317"/>
                  <a:pt x="6375" y="14362"/>
                </a:cubicBezTo>
                <a:cubicBezTo>
                  <a:pt x="6289" y="14462"/>
                  <a:pt x="6228" y="14432"/>
                  <a:pt x="6102" y="14412"/>
                </a:cubicBezTo>
                <a:cubicBezTo>
                  <a:pt x="6094" y="14412"/>
                  <a:pt x="6085" y="14412"/>
                  <a:pt x="6077" y="14412"/>
                </a:cubicBezTo>
                <a:cubicBezTo>
                  <a:pt x="6131" y="14331"/>
                  <a:pt x="6128" y="14349"/>
                  <a:pt x="6226" y="14362"/>
                </a:cubicBezTo>
                <a:cubicBezTo>
                  <a:pt x="6286" y="14370"/>
                  <a:pt x="6296" y="14415"/>
                  <a:pt x="6325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4964040"/>
            <a:ext cx="1446120" cy="644760"/>
          </a:xfrm>
          <a:custGeom>
            <a:avLst/>
            <a:gdLst/>
            <a:ahLst/>
            <a:rect l="l" t="t" r="r" b="b"/>
            <a:pathLst>
              <a:path w="4019" h="1787">
                <a:moveTo>
                  <a:pt x="4762" y="14610"/>
                </a:moveTo>
                <a:cubicBezTo>
                  <a:pt x="4762" y="14618"/>
                  <a:pt x="4762" y="14627"/>
                  <a:pt x="4762" y="14635"/>
                </a:cubicBezTo>
              </a:path>
              <a:path w="4019" h="1787">
                <a:moveTo>
                  <a:pt x="5209" y="14312"/>
                </a:moveTo>
                <a:cubicBezTo>
                  <a:pt x="5230" y="14305"/>
                  <a:pt x="5266" y="14234"/>
                  <a:pt x="5234" y="14213"/>
                </a:cubicBezTo>
                <a:cubicBezTo>
                  <a:pt x="5126" y="14141"/>
                  <a:pt x="5067" y="14242"/>
                  <a:pt x="5035" y="14337"/>
                </a:cubicBezTo>
                <a:cubicBezTo>
                  <a:pt x="5035" y="14354"/>
                  <a:pt x="5035" y="14370"/>
                  <a:pt x="5035" y="14387"/>
                </a:cubicBezTo>
                <a:cubicBezTo>
                  <a:pt x="5163" y="14375"/>
                  <a:pt x="5197" y="14350"/>
                  <a:pt x="5259" y="14238"/>
                </a:cubicBezTo>
                <a:cubicBezTo>
                  <a:pt x="5259" y="14298"/>
                  <a:pt x="5259" y="14585"/>
                  <a:pt x="5259" y="14560"/>
                </a:cubicBezTo>
              </a:path>
              <a:path w="4019" h="1787">
                <a:moveTo>
                  <a:pt x="5482" y="14486"/>
                </a:moveTo>
                <a:cubicBezTo>
                  <a:pt x="5482" y="14538"/>
                  <a:pt x="5483" y="14556"/>
                  <a:pt x="5507" y="14585"/>
                </a:cubicBezTo>
              </a:path>
              <a:path w="4019" h="1787">
                <a:moveTo>
                  <a:pt x="5507" y="14585"/>
                </a:moveTo>
                <a:lnTo>
                  <a:pt x="5507" y="14585"/>
                </a:lnTo>
              </a:path>
              <a:path w="4019" h="1787">
                <a:moveTo>
                  <a:pt x="6548" y="14461"/>
                </a:moveTo>
                <a:cubicBezTo>
                  <a:pt x="6572" y="14509"/>
                  <a:pt x="6580" y="14523"/>
                  <a:pt x="6573" y="14560"/>
                </a:cubicBezTo>
              </a:path>
              <a:path w="4019" h="1787">
                <a:moveTo>
                  <a:pt x="6573" y="14560"/>
                </a:moveTo>
                <a:lnTo>
                  <a:pt x="6573" y="14560"/>
                </a:lnTo>
              </a:path>
              <a:path w="4019" h="1787">
                <a:moveTo>
                  <a:pt x="6821" y="14188"/>
                </a:moveTo>
                <a:cubicBezTo>
                  <a:pt x="6859" y="14283"/>
                  <a:pt x="6871" y="14359"/>
                  <a:pt x="6871" y="14461"/>
                </a:cubicBezTo>
                <a:cubicBezTo>
                  <a:pt x="6871" y="14453"/>
                  <a:pt x="6871" y="14444"/>
                  <a:pt x="6871" y="14436"/>
                </a:cubicBezTo>
              </a:path>
              <a:path w="4019" h="1787">
                <a:moveTo>
                  <a:pt x="7293" y="14163"/>
                </a:moveTo>
                <a:cubicBezTo>
                  <a:pt x="7253" y="14171"/>
                  <a:pt x="7200" y="14192"/>
                  <a:pt x="7169" y="14213"/>
                </a:cubicBezTo>
                <a:cubicBezTo>
                  <a:pt x="7146" y="14236"/>
                  <a:pt x="7142" y="14244"/>
                  <a:pt x="7119" y="14238"/>
                </a:cubicBezTo>
                <a:cubicBezTo>
                  <a:pt x="7137" y="14291"/>
                  <a:pt x="7256" y="14257"/>
                  <a:pt x="7317" y="14288"/>
                </a:cubicBezTo>
                <a:cubicBezTo>
                  <a:pt x="7367" y="14337"/>
                  <a:pt x="7384" y="14354"/>
                  <a:pt x="7417" y="14387"/>
                </a:cubicBezTo>
                <a:cubicBezTo>
                  <a:pt x="7347" y="14455"/>
                  <a:pt x="7277" y="14436"/>
                  <a:pt x="7169" y="14436"/>
                </a:cubicBezTo>
                <a:cubicBezTo>
                  <a:pt x="7161" y="14436"/>
                  <a:pt x="7152" y="14436"/>
                  <a:pt x="7144" y="14436"/>
                </a:cubicBezTo>
              </a:path>
              <a:path w="4019" h="1787">
                <a:moveTo>
                  <a:pt x="7293" y="14188"/>
                </a:moveTo>
                <a:cubicBezTo>
                  <a:pt x="7367" y="14188"/>
                  <a:pt x="7458" y="14169"/>
                  <a:pt x="7516" y="14213"/>
                </a:cubicBezTo>
              </a:path>
              <a:path w="4019" h="1787">
                <a:moveTo>
                  <a:pt x="4192" y="15230"/>
                </a:moveTo>
                <a:cubicBezTo>
                  <a:pt x="4215" y="15297"/>
                  <a:pt x="4226" y="15315"/>
                  <a:pt x="4192" y="15354"/>
                </a:cubicBezTo>
              </a:path>
              <a:path w="4019" h="1787">
                <a:moveTo>
                  <a:pt x="4192" y="15354"/>
                </a:moveTo>
                <a:lnTo>
                  <a:pt x="4192" y="15354"/>
                </a:lnTo>
              </a:path>
              <a:path w="4019" h="1787">
                <a:moveTo>
                  <a:pt x="4440" y="15007"/>
                </a:moveTo>
                <a:cubicBezTo>
                  <a:pt x="4507" y="15029"/>
                  <a:pt x="4483" y="15141"/>
                  <a:pt x="4465" y="15205"/>
                </a:cubicBezTo>
                <a:cubicBezTo>
                  <a:pt x="4457" y="15222"/>
                  <a:pt x="4448" y="15238"/>
                  <a:pt x="4440" y="15255"/>
                </a:cubicBezTo>
              </a:path>
              <a:path w="4019" h="1787">
                <a:moveTo>
                  <a:pt x="4762" y="15007"/>
                </a:moveTo>
                <a:cubicBezTo>
                  <a:pt x="4690" y="15064"/>
                  <a:pt x="4543" y="15188"/>
                  <a:pt x="4688" y="15255"/>
                </a:cubicBezTo>
                <a:cubicBezTo>
                  <a:pt x="4838" y="15325"/>
                  <a:pt x="4946" y="15187"/>
                  <a:pt x="4911" y="15056"/>
                </a:cubicBezTo>
                <a:cubicBezTo>
                  <a:pt x="4895" y="14996"/>
                  <a:pt x="4864" y="14992"/>
                  <a:pt x="4812" y="14982"/>
                </a:cubicBezTo>
              </a:path>
              <a:path w="4019" h="1787">
                <a:moveTo>
                  <a:pt x="5209" y="15304"/>
                </a:moveTo>
                <a:cubicBezTo>
                  <a:pt x="5190" y="15373"/>
                  <a:pt x="5184" y="15408"/>
                  <a:pt x="5184" y="15478"/>
                </a:cubicBezTo>
              </a:path>
              <a:path w="4019" h="1787">
                <a:moveTo>
                  <a:pt x="5556" y="14982"/>
                </a:moveTo>
                <a:cubicBezTo>
                  <a:pt x="5556" y="15065"/>
                  <a:pt x="5556" y="15147"/>
                  <a:pt x="5556" y="15230"/>
                </a:cubicBezTo>
              </a:path>
              <a:path w="4019" h="1787">
                <a:moveTo>
                  <a:pt x="5804" y="14982"/>
                </a:moveTo>
                <a:cubicBezTo>
                  <a:pt x="5727" y="14956"/>
                  <a:pt x="5807" y="14976"/>
                  <a:pt x="5755" y="15032"/>
                </a:cubicBezTo>
                <a:cubicBezTo>
                  <a:pt x="5738" y="15040"/>
                  <a:pt x="5722" y="15048"/>
                  <a:pt x="5705" y="15056"/>
                </a:cubicBezTo>
                <a:cubicBezTo>
                  <a:pt x="5790" y="15099"/>
                  <a:pt x="5907" y="15085"/>
                  <a:pt x="6003" y="15131"/>
                </a:cubicBezTo>
                <a:cubicBezTo>
                  <a:pt x="6011" y="15139"/>
                  <a:pt x="6020" y="15148"/>
                  <a:pt x="6028" y="15156"/>
                </a:cubicBezTo>
                <a:cubicBezTo>
                  <a:pt x="5989" y="15245"/>
                  <a:pt x="5927" y="15247"/>
                  <a:pt x="5829" y="15205"/>
                </a:cubicBezTo>
              </a:path>
              <a:path w="4019" h="1787">
                <a:moveTo>
                  <a:pt x="5978" y="14932"/>
                </a:moveTo>
                <a:cubicBezTo>
                  <a:pt x="6044" y="14932"/>
                  <a:pt x="6110" y="14932"/>
                  <a:pt x="6176" y="14932"/>
                </a:cubicBezTo>
              </a:path>
              <a:path w="4019" h="1787">
                <a:moveTo>
                  <a:pt x="5507" y="15379"/>
                </a:moveTo>
                <a:cubicBezTo>
                  <a:pt x="5601" y="15397"/>
                  <a:pt x="5718" y="15417"/>
                  <a:pt x="5829" y="15404"/>
                </a:cubicBezTo>
                <a:cubicBezTo>
                  <a:pt x="6077" y="15376"/>
                  <a:pt x="6308" y="15244"/>
                  <a:pt x="6524" y="15131"/>
                </a:cubicBezTo>
                <a:cubicBezTo>
                  <a:pt x="6706" y="15036"/>
                  <a:pt x="6886" y="14947"/>
                  <a:pt x="7069" y="14858"/>
                </a:cubicBezTo>
                <a:cubicBezTo>
                  <a:pt x="7207" y="14791"/>
                  <a:pt x="7348" y="14744"/>
                  <a:pt x="7491" y="14684"/>
                </a:cubicBezTo>
                <a:cubicBezTo>
                  <a:pt x="7566" y="14653"/>
                  <a:pt x="7697" y="14610"/>
                  <a:pt x="7764" y="14560"/>
                </a:cubicBezTo>
                <a:cubicBezTo>
                  <a:pt x="7856" y="14492"/>
                  <a:pt x="7950" y="14414"/>
                  <a:pt x="8037" y="14337"/>
                </a:cubicBezTo>
                <a:cubicBezTo>
                  <a:pt x="8129" y="14254"/>
                  <a:pt x="8146" y="14214"/>
                  <a:pt x="8186" y="14114"/>
                </a:cubicBezTo>
                <a:cubicBezTo>
                  <a:pt x="8228" y="14009"/>
                  <a:pt x="8185" y="13940"/>
                  <a:pt x="8111" y="13866"/>
                </a:cubicBezTo>
                <a:cubicBezTo>
                  <a:pt x="7998" y="13753"/>
                  <a:pt x="7807" y="13791"/>
                  <a:pt x="7665" y="13791"/>
                </a:cubicBezTo>
                <a:cubicBezTo>
                  <a:pt x="7537" y="13791"/>
                  <a:pt x="7400" y="13844"/>
                  <a:pt x="7293" y="13915"/>
                </a:cubicBezTo>
                <a:cubicBezTo>
                  <a:pt x="7226" y="13960"/>
                  <a:pt x="7166" y="14001"/>
                  <a:pt x="7094" y="14039"/>
                </a:cubicBezTo>
                <a:cubicBezTo>
                  <a:pt x="7015" y="14080"/>
                  <a:pt x="6928" y="14124"/>
                  <a:pt x="6846" y="14163"/>
                </a:cubicBezTo>
                <a:cubicBezTo>
                  <a:pt x="6756" y="14205"/>
                  <a:pt x="6718" y="14265"/>
                  <a:pt x="6648" y="14337"/>
                </a:cubicBezTo>
                <a:cubicBezTo>
                  <a:pt x="6571" y="14416"/>
                  <a:pt x="6482" y="14466"/>
                  <a:pt x="6400" y="14536"/>
                </a:cubicBezTo>
                <a:cubicBezTo>
                  <a:pt x="6316" y="14608"/>
                  <a:pt x="6263" y="14703"/>
                  <a:pt x="6152" y="14734"/>
                </a:cubicBezTo>
                <a:cubicBezTo>
                  <a:pt x="5991" y="14779"/>
                  <a:pt x="5821" y="14781"/>
                  <a:pt x="5655" y="14784"/>
                </a:cubicBezTo>
                <a:cubicBezTo>
                  <a:pt x="5564" y="14786"/>
                  <a:pt x="5513" y="14790"/>
                  <a:pt x="5432" y="14833"/>
                </a:cubicBezTo>
                <a:cubicBezTo>
                  <a:pt x="5335" y="14884"/>
                  <a:pt x="5252" y="14950"/>
                  <a:pt x="5209" y="15056"/>
                </a:cubicBezTo>
                <a:cubicBezTo>
                  <a:pt x="5171" y="15150"/>
                  <a:pt x="5204" y="15212"/>
                  <a:pt x="5209" y="15304"/>
                </a:cubicBezTo>
                <a:cubicBezTo>
                  <a:pt x="5213" y="15381"/>
                  <a:pt x="5230" y="15424"/>
                  <a:pt x="5234" y="15503"/>
                </a:cubicBezTo>
                <a:cubicBezTo>
                  <a:pt x="5234" y="15511"/>
                  <a:pt x="5234" y="15520"/>
                  <a:pt x="5234" y="15528"/>
                </a:cubicBezTo>
                <a:cubicBezTo>
                  <a:pt x="5354" y="15554"/>
                  <a:pt x="5506" y="15591"/>
                  <a:pt x="5631" y="15577"/>
                </a:cubicBezTo>
                <a:cubicBezTo>
                  <a:pt x="5725" y="15566"/>
                  <a:pt x="5802" y="15513"/>
                  <a:pt x="5879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0160" y="4633920"/>
            <a:ext cx="241200" cy="196920"/>
          </a:xfrm>
          <a:custGeom>
            <a:avLst/>
            <a:gdLst/>
            <a:ahLst/>
            <a:rect l="l" t="t" r="r" b="b"/>
            <a:pathLst>
              <a:path w="670" h="546">
                <a:moveTo>
                  <a:pt x="8905" y="12874"/>
                </a:moveTo>
                <a:cubicBezTo>
                  <a:pt x="8830" y="12898"/>
                  <a:pt x="8895" y="13123"/>
                  <a:pt x="8880" y="13196"/>
                </a:cubicBezTo>
                <a:cubicBezTo>
                  <a:pt x="8862" y="13284"/>
                  <a:pt x="8784" y="13422"/>
                  <a:pt x="8830" y="13345"/>
                </a:cubicBezTo>
                <a:cubicBezTo>
                  <a:pt x="8855" y="13304"/>
                  <a:pt x="8880" y="13262"/>
                  <a:pt x="8905" y="13221"/>
                </a:cubicBezTo>
              </a:path>
              <a:path w="670" h="546">
                <a:moveTo>
                  <a:pt x="9475" y="12874"/>
                </a:moveTo>
                <a:cubicBezTo>
                  <a:pt x="9419" y="12885"/>
                  <a:pt x="9154" y="12881"/>
                  <a:pt x="9128" y="12898"/>
                </a:cubicBezTo>
                <a:cubicBezTo>
                  <a:pt x="9105" y="12913"/>
                  <a:pt x="9068" y="13039"/>
                  <a:pt x="9054" y="13072"/>
                </a:cubicBezTo>
                <a:cubicBezTo>
                  <a:pt x="9106" y="13125"/>
                  <a:pt x="9271" y="13091"/>
                  <a:pt x="9351" y="13171"/>
                </a:cubicBezTo>
                <a:cubicBezTo>
                  <a:pt x="9553" y="13373"/>
                  <a:pt x="9072" y="13434"/>
                  <a:pt x="8979" y="13419"/>
                </a:cubicBezTo>
                <a:cubicBezTo>
                  <a:pt x="8946" y="13403"/>
                  <a:pt x="8913" y="13386"/>
                  <a:pt x="888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97280" y="5491080"/>
            <a:ext cx="250920" cy="1447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13047" y="15304"/>
                </a:moveTo>
                <a:cubicBezTo>
                  <a:pt x="13065" y="15423"/>
                  <a:pt x="13072" y="15531"/>
                  <a:pt x="13072" y="15652"/>
                </a:cubicBezTo>
              </a:path>
              <a:path w="696" h="398">
                <a:moveTo>
                  <a:pt x="13345" y="15255"/>
                </a:moveTo>
                <a:cubicBezTo>
                  <a:pt x="13421" y="15331"/>
                  <a:pt x="13393" y="15424"/>
                  <a:pt x="13419" y="15528"/>
                </a:cubicBezTo>
                <a:cubicBezTo>
                  <a:pt x="13461" y="15697"/>
                  <a:pt x="13645" y="15551"/>
                  <a:pt x="13742" y="15503"/>
                </a:cubicBezTo>
                <a:cubicBezTo>
                  <a:pt x="13730" y="15460"/>
                  <a:pt x="13641" y="15354"/>
                  <a:pt x="13593" y="15453"/>
                </a:cubicBezTo>
                <a:cubicBezTo>
                  <a:pt x="13505" y="15638"/>
                  <a:pt x="13617" y="15564"/>
                  <a:pt x="13692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82880" y="2241720"/>
            <a:ext cx="6858000" cy="2768400"/>
          </a:xfrm>
          <a:custGeom>
            <a:avLst/>
            <a:gdLst/>
            <a:ahLst/>
            <a:rect l="l" t="t" r="r" b="b"/>
            <a:pathLst>
              <a:path w="19051" h="7690">
                <a:moveTo>
                  <a:pt x="5507" y="9525"/>
                </a:moveTo>
                <a:lnTo>
                  <a:pt x="5507" y="9525"/>
                </a:lnTo>
              </a:path>
              <a:path w="19051" h="7690">
                <a:moveTo>
                  <a:pt x="6276" y="9599"/>
                </a:moveTo>
                <a:cubicBezTo>
                  <a:pt x="6343" y="9566"/>
                  <a:pt x="6436" y="9517"/>
                  <a:pt x="6474" y="9575"/>
                </a:cubicBezTo>
              </a:path>
              <a:path w="19051" h="7690">
                <a:moveTo>
                  <a:pt x="6152" y="9748"/>
                </a:moveTo>
                <a:cubicBezTo>
                  <a:pt x="6343" y="9748"/>
                  <a:pt x="6401" y="9749"/>
                  <a:pt x="6524" y="9723"/>
                </a:cubicBezTo>
              </a:path>
              <a:path w="19051" h="7690">
                <a:moveTo>
                  <a:pt x="6524" y="9723"/>
                </a:moveTo>
                <a:lnTo>
                  <a:pt x="6524" y="9723"/>
                </a:lnTo>
              </a:path>
              <a:path w="19051" h="7690">
                <a:moveTo>
                  <a:pt x="7590" y="9451"/>
                </a:moveTo>
                <a:lnTo>
                  <a:pt x="7590" y="9451"/>
                </a:lnTo>
              </a:path>
              <a:path w="19051" h="7690">
                <a:moveTo>
                  <a:pt x="9327" y="9872"/>
                </a:moveTo>
                <a:lnTo>
                  <a:pt x="9327" y="9872"/>
                </a:lnTo>
              </a:path>
              <a:path w="19051" h="7690">
                <a:moveTo>
                  <a:pt x="8855" y="9426"/>
                </a:moveTo>
                <a:lnTo>
                  <a:pt x="8855" y="9426"/>
                </a:lnTo>
              </a:path>
              <a:path w="19051" h="7690">
                <a:moveTo>
                  <a:pt x="11435" y="9550"/>
                </a:moveTo>
                <a:lnTo>
                  <a:pt x="11435" y="9550"/>
                </a:lnTo>
              </a:path>
              <a:path w="19051" h="7690">
                <a:moveTo>
                  <a:pt x="10765" y="9897"/>
                </a:moveTo>
                <a:cubicBezTo>
                  <a:pt x="10920" y="9845"/>
                  <a:pt x="10976" y="9828"/>
                  <a:pt x="11088" y="9823"/>
                </a:cubicBezTo>
              </a:path>
              <a:path w="19051" h="7690">
                <a:moveTo>
                  <a:pt x="11088" y="9823"/>
                </a:moveTo>
                <a:lnTo>
                  <a:pt x="11088" y="9823"/>
                </a:lnTo>
              </a:path>
              <a:path w="19051" h="7690">
                <a:moveTo>
                  <a:pt x="10840" y="10319"/>
                </a:moveTo>
                <a:cubicBezTo>
                  <a:pt x="11099" y="10242"/>
                  <a:pt x="11363" y="10175"/>
                  <a:pt x="11633" y="10145"/>
                </a:cubicBezTo>
                <a:cubicBezTo>
                  <a:pt x="11658" y="10145"/>
                  <a:pt x="11683" y="10145"/>
                  <a:pt x="11708" y="10145"/>
                </a:cubicBezTo>
              </a:path>
              <a:path w="19051" h="7690">
                <a:moveTo>
                  <a:pt x="12129" y="9203"/>
                </a:moveTo>
                <a:lnTo>
                  <a:pt x="12129" y="9203"/>
                </a:lnTo>
              </a:path>
              <a:path w="19051" h="7690">
                <a:moveTo>
                  <a:pt x="12923" y="8533"/>
                </a:moveTo>
                <a:lnTo>
                  <a:pt x="12923" y="8533"/>
                </a:lnTo>
              </a:path>
              <a:path w="19051" h="7690">
                <a:moveTo>
                  <a:pt x="15032" y="7764"/>
                </a:moveTo>
                <a:lnTo>
                  <a:pt x="15032" y="7764"/>
                </a:lnTo>
              </a:path>
              <a:path w="19051" h="7690">
                <a:moveTo>
                  <a:pt x="14957" y="8434"/>
                </a:moveTo>
                <a:cubicBezTo>
                  <a:pt x="14965" y="8459"/>
                  <a:pt x="14974" y="8483"/>
                  <a:pt x="14982" y="8508"/>
                </a:cubicBezTo>
              </a:path>
              <a:path w="19051" h="7690">
                <a:moveTo>
                  <a:pt x="14982" y="8508"/>
                </a:moveTo>
                <a:lnTo>
                  <a:pt x="14982" y="8508"/>
                </a:lnTo>
              </a:path>
              <a:path w="19051" h="7690">
                <a:moveTo>
                  <a:pt x="17810" y="6300"/>
                </a:moveTo>
                <a:cubicBezTo>
                  <a:pt x="17835" y="6300"/>
                  <a:pt x="17843" y="6300"/>
                  <a:pt x="17835" y="6325"/>
                </a:cubicBezTo>
              </a:path>
              <a:path w="19051" h="7690">
                <a:moveTo>
                  <a:pt x="17884" y="6226"/>
                </a:moveTo>
                <a:cubicBezTo>
                  <a:pt x="17851" y="6286"/>
                  <a:pt x="17823" y="6350"/>
                  <a:pt x="17785" y="6400"/>
                </a:cubicBezTo>
              </a:path>
              <a:path w="19051" h="7690">
                <a:moveTo>
                  <a:pt x="17785" y="6400"/>
                </a:moveTo>
                <a:lnTo>
                  <a:pt x="17785" y="6400"/>
                </a:lnTo>
              </a:path>
              <a:path w="19051" h="7690">
                <a:moveTo>
                  <a:pt x="16966" y="11013"/>
                </a:moveTo>
                <a:lnTo>
                  <a:pt x="16966" y="11013"/>
                </a:lnTo>
              </a:path>
              <a:path w="19051" h="7690">
                <a:moveTo>
                  <a:pt x="15701" y="12626"/>
                </a:moveTo>
                <a:cubicBezTo>
                  <a:pt x="15724" y="12717"/>
                  <a:pt x="15802" y="12707"/>
                  <a:pt x="15875" y="12700"/>
                </a:cubicBezTo>
              </a:path>
              <a:path w="19051" h="7690">
                <a:moveTo>
                  <a:pt x="15875" y="12700"/>
                </a:moveTo>
                <a:lnTo>
                  <a:pt x="15875" y="12700"/>
                </a:lnTo>
              </a:path>
              <a:path w="19051" h="7690">
                <a:moveTo>
                  <a:pt x="16321" y="13593"/>
                </a:moveTo>
                <a:cubicBezTo>
                  <a:pt x="16354" y="13626"/>
                  <a:pt x="16371" y="13626"/>
                  <a:pt x="16396" y="13568"/>
                </a:cubicBezTo>
              </a:path>
              <a:path w="19051" h="7690">
                <a:moveTo>
                  <a:pt x="16396" y="13568"/>
                </a:moveTo>
                <a:lnTo>
                  <a:pt x="16396" y="13568"/>
                </a:lnTo>
              </a:path>
              <a:path w="19051" h="7690">
                <a:moveTo>
                  <a:pt x="16619" y="13419"/>
                </a:moveTo>
                <a:lnTo>
                  <a:pt x="16619" y="13419"/>
                </a:lnTo>
              </a:path>
              <a:path w="19051" h="7690">
                <a:moveTo>
                  <a:pt x="16991" y="13519"/>
                </a:moveTo>
                <a:cubicBezTo>
                  <a:pt x="16983" y="13535"/>
                  <a:pt x="16974" y="13552"/>
                  <a:pt x="16966" y="13568"/>
                </a:cubicBezTo>
              </a:path>
              <a:path w="19051" h="7690">
                <a:moveTo>
                  <a:pt x="19273" y="13171"/>
                </a:moveTo>
                <a:cubicBezTo>
                  <a:pt x="19332" y="13250"/>
                  <a:pt x="19374" y="13283"/>
                  <a:pt x="19472" y="13295"/>
                </a:cubicBezTo>
              </a:path>
              <a:path w="19051" h="7690">
                <a:moveTo>
                  <a:pt x="19472" y="13295"/>
                </a:moveTo>
                <a:lnTo>
                  <a:pt x="19472" y="13295"/>
                </a:lnTo>
              </a:path>
              <a:path w="19051" h="7690">
                <a:moveTo>
                  <a:pt x="16272" y="11683"/>
                </a:moveTo>
                <a:cubicBezTo>
                  <a:pt x="16315" y="11714"/>
                  <a:pt x="16504" y="11864"/>
                  <a:pt x="16545" y="11782"/>
                </a:cubicBezTo>
                <a:cubicBezTo>
                  <a:pt x="16553" y="11749"/>
                  <a:pt x="16562" y="11716"/>
                  <a:pt x="16570" y="11683"/>
                </a:cubicBezTo>
              </a:path>
              <a:path w="19051" h="7690">
                <a:moveTo>
                  <a:pt x="16570" y="11931"/>
                </a:moveTo>
                <a:lnTo>
                  <a:pt x="16570" y="11931"/>
                </a:lnTo>
              </a:path>
              <a:path w="19051" h="7690">
                <a:moveTo>
                  <a:pt x="18033" y="11137"/>
                </a:moveTo>
                <a:cubicBezTo>
                  <a:pt x="18077" y="11192"/>
                  <a:pt x="18096" y="11241"/>
                  <a:pt x="18107" y="11311"/>
                </a:cubicBezTo>
              </a:path>
              <a:path w="19051" h="7690">
                <a:moveTo>
                  <a:pt x="18107" y="11311"/>
                </a:moveTo>
                <a:lnTo>
                  <a:pt x="18107" y="11311"/>
                </a:lnTo>
              </a:path>
              <a:path w="19051" h="7690">
                <a:moveTo>
                  <a:pt x="18033" y="10418"/>
                </a:moveTo>
                <a:lnTo>
                  <a:pt x="18033" y="10418"/>
                </a:lnTo>
              </a:path>
              <a:path w="19051" h="7690">
                <a:moveTo>
                  <a:pt x="21456" y="11559"/>
                </a:moveTo>
                <a:lnTo>
                  <a:pt x="21456" y="11559"/>
                </a:lnTo>
              </a:path>
              <a:path w="19051" h="7690">
                <a:moveTo>
                  <a:pt x="24557" y="10765"/>
                </a:moveTo>
                <a:lnTo>
                  <a:pt x="24557" y="10765"/>
                </a:lnTo>
              </a:path>
              <a:path w="19051" h="7690">
                <a:moveTo>
                  <a:pt x="22200" y="12923"/>
                </a:moveTo>
                <a:lnTo>
                  <a:pt x="22200" y="12923"/>
                </a:lnTo>
              </a:path>
              <a:path w="19051" h="7690">
                <a:moveTo>
                  <a:pt x="22399" y="13915"/>
                </a:moveTo>
                <a:lnTo>
                  <a:pt x="22399" y="13915"/>
                </a:lnTo>
              </a:path>
              <a:path w="19051" h="7690">
                <a:moveTo>
                  <a:pt x="22448" y="12700"/>
                </a:moveTo>
                <a:lnTo>
                  <a:pt x="22448" y="12700"/>
                </a:lnTo>
                <a:lnTo>
                  <a:pt x="22448" y="12700"/>
                </a:lnTo>
              </a:path>
              <a:path w="19051" h="7690">
                <a:moveTo>
                  <a:pt x="22448" y="12700"/>
                </a:moveTo>
                <a:lnTo>
                  <a:pt x="22448" y="12700"/>
                </a:lnTo>
              </a:path>
              <a:path w="19051" h="7690">
                <a:moveTo>
                  <a:pt x="22473" y="12948"/>
                </a:moveTo>
                <a:cubicBezTo>
                  <a:pt x="22473" y="12956"/>
                  <a:pt x="22473" y="12965"/>
                  <a:pt x="22473" y="12973"/>
                </a:cubicBezTo>
              </a:path>
              <a:path w="19051" h="7690">
                <a:moveTo>
                  <a:pt x="22547" y="13568"/>
                </a:moveTo>
                <a:lnTo>
                  <a:pt x="22547" y="13568"/>
                </a:lnTo>
                <a:lnTo>
                  <a:pt x="22547" y="13568"/>
                </a:lnTo>
              </a:path>
              <a:path w="19051" h="7690">
                <a:moveTo>
                  <a:pt x="22547" y="13568"/>
                </a:moveTo>
                <a:lnTo>
                  <a:pt x="22547" y="13568"/>
                </a:lnTo>
              </a:path>
              <a:path w="19051" h="7690">
                <a:moveTo>
                  <a:pt x="22547" y="13841"/>
                </a:moveTo>
                <a:cubicBezTo>
                  <a:pt x="22555" y="13841"/>
                  <a:pt x="22564" y="13841"/>
                  <a:pt x="22572" y="13841"/>
                </a:cubicBezTo>
              </a:path>
              <a:path w="19051" h="7690">
                <a:moveTo>
                  <a:pt x="23093" y="13469"/>
                </a:moveTo>
                <a:lnTo>
                  <a:pt x="23093" y="13469"/>
                </a:lnTo>
              </a:path>
              <a:path w="19051" h="7690">
                <a:moveTo>
                  <a:pt x="24408" y="13345"/>
                </a:moveTo>
                <a:lnTo>
                  <a:pt x="24408" y="133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3205080"/>
            <a:ext cx="544320" cy="295200"/>
          </a:xfrm>
          <a:custGeom>
            <a:avLst/>
            <a:gdLst/>
            <a:ahLst/>
            <a:rect l="l" t="t" r="r" b="b"/>
            <a:pathLst>
              <a:path w="1514" h="819">
                <a:moveTo>
                  <a:pt x="1315" y="9277"/>
                </a:moveTo>
                <a:cubicBezTo>
                  <a:pt x="1315" y="9214"/>
                  <a:pt x="1323" y="9160"/>
                  <a:pt x="1290" y="9103"/>
                </a:cubicBezTo>
                <a:cubicBezTo>
                  <a:pt x="1194" y="8938"/>
                  <a:pt x="945" y="9251"/>
                  <a:pt x="918" y="9302"/>
                </a:cubicBezTo>
                <a:cubicBezTo>
                  <a:pt x="896" y="9410"/>
                  <a:pt x="883" y="9436"/>
                  <a:pt x="918" y="9500"/>
                </a:cubicBezTo>
                <a:cubicBezTo>
                  <a:pt x="1090" y="9430"/>
                  <a:pt x="1318" y="9424"/>
                  <a:pt x="1265" y="9203"/>
                </a:cubicBezTo>
                <a:cubicBezTo>
                  <a:pt x="1260" y="9183"/>
                  <a:pt x="1207" y="9088"/>
                  <a:pt x="1240" y="9153"/>
                </a:cubicBezTo>
                <a:cubicBezTo>
                  <a:pt x="1280" y="9247"/>
                  <a:pt x="1355" y="9363"/>
                  <a:pt x="1414" y="9451"/>
                </a:cubicBezTo>
              </a:path>
              <a:path w="1514" h="819">
                <a:moveTo>
                  <a:pt x="298" y="9599"/>
                </a:moveTo>
                <a:cubicBezTo>
                  <a:pt x="521" y="9744"/>
                  <a:pt x="672" y="9737"/>
                  <a:pt x="943" y="9699"/>
                </a:cubicBezTo>
                <a:cubicBezTo>
                  <a:pt x="1227" y="9659"/>
                  <a:pt x="1515" y="9599"/>
                  <a:pt x="1736" y="9401"/>
                </a:cubicBezTo>
                <a:cubicBezTo>
                  <a:pt x="1761" y="9368"/>
                  <a:pt x="1786" y="9335"/>
                  <a:pt x="1811" y="9302"/>
                </a:cubicBezTo>
                <a:cubicBezTo>
                  <a:pt x="1724" y="9104"/>
                  <a:pt x="1610" y="9008"/>
                  <a:pt x="1389" y="8954"/>
                </a:cubicBezTo>
                <a:cubicBezTo>
                  <a:pt x="1161" y="8899"/>
                  <a:pt x="939" y="8891"/>
                  <a:pt x="719" y="8979"/>
                </a:cubicBezTo>
                <a:cubicBezTo>
                  <a:pt x="475" y="9077"/>
                  <a:pt x="413" y="9285"/>
                  <a:pt x="397" y="9525"/>
                </a:cubicBezTo>
                <a:cubicBezTo>
                  <a:pt x="385" y="9709"/>
                  <a:pt x="521" y="9731"/>
                  <a:pt x="670" y="9674"/>
                </a:cubicBezTo>
                <a:cubicBezTo>
                  <a:pt x="678" y="9666"/>
                  <a:pt x="687" y="9657"/>
                  <a:pt x="695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5800" y="3178080"/>
            <a:ext cx="1027080" cy="590760"/>
          </a:xfrm>
          <a:custGeom>
            <a:avLst/>
            <a:gdLst/>
            <a:ahLst/>
            <a:rect l="l" t="t" r="r" b="b"/>
            <a:pathLst>
              <a:path w="2854" h="1639">
                <a:moveTo>
                  <a:pt x="3001" y="8954"/>
                </a:moveTo>
                <a:cubicBezTo>
                  <a:pt x="3046" y="8919"/>
                  <a:pt x="3178" y="8826"/>
                  <a:pt x="3200" y="8830"/>
                </a:cubicBezTo>
                <a:cubicBezTo>
                  <a:pt x="3216" y="8838"/>
                  <a:pt x="3233" y="8847"/>
                  <a:pt x="3249" y="8855"/>
                </a:cubicBezTo>
                <a:cubicBezTo>
                  <a:pt x="3266" y="9038"/>
                  <a:pt x="3126" y="9186"/>
                  <a:pt x="3001" y="9327"/>
                </a:cubicBezTo>
                <a:cubicBezTo>
                  <a:pt x="2975" y="9357"/>
                  <a:pt x="2864" y="9441"/>
                  <a:pt x="2853" y="9475"/>
                </a:cubicBezTo>
                <a:cubicBezTo>
                  <a:pt x="2853" y="9411"/>
                  <a:pt x="2902" y="9353"/>
                  <a:pt x="2977" y="9376"/>
                </a:cubicBezTo>
                <a:cubicBezTo>
                  <a:pt x="3144" y="9426"/>
                  <a:pt x="3254" y="9498"/>
                  <a:pt x="3423" y="9401"/>
                </a:cubicBezTo>
              </a:path>
              <a:path w="2854" h="1639">
                <a:moveTo>
                  <a:pt x="2654" y="9723"/>
                </a:moveTo>
                <a:cubicBezTo>
                  <a:pt x="2941" y="9700"/>
                  <a:pt x="3233" y="9646"/>
                  <a:pt x="3522" y="9649"/>
                </a:cubicBezTo>
                <a:cubicBezTo>
                  <a:pt x="3663" y="9667"/>
                  <a:pt x="3729" y="9617"/>
                  <a:pt x="3721" y="9699"/>
                </a:cubicBezTo>
              </a:path>
              <a:path w="2854" h="1639">
                <a:moveTo>
                  <a:pt x="2902" y="9996"/>
                </a:moveTo>
                <a:cubicBezTo>
                  <a:pt x="3038" y="9996"/>
                  <a:pt x="3126" y="9922"/>
                  <a:pt x="3274" y="9947"/>
                </a:cubicBezTo>
                <a:cubicBezTo>
                  <a:pt x="3570" y="9997"/>
                  <a:pt x="3209" y="10170"/>
                  <a:pt x="3150" y="10195"/>
                </a:cubicBezTo>
                <a:cubicBezTo>
                  <a:pt x="3125" y="10195"/>
                  <a:pt x="3101" y="10195"/>
                  <a:pt x="3076" y="10195"/>
                </a:cubicBezTo>
                <a:cubicBezTo>
                  <a:pt x="3206" y="10158"/>
                  <a:pt x="3336" y="10099"/>
                  <a:pt x="3423" y="10269"/>
                </a:cubicBezTo>
                <a:cubicBezTo>
                  <a:pt x="3541" y="10498"/>
                  <a:pt x="3110" y="10464"/>
                  <a:pt x="3026" y="10443"/>
                </a:cubicBezTo>
                <a:cubicBezTo>
                  <a:pt x="2830" y="10393"/>
                  <a:pt x="2926" y="10368"/>
                  <a:pt x="3026" y="10319"/>
                </a:cubicBezTo>
              </a:path>
              <a:path w="2854" h="1639">
                <a:moveTo>
                  <a:pt x="4316" y="9699"/>
                </a:moveTo>
                <a:cubicBezTo>
                  <a:pt x="4316" y="9633"/>
                  <a:pt x="4316" y="9781"/>
                  <a:pt x="4316" y="9847"/>
                </a:cubicBezTo>
                <a:cubicBezTo>
                  <a:pt x="4316" y="9905"/>
                  <a:pt x="4316" y="9914"/>
                  <a:pt x="4316" y="9947"/>
                </a:cubicBezTo>
              </a:path>
              <a:path w="2854" h="1639">
                <a:moveTo>
                  <a:pt x="4217" y="9823"/>
                </a:moveTo>
                <a:cubicBezTo>
                  <a:pt x="4326" y="9823"/>
                  <a:pt x="4430" y="9803"/>
                  <a:pt x="4539" y="9798"/>
                </a:cubicBezTo>
                <a:cubicBezTo>
                  <a:pt x="4547" y="9798"/>
                  <a:pt x="4556" y="9798"/>
                  <a:pt x="4564" y="9798"/>
                </a:cubicBezTo>
              </a:path>
              <a:path w="2854" h="1639">
                <a:moveTo>
                  <a:pt x="4986" y="9054"/>
                </a:moveTo>
                <a:cubicBezTo>
                  <a:pt x="5004" y="9026"/>
                  <a:pt x="5122" y="8960"/>
                  <a:pt x="5184" y="8979"/>
                </a:cubicBezTo>
                <a:cubicBezTo>
                  <a:pt x="5184" y="8987"/>
                  <a:pt x="5184" y="8996"/>
                  <a:pt x="5184" y="9004"/>
                </a:cubicBezTo>
                <a:cubicBezTo>
                  <a:pt x="5159" y="9182"/>
                  <a:pt x="4994" y="9303"/>
                  <a:pt x="4812" y="9401"/>
                </a:cubicBezTo>
                <a:cubicBezTo>
                  <a:pt x="4804" y="9401"/>
                  <a:pt x="4795" y="9401"/>
                  <a:pt x="4787" y="9401"/>
                </a:cubicBezTo>
                <a:cubicBezTo>
                  <a:pt x="4957" y="9370"/>
                  <a:pt x="5082" y="9338"/>
                  <a:pt x="5259" y="9351"/>
                </a:cubicBezTo>
                <a:cubicBezTo>
                  <a:pt x="5292" y="9351"/>
                  <a:pt x="5308" y="9351"/>
                  <a:pt x="5333" y="9351"/>
                </a:cubicBezTo>
              </a:path>
              <a:path w="2854" h="1639">
                <a:moveTo>
                  <a:pt x="4688" y="9525"/>
                </a:moveTo>
                <a:cubicBezTo>
                  <a:pt x="4966" y="9498"/>
                  <a:pt x="5230" y="9495"/>
                  <a:pt x="5507" y="9525"/>
                </a:cubicBezTo>
              </a:path>
              <a:path w="2854" h="1639">
                <a:moveTo>
                  <a:pt x="4961" y="9798"/>
                </a:moveTo>
                <a:cubicBezTo>
                  <a:pt x="5045" y="9775"/>
                  <a:pt x="5318" y="9676"/>
                  <a:pt x="5358" y="9823"/>
                </a:cubicBezTo>
                <a:cubicBezTo>
                  <a:pt x="5386" y="9925"/>
                  <a:pt x="5221" y="9944"/>
                  <a:pt x="5159" y="9971"/>
                </a:cubicBezTo>
                <a:cubicBezTo>
                  <a:pt x="5059" y="9938"/>
                  <a:pt x="5290" y="9960"/>
                  <a:pt x="5308" y="9971"/>
                </a:cubicBezTo>
                <a:cubicBezTo>
                  <a:pt x="5333" y="9996"/>
                  <a:pt x="5358" y="10021"/>
                  <a:pt x="5383" y="10046"/>
                </a:cubicBezTo>
                <a:cubicBezTo>
                  <a:pt x="5329" y="10248"/>
                  <a:pt x="5224" y="10247"/>
                  <a:pt x="5011" y="10195"/>
                </a:cubicBezTo>
                <a:cubicBezTo>
                  <a:pt x="4994" y="10187"/>
                  <a:pt x="4978" y="10178"/>
                  <a:pt x="4961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62120" y="3152880"/>
            <a:ext cx="893880" cy="500040"/>
          </a:xfrm>
          <a:custGeom>
            <a:avLst/>
            <a:gdLst/>
            <a:ahLst/>
            <a:rect l="l" t="t" r="r" b="b"/>
            <a:pathLst>
              <a:path w="2481" h="1390">
                <a:moveTo>
                  <a:pt x="7491" y="9128"/>
                </a:moveTo>
                <a:cubicBezTo>
                  <a:pt x="7491" y="9088"/>
                  <a:pt x="7512" y="9050"/>
                  <a:pt x="7491" y="9079"/>
                </a:cubicBezTo>
                <a:cubicBezTo>
                  <a:pt x="7456" y="9127"/>
                  <a:pt x="7427" y="9179"/>
                  <a:pt x="7392" y="9227"/>
                </a:cubicBezTo>
                <a:cubicBezTo>
                  <a:pt x="7511" y="9238"/>
                  <a:pt x="7600" y="9261"/>
                  <a:pt x="7714" y="9227"/>
                </a:cubicBezTo>
              </a:path>
              <a:path w="2481" h="1390">
                <a:moveTo>
                  <a:pt x="7615" y="8905"/>
                </a:moveTo>
                <a:cubicBezTo>
                  <a:pt x="7615" y="9073"/>
                  <a:pt x="7617" y="9241"/>
                  <a:pt x="7590" y="9401"/>
                </a:cubicBezTo>
                <a:cubicBezTo>
                  <a:pt x="7590" y="9426"/>
                  <a:pt x="7590" y="9434"/>
                  <a:pt x="7590" y="9451"/>
                </a:cubicBezTo>
              </a:path>
              <a:path w="2481" h="1390">
                <a:moveTo>
                  <a:pt x="7119" y="9550"/>
                </a:moveTo>
                <a:cubicBezTo>
                  <a:pt x="7408" y="9550"/>
                  <a:pt x="7698" y="9550"/>
                  <a:pt x="7987" y="9550"/>
                </a:cubicBezTo>
              </a:path>
              <a:path w="2481" h="1390">
                <a:moveTo>
                  <a:pt x="7441" y="9748"/>
                </a:moveTo>
                <a:cubicBezTo>
                  <a:pt x="7441" y="9678"/>
                  <a:pt x="7497" y="9642"/>
                  <a:pt x="7565" y="9624"/>
                </a:cubicBezTo>
                <a:cubicBezTo>
                  <a:pt x="7582" y="9624"/>
                  <a:pt x="7598" y="9624"/>
                  <a:pt x="7615" y="9624"/>
                </a:cubicBezTo>
                <a:cubicBezTo>
                  <a:pt x="7673" y="9753"/>
                  <a:pt x="7660" y="9801"/>
                  <a:pt x="7541" y="9897"/>
                </a:cubicBezTo>
                <a:cubicBezTo>
                  <a:pt x="7524" y="9905"/>
                  <a:pt x="7508" y="9914"/>
                  <a:pt x="7491" y="9922"/>
                </a:cubicBezTo>
                <a:cubicBezTo>
                  <a:pt x="7613" y="9944"/>
                  <a:pt x="7679" y="10006"/>
                  <a:pt x="7541" y="10096"/>
                </a:cubicBezTo>
                <a:cubicBezTo>
                  <a:pt x="7481" y="10135"/>
                  <a:pt x="7368" y="10170"/>
                  <a:pt x="7342" y="10096"/>
                </a:cubicBezTo>
              </a:path>
              <a:path w="2481" h="1390">
                <a:moveTo>
                  <a:pt x="9203" y="8930"/>
                </a:moveTo>
                <a:cubicBezTo>
                  <a:pt x="9150" y="8947"/>
                  <a:pt x="9178" y="9075"/>
                  <a:pt x="9178" y="9128"/>
                </a:cubicBezTo>
                <a:cubicBezTo>
                  <a:pt x="9178" y="9211"/>
                  <a:pt x="9178" y="9227"/>
                  <a:pt x="9178" y="9277"/>
                </a:cubicBezTo>
              </a:path>
              <a:path w="2481" h="1390">
                <a:moveTo>
                  <a:pt x="8930" y="9500"/>
                </a:moveTo>
                <a:cubicBezTo>
                  <a:pt x="9116" y="9500"/>
                  <a:pt x="9289" y="9442"/>
                  <a:pt x="9475" y="9426"/>
                </a:cubicBezTo>
                <a:cubicBezTo>
                  <a:pt x="9516" y="9426"/>
                  <a:pt x="9558" y="9426"/>
                  <a:pt x="9599" y="9426"/>
                </a:cubicBezTo>
              </a:path>
              <a:path w="2481" h="1390">
                <a:moveTo>
                  <a:pt x="9153" y="9723"/>
                </a:moveTo>
                <a:cubicBezTo>
                  <a:pt x="9179" y="9719"/>
                  <a:pt x="9468" y="9646"/>
                  <a:pt x="9401" y="9748"/>
                </a:cubicBezTo>
                <a:cubicBezTo>
                  <a:pt x="9320" y="9830"/>
                  <a:pt x="9287" y="9858"/>
                  <a:pt x="9203" y="9872"/>
                </a:cubicBezTo>
                <a:cubicBezTo>
                  <a:pt x="9195" y="9889"/>
                  <a:pt x="9186" y="9905"/>
                  <a:pt x="9178" y="9922"/>
                </a:cubicBezTo>
                <a:cubicBezTo>
                  <a:pt x="9229" y="9922"/>
                  <a:pt x="9380" y="9882"/>
                  <a:pt x="9351" y="9971"/>
                </a:cubicBezTo>
                <a:cubicBezTo>
                  <a:pt x="9311" y="10094"/>
                  <a:pt x="9186" y="10110"/>
                  <a:pt x="9079" y="10120"/>
                </a:cubicBezTo>
              </a:path>
              <a:path w="2481" h="1390">
                <a:moveTo>
                  <a:pt x="9302" y="8781"/>
                </a:moveTo>
                <a:cubicBezTo>
                  <a:pt x="9242" y="9049"/>
                  <a:pt x="9131" y="9310"/>
                  <a:pt x="9054" y="9575"/>
                </a:cubicBezTo>
                <a:cubicBezTo>
                  <a:pt x="9012" y="9719"/>
                  <a:pt x="9004" y="9766"/>
                  <a:pt x="9004" y="9897"/>
                </a:cubicBezTo>
              </a:path>
              <a:path w="2481" h="1390">
                <a:moveTo>
                  <a:pt x="8781" y="8905"/>
                </a:moveTo>
                <a:cubicBezTo>
                  <a:pt x="9032" y="9089"/>
                  <a:pt x="9241" y="9359"/>
                  <a:pt x="9376" y="9649"/>
                </a:cubicBezTo>
                <a:cubicBezTo>
                  <a:pt x="9395" y="9689"/>
                  <a:pt x="9463" y="9966"/>
                  <a:pt x="9426" y="9947"/>
                </a:cubicBezTo>
                <a:cubicBezTo>
                  <a:pt x="9374" y="9947"/>
                  <a:pt x="9347" y="9928"/>
                  <a:pt x="9327" y="9872"/>
                </a:cubicBezTo>
              </a:path>
              <a:path w="2481" h="1390">
                <a:moveTo>
                  <a:pt x="8731" y="9054"/>
                </a:moveTo>
                <a:cubicBezTo>
                  <a:pt x="8905" y="9140"/>
                  <a:pt x="9063" y="9341"/>
                  <a:pt x="9178" y="9500"/>
                </a:cubicBezTo>
                <a:cubicBezTo>
                  <a:pt x="9237" y="9582"/>
                  <a:pt x="9333" y="9923"/>
                  <a:pt x="9351" y="9847"/>
                </a:cubicBezTo>
              </a:path>
              <a:path w="2481" h="1390">
                <a:moveTo>
                  <a:pt x="9103" y="8756"/>
                </a:moveTo>
                <a:cubicBezTo>
                  <a:pt x="9169" y="8985"/>
                  <a:pt x="9188" y="9204"/>
                  <a:pt x="9178" y="9451"/>
                </a:cubicBezTo>
                <a:cubicBezTo>
                  <a:pt x="9170" y="9664"/>
                  <a:pt x="9157" y="9839"/>
                  <a:pt x="9178" y="10046"/>
                </a:cubicBezTo>
              </a:path>
              <a:path w="2481" h="1390">
                <a:moveTo>
                  <a:pt x="8905" y="9103"/>
                </a:moveTo>
                <a:cubicBezTo>
                  <a:pt x="8905" y="9087"/>
                  <a:pt x="8905" y="9070"/>
                  <a:pt x="8905" y="9054"/>
                </a:cubicBezTo>
                <a:cubicBezTo>
                  <a:pt x="9101" y="9185"/>
                  <a:pt x="9231" y="9415"/>
                  <a:pt x="9351" y="9624"/>
                </a:cubicBezTo>
                <a:cubicBezTo>
                  <a:pt x="9406" y="9721"/>
                  <a:pt x="9443" y="9830"/>
                  <a:pt x="9500" y="9922"/>
                </a:cubicBezTo>
              </a:path>
              <a:path w="2481" h="1390">
                <a:moveTo>
                  <a:pt x="9302" y="8855"/>
                </a:moveTo>
                <a:cubicBezTo>
                  <a:pt x="9211" y="9143"/>
                  <a:pt x="9140" y="9437"/>
                  <a:pt x="9029" y="9723"/>
                </a:cubicBezTo>
                <a:cubicBezTo>
                  <a:pt x="9003" y="9791"/>
                  <a:pt x="8921" y="9960"/>
                  <a:pt x="893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2120" y="919080"/>
            <a:ext cx="3170160" cy="5877000"/>
          </a:xfrm>
          <a:custGeom>
            <a:avLst/>
            <a:gdLst/>
            <a:ahLst/>
            <a:rect l="l" t="t" r="r" b="b"/>
            <a:pathLst>
              <a:path w="8807" h="16322">
                <a:moveTo>
                  <a:pt x="12254" y="2555"/>
                </a:moveTo>
                <a:cubicBezTo>
                  <a:pt x="12234" y="2607"/>
                  <a:pt x="12226" y="2672"/>
                  <a:pt x="12204" y="2729"/>
                </a:cubicBezTo>
                <a:cubicBezTo>
                  <a:pt x="12115" y="2961"/>
                  <a:pt x="12022" y="3164"/>
                  <a:pt x="12005" y="3423"/>
                </a:cubicBezTo>
                <a:cubicBezTo>
                  <a:pt x="11990" y="3653"/>
                  <a:pt x="12040" y="3856"/>
                  <a:pt x="12105" y="4068"/>
                </a:cubicBezTo>
                <a:cubicBezTo>
                  <a:pt x="12186" y="4332"/>
                  <a:pt x="12354" y="4557"/>
                  <a:pt x="12502" y="4787"/>
                </a:cubicBezTo>
                <a:cubicBezTo>
                  <a:pt x="12635" y="4994"/>
                  <a:pt x="12762" y="5189"/>
                  <a:pt x="12824" y="5432"/>
                </a:cubicBezTo>
                <a:cubicBezTo>
                  <a:pt x="12931" y="5851"/>
                  <a:pt x="12945" y="6294"/>
                  <a:pt x="12923" y="6722"/>
                </a:cubicBezTo>
                <a:cubicBezTo>
                  <a:pt x="12909" y="6994"/>
                  <a:pt x="12890" y="7268"/>
                  <a:pt x="12898" y="7541"/>
                </a:cubicBezTo>
                <a:cubicBezTo>
                  <a:pt x="12906" y="7815"/>
                  <a:pt x="12921" y="8086"/>
                  <a:pt x="12923" y="8359"/>
                </a:cubicBezTo>
                <a:cubicBezTo>
                  <a:pt x="12926" y="8669"/>
                  <a:pt x="12918" y="8992"/>
                  <a:pt x="12898" y="9302"/>
                </a:cubicBezTo>
                <a:cubicBezTo>
                  <a:pt x="12858" y="9915"/>
                  <a:pt x="12755" y="10526"/>
                  <a:pt x="12700" y="11137"/>
                </a:cubicBezTo>
                <a:cubicBezTo>
                  <a:pt x="12677" y="11394"/>
                  <a:pt x="12659" y="11649"/>
                  <a:pt x="12626" y="11906"/>
                </a:cubicBezTo>
                <a:cubicBezTo>
                  <a:pt x="12582" y="12247"/>
                  <a:pt x="12560" y="12583"/>
                  <a:pt x="12526" y="12923"/>
                </a:cubicBezTo>
                <a:cubicBezTo>
                  <a:pt x="12483" y="13353"/>
                  <a:pt x="12439" y="13782"/>
                  <a:pt x="12427" y="14213"/>
                </a:cubicBezTo>
                <a:cubicBezTo>
                  <a:pt x="12411" y="14808"/>
                  <a:pt x="12408" y="15409"/>
                  <a:pt x="12477" y="15999"/>
                </a:cubicBezTo>
                <a:cubicBezTo>
                  <a:pt x="12502" y="16215"/>
                  <a:pt x="12534" y="16428"/>
                  <a:pt x="12551" y="16644"/>
                </a:cubicBezTo>
                <a:cubicBezTo>
                  <a:pt x="12565" y="16827"/>
                  <a:pt x="12584" y="17007"/>
                  <a:pt x="12601" y="17190"/>
                </a:cubicBezTo>
                <a:cubicBezTo>
                  <a:pt x="12616" y="17355"/>
                  <a:pt x="12621" y="17520"/>
                  <a:pt x="12626" y="17686"/>
                </a:cubicBezTo>
                <a:cubicBezTo>
                  <a:pt x="12634" y="17919"/>
                  <a:pt x="12644" y="18151"/>
                  <a:pt x="12650" y="18380"/>
                </a:cubicBezTo>
                <a:cubicBezTo>
                  <a:pt x="12654" y="18524"/>
                  <a:pt x="12667" y="18665"/>
                  <a:pt x="12675" y="18802"/>
                </a:cubicBezTo>
                <a:cubicBezTo>
                  <a:pt x="12675" y="18843"/>
                  <a:pt x="12675" y="18851"/>
                  <a:pt x="12675" y="18876"/>
                </a:cubicBezTo>
              </a:path>
              <a:path w="8807" h="16322">
                <a:moveTo>
                  <a:pt x="11311" y="9079"/>
                </a:moveTo>
                <a:cubicBezTo>
                  <a:pt x="11272" y="9091"/>
                  <a:pt x="11270" y="9202"/>
                  <a:pt x="11237" y="9252"/>
                </a:cubicBezTo>
                <a:cubicBezTo>
                  <a:pt x="11198" y="9291"/>
                  <a:pt x="11181" y="9293"/>
                  <a:pt x="11187" y="9327"/>
                </a:cubicBezTo>
                <a:cubicBezTo>
                  <a:pt x="11321" y="9317"/>
                  <a:pt x="11449" y="9302"/>
                  <a:pt x="11584" y="9302"/>
                </a:cubicBezTo>
              </a:path>
              <a:path w="8807" h="16322">
                <a:moveTo>
                  <a:pt x="11509" y="8954"/>
                </a:moveTo>
                <a:cubicBezTo>
                  <a:pt x="11471" y="9113"/>
                  <a:pt x="11475" y="9286"/>
                  <a:pt x="11435" y="9451"/>
                </a:cubicBezTo>
                <a:cubicBezTo>
                  <a:pt x="11418" y="9519"/>
                  <a:pt x="11384" y="9533"/>
                  <a:pt x="11435" y="9550"/>
                </a:cubicBezTo>
              </a:path>
              <a:path w="8807" h="16322">
                <a:moveTo>
                  <a:pt x="11038" y="9699"/>
                </a:moveTo>
                <a:cubicBezTo>
                  <a:pt x="11018" y="9589"/>
                  <a:pt x="10973" y="9486"/>
                  <a:pt x="10939" y="9376"/>
                </a:cubicBezTo>
                <a:cubicBezTo>
                  <a:pt x="10929" y="9342"/>
                  <a:pt x="10819" y="9038"/>
                  <a:pt x="10914" y="9004"/>
                </a:cubicBezTo>
                <a:cubicBezTo>
                  <a:pt x="11073" y="8947"/>
                  <a:pt x="11408" y="8979"/>
                  <a:pt x="11609" y="8979"/>
                </a:cubicBezTo>
                <a:cubicBezTo>
                  <a:pt x="11774" y="8979"/>
                  <a:pt x="11940" y="8979"/>
                  <a:pt x="12105" y="8979"/>
                </a:cubicBezTo>
              </a:path>
              <a:path w="8807" h="16322">
                <a:moveTo>
                  <a:pt x="10393" y="9178"/>
                </a:moveTo>
                <a:cubicBezTo>
                  <a:pt x="10421" y="9141"/>
                  <a:pt x="10549" y="9072"/>
                  <a:pt x="10616" y="9103"/>
                </a:cubicBezTo>
                <a:cubicBezTo>
                  <a:pt x="10633" y="9120"/>
                  <a:pt x="10649" y="9136"/>
                  <a:pt x="10666" y="9153"/>
                </a:cubicBezTo>
                <a:cubicBezTo>
                  <a:pt x="10611" y="9247"/>
                  <a:pt x="10562" y="9286"/>
                  <a:pt x="10468" y="9351"/>
                </a:cubicBezTo>
                <a:cubicBezTo>
                  <a:pt x="10550" y="9311"/>
                  <a:pt x="10663" y="9342"/>
                  <a:pt x="10641" y="9475"/>
                </a:cubicBezTo>
                <a:cubicBezTo>
                  <a:pt x="10621" y="9594"/>
                  <a:pt x="10478" y="9575"/>
                  <a:pt x="10393" y="9575"/>
                </a:cubicBezTo>
                <a:cubicBezTo>
                  <a:pt x="10385" y="9575"/>
                  <a:pt x="10376" y="9575"/>
                  <a:pt x="10368" y="9575"/>
                </a:cubicBezTo>
              </a:path>
              <a:path w="8807" h="16322">
                <a:moveTo>
                  <a:pt x="11361" y="8409"/>
                </a:moveTo>
                <a:cubicBezTo>
                  <a:pt x="11353" y="8401"/>
                  <a:pt x="11344" y="8392"/>
                  <a:pt x="11336" y="8384"/>
                </a:cubicBezTo>
                <a:cubicBezTo>
                  <a:pt x="11336" y="8505"/>
                  <a:pt x="11338" y="8618"/>
                  <a:pt x="11361" y="8731"/>
                </a:cubicBezTo>
                <a:cubicBezTo>
                  <a:pt x="11361" y="8739"/>
                  <a:pt x="11361" y="8748"/>
                  <a:pt x="11361" y="8756"/>
                </a:cubicBezTo>
              </a:path>
              <a:path w="8807" h="16322">
                <a:moveTo>
                  <a:pt x="11261" y="9624"/>
                </a:moveTo>
                <a:cubicBezTo>
                  <a:pt x="11277" y="9575"/>
                  <a:pt x="11398" y="9562"/>
                  <a:pt x="11460" y="9575"/>
                </a:cubicBezTo>
                <a:cubicBezTo>
                  <a:pt x="11468" y="9583"/>
                  <a:pt x="11477" y="9591"/>
                  <a:pt x="11485" y="9599"/>
                </a:cubicBezTo>
                <a:cubicBezTo>
                  <a:pt x="11429" y="9695"/>
                  <a:pt x="11381" y="9732"/>
                  <a:pt x="11286" y="9798"/>
                </a:cubicBezTo>
                <a:cubicBezTo>
                  <a:pt x="11354" y="9789"/>
                  <a:pt x="11513" y="9727"/>
                  <a:pt x="11460" y="9872"/>
                </a:cubicBezTo>
                <a:cubicBezTo>
                  <a:pt x="11428" y="9960"/>
                  <a:pt x="11304" y="10027"/>
                  <a:pt x="11286" y="9922"/>
                </a:cubicBezTo>
              </a:path>
              <a:path w="8807" h="16322">
                <a:moveTo>
                  <a:pt x="11336" y="10220"/>
                </a:moveTo>
                <a:cubicBezTo>
                  <a:pt x="11316" y="10355"/>
                  <a:pt x="11311" y="10479"/>
                  <a:pt x="11311" y="10616"/>
                </a:cubicBezTo>
              </a:path>
              <a:path w="8807" h="16322">
                <a:moveTo>
                  <a:pt x="11881" y="9153"/>
                </a:moveTo>
                <a:cubicBezTo>
                  <a:pt x="11945" y="9153"/>
                  <a:pt x="11993" y="9136"/>
                  <a:pt x="12055" y="9128"/>
                </a:cubicBezTo>
              </a:path>
              <a:path w="8807" h="16322">
                <a:moveTo>
                  <a:pt x="11857" y="9302"/>
                </a:moveTo>
                <a:cubicBezTo>
                  <a:pt x="11964" y="9277"/>
                  <a:pt x="12041" y="9259"/>
                  <a:pt x="12129" y="9203"/>
                </a:cubicBezTo>
              </a:path>
              <a:path w="8807" h="16322">
                <a:moveTo>
                  <a:pt x="12353" y="8533"/>
                </a:moveTo>
                <a:cubicBezTo>
                  <a:pt x="12353" y="8717"/>
                  <a:pt x="12357" y="8896"/>
                  <a:pt x="12328" y="9079"/>
                </a:cubicBezTo>
                <a:cubicBezTo>
                  <a:pt x="12318" y="9144"/>
                  <a:pt x="12269" y="9516"/>
                  <a:pt x="12254" y="9500"/>
                </a:cubicBezTo>
              </a:path>
              <a:path w="8807" h="16322">
                <a:moveTo>
                  <a:pt x="12675" y="8285"/>
                </a:moveTo>
                <a:cubicBezTo>
                  <a:pt x="12675" y="8356"/>
                  <a:pt x="12687" y="8417"/>
                  <a:pt x="12700" y="8483"/>
                </a:cubicBezTo>
                <a:cubicBezTo>
                  <a:pt x="12700" y="8491"/>
                  <a:pt x="12700" y="8500"/>
                  <a:pt x="12700" y="8508"/>
                </a:cubicBezTo>
              </a:path>
              <a:path w="8807" h="16322">
                <a:moveTo>
                  <a:pt x="12551" y="8607"/>
                </a:moveTo>
                <a:cubicBezTo>
                  <a:pt x="12667" y="8572"/>
                  <a:pt x="12777" y="8540"/>
                  <a:pt x="12898" y="8533"/>
                </a:cubicBezTo>
                <a:cubicBezTo>
                  <a:pt x="12906" y="8533"/>
                  <a:pt x="12915" y="8533"/>
                  <a:pt x="12923" y="8533"/>
                </a:cubicBezTo>
              </a:path>
              <a:path w="8807" h="16322">
                <a:moveTo>
                  <a:pt x="12626" y="8806"/>
                </a:moveTo>
                <a:cubicBezTo>
                  <a:pt x="12689" y="8787"/>
                  <a:pt x="12714" y="8781"/>
                  <a:pt x="12774" y="8781"/>
                </a:cubicBezTo>
                <a:cubicBezTo>
                  <a:pt x="12759" y="8860"/>
                  <a:pt x="12708" y="8897"/>
                  <a:pt x="12650" y="8954"/>
                </a:cubicBezTo>
                <a:cubicBezTo>
                  <a:pt x="12675" y="8954"/>
                  <a:pt x="12738" y="8937"/>
                  <a:pt x="12725" y="8979"/>
                </a:cubicBezTo>
                <a:cubicBezTo>
                  <a:pt x="12705" y="9043"/>
                  <a:pt x="12631" y="9065"/>
                  <a:pt x="12576" y="9079"/>
                </a:cubicBezTo>
              </a:path>
              <a:path w="8807" h="16322">
                <a:moveTo>
                  <a:pt x="12750" y="7938"/>
                </a:moveTo>
                <a:cubicBezTo>
                  <a:pt x="12679" y="7923"/>
                  <a:pt x="12598" y="7896"/>
                  <a:pt x="12526" y="7888"/>
                </a:cubicBezTo>
                <a:cubicBezTo>
                  <a:pt x="12376" y="7871"/>
                  <a:pt x="12239" y="7882"/>
                  <a:pt x="12105" y="7938"/>
                </a:cubicBezTo>
                <a:cubicBezTo>
                  <a:pt x="12015" y="7976"/>
                  <a:pt x="11944" y="8019"/>
                  <a:pt x="11881" y="8086"/>
                </a:cubicBezTo>
                <a:cubicBezTo>
                  <a:pt x="11813" y="8159"/>
                  <a:pt x="11817" y="8283"/>
                  <a:pt x="11832" y="8384"/>
                </a:cubicBezTo>
                <a:cubicBezTo>
                  <a:pt x="11848" y="8495"/>
                  <a:pt x="11900" y="8546"/>
                  <a:pt x="11906" y="8657"/>
                </a:cubicBezTo>
                <a:cubicBezTo>
                  <a:pt x="11911" y="8751"/>
                  <a:pt x="11897" y="8820"/>
                  <a:pt x="11857" y="8905"/>
                </a:cubicBezTo>
                <a:cubicBezTo>
                  <a:pt x="11817" y="8989"/>
                  <a:pt x="11848" y="9065"/>
                  <a:pt x="11832" y="9153"/>
                </a:cubicBezTo>
                <a:cubicBezTo>
                  <a:pt x="11814" y="9251"/>
                  <a:pt x="11820" y="9298"/>
                  <a:pt x="11832" y="9401"/>
                </a:cubicBezTo>
                <a:cubicBezTo>
                  <a:pt x="11841" y="9481"/>
                  <a:pt x="11869" y="9547"/>
                  <a:pt x="11881" y="9624"/>
                </a:cubicBezTo>
                <a:cubicBezTo>
                  <a:pt x="11895" y="9712"/>
                  <a:pt x="11876" y="9806"/>
                  <a:pt x="11881" y="9897"/>
                </a:cubicBezTo>
                <a:cubicBezTo>
                  <a:pt x="11883" y="9937"/>
                  <a:pt x="11880" y="9993"/>
                  <a:pt x="11906" y="10021"/>
                </a:cubicBezTo>
                <a:cubicBezTo>
                  <a:pt x="11997" y="10119"/>
                  <a:pt x="12289" y="10060"/>
                  <a:pt x="12402" y="10046"/>
                </a:cubicBezTo>
                <a:cubicBezTo>
                  <a:pt x="12496" y="10034"/>
                  <a:pt x="12610" y="10027"/>
                  <a:pt x="12700" y="9996"/>
                </a:cubicBezTo>
                <a:cubicBezTo>
                  <a:pt x="12823" y="9953"/>
                  <a:pt x="12866" y="9835"/>
                  <a:pt x="12898" y="9723"/>
                </a:cubicBezTo>
                <a:cubicBezTo>
                  <a:pt x="12914" y="9668"/>
                  <a:pt x="12943" y="9521"/>
                  <a:pt x="12973" y="9475"/>
                </a:cubicBezTo>
                <a:cubicBezTo>
                  <a:pt x="13038" y="9376"/>
                  <a:pt x="13110" y="9356"/>
                  <a:pt x="13097" y="9227"/>
                </a:cubicBezTo>
                <a:cubicBezTo>
                  <a:pt x="13090" y="9153"/>
                  <a:pt x="13050" y="9109"/>
                  <a:pt x="13047" y="9029"/>
                </a:cubicBezTo>
                <a:cubicBezTo>
                  <a:pt x="13043" y="8892"/>
                  <a:pt x="13056" y="8766"/>
                  <a:pt x="13022" y="8632"/>
                </a:cubicBezTo>
                <a:cubicBezTo>
                  <a:pt x="13000" y="8545"/>
                  <a:pt x="13007" y="8429"/>
                  <a:pt x="13022" y="8334"/>
                </a:cubicBezTo>
                <a:cubicBezTo>
                  <a:pt x="13037" y="8233"/>
                  <a:pt x="13069" y="8157"/>
                  <a:pt x="13022" y="8062"/>
                </a:cubicBezTo>
                <a:cubicBezTo>
                  <a:pt x="13014" y="8054"/>
                  <a:pt x="13006" y="8045"/>
                  <a:pt x="12998" y="8037"/>
                </a:cubicBezTo>
              </a:path>
              <a:path w="8807" h="16322">
                <a:moveTo>
                  <a:pt x="14039" y="7541"/>
                </a:moveTo>
                <a:cubicBezTo>
                  <a:pt x="14039" y="7471"/>
                  <a:pt x="14002" y="7471"/>
                  <a:pt x="13940" y="7441"/>
                </a:cubicBezTo>
                <a:cubicBezTo>
                  <a:pt x="13837" y="7390"/>
                  <a:pt x="13817" y="7438"/>
                  <a:pt x="13791" y="7541"/>
                </a:cubicBezTo>
                <a:cubicBezTo>
                  <a:pt x="13791" y="7569"/>
                  <a:pt x="13794" y="7579"/>
                  <a:pt x="13816" y="7590"/>
                </a:cubicBezTo>
                <a:cubicBezTo>
                  <a:pt x="13895" y="7564"/>
                  <a:pt x="13916" y="7527"/>
                  <a:pt x="13965" y="7466"/>
                </a:cubicBezTo>
                <a:cubicBezTo>
                  <a:pt x="14039" y="7491"/>
                  <a:pt x="14013" y="7696"/>
                  <a:pt x="14015" y="7764"/>
                </a:cubicBezTo>
                <a:cubicBezTo>
                  <a:pt x="14015" y="7805"/>
                  <a:pt x="14015" y="7813"/>
                  <a:pt x="14015" y="7838"/>
                </a:cubicBezTo>
              </a:path>
              <a:path w="8807" h="16322">
                <a:moveTo>
                  <a:pt x="13915" y="8086"/>
                </a:moveTo>
                <a:cubicBezTo>
                  <a:pt x="13874" y="8100"/>
                  <a:pt x="13859" y="8184"/>
                  <a:pt x="13841" y="8235"/>
                </a:cubicBezTo>
                <a:cubicBezTo>
                  <a:pt x="13805" y="8337"/>
                  <a:pt x="13816" y="8418"/>
                  <a:pt x="13841" y="8508"/>
                </a:cubicBezTo>
                <a:cubicBezTo>
                  <a:pt x="13841" y="8516"/>
                  <a:pt x="13841" y="8525"/>
                  <a:pt x="13841" y="8533"/>
                </a:cubicBezTo>
                <a:cubicBezTo>
                  <a:pt x="13911" y="8512"/>
                  <a:pt x="14005" y="8519"/>
                  <a:pt x="14039" y="8483"/>
                </a:cubicBezTo>
                <a:cubicBezTo>
                  <a:pt x="14084" y="8439"/>
                  <a:pt x="14101" y="8429"/>
                  <a:pt x="14089" y="8384"/>
                </a:cubicBezTo>
                <a:cubicBezTo>
                  <a:pt x="14038" y="8332"/>
                  <a:pt x="13997" y="8357"/>
                  <a:pt x="13940" y="8409"/>
                </a:cubicBezTo>
                <a:cubicBezTo>
                  <a:pt x="13900" y="8445"/>
                  <a:pt x="13931" y="8463"/>
                  <a:pt x="13940" y="8508"/>
                </a:cubicBezTo>
              </a:path>
              <a:path w="8807" h="16322">
                <a:moveTo>
                  <a:pt x="15156" y="8136"/>
                </a:moveTo>
                <a:cubicBezTo>
                  <a:pt x="15158" y="8157"/>
                  <a:pt x="15180" y="8353"/>
                  <a:pt x="15180" y="8285"/>
                </a:cubicBezTo>
              </a:path>
              <a:path w="8807" h="16322">
                <a:moveTo>
                  <a:pt x="15304" y="8111"/>
                </a:moveTo>
                <a:cubicBezTo>
                  <a:pt x="15370" y="8111"/>
                  <a:pt x="15363" y="8100"/>
                  <a:pt x="15429" y="8111"/>
                </a:cubicBezTo>
                <a:cubicBezTo>
                  <a:pt x="15540" y="8130"/>
                  <a:pt x="15446" y="8207"/>
                  <a:pt x="15429" y="8235"/>
                </a:cubicBezTo>
                <a:cubicBezTo>
                  <a:pt x="15412" y="8264"/>
                  <a:pt x="15415" y="8252"/>
                  <a:pt x="15404" y="8285"/>
                </a:cubicBezTo>
                <a:cubicBezTo>
                  <a:pt x="15472" y="8285"/>
                  <a:pt x="15514" y="8286"/>
                  <a:pt x="15577" y="8310"/>
                </a:cubicBezTo>
              </a:path>
              <a:path w="8807" h="16322">
                <a:moveTo>
                  <a:pt x="15652" y="8310"/>
                </a:moveTo>
                <a:cubicBezTo>
                  <a:pt x="15689" y="8334"/>
                  <a:pt x="15677" y="8377"/>
                  <a:pt x="15677" y="8434"/>
                </a:cubicBezTo>
                <a:cubicBezTo>
                  <a:pt x="15677" y="8426"/>
                  <a:pt x="15677" y="8417"/>
                  <a:pt x="15677" y="8409"/>
                </a:cubicBezTo>
              </a:path>
              <a:path w="8807" h="16322">
                <a:moveTo>
                  <a:pt x="13866" y="10666"/>
                </a:moveTo>
                <a:cubicBezTo>
                  <a:pt x="13847" y="10574"/>
                  <a:pt x="13784" y="10436"/>
                  <a:pt x="13692" y="10393"/>
                </a:cubicBezTo>
                <a:cubicBezTo>
                  <a:pt x="13563" y="10332"/>
                  <a:pt x="13317" y="10593"/>
                  <a:pt x="13370" y="10716"/>
                </a:cubicBezTo>
                <a:cubicBezTo>
                  <a:pt x="13463" y="10931"/>
                  <a:pt x="13698" y="10640"/>
                  <a:pt x="13742" y="10567"/>
                </a:cubicBezTo>
                <a:cubicBezTo>
                  <a:pt x="13742" y="10550"/>
                  <a:pt x="13742" y="10534"/>
                  <a:pt x="13742" y="10517"/>
                </a:cubicBezTo>
                <a:cubicBezTo>
                  <a:pt x="13742" y="10678"/>
                  <a:pt x="13755" y="10767"/>
                  <a:pt x="13816" y="10914"/>
                </a:cubicBezTo>
              </a:path>
              <a:path w="8807" h="16322">
                <a:moveTo>
                  <a:pt x="13047" y="11013"/>
                </a:moveTo>
                <a:cubicBezTo>
                  <a:pt x="13301" y="11190"/>
                  <a:pt x="13528" y="11211"/>
                  <a:pt x="13841" y="11137"/>
                </a:cubicBezTo>
                <a:cubicBezTo>
                  <a:pt x="14150" y="11064"/>
                  <a:pt x="14415" y="10867"/>
                  <a:pt x="14362" y="10517"/>
                </a:cubicBezTo>
                <a:cubicBezTo>
                  <a:pt x="14316" y="10213"/>
                  <a:pt x="13941" y="10086"/>
                  <a:pt x="13667" y="10145"/>
                </a:cubicBezTo>
                <a:cubicBezTo>
                  <a:pt x="13375" y="10208"/>
                  <a:pt x="12955" y="10427"/>
                  <a:pt x="13047" y="10790"/>
                </a:cubicBezTo>
                <a:cubicBezTo>
                  <a:pt x="13129" y="11114"/>
                  <a:pt x="13403" y="11038"/>
                  <a:pt x="13643" y="11038"/>
                </a:cubicBezTo>
              </a:path>
              <a:path w="8807" h="16322">
                <a:moveTo>
                  <a:pt x="15255" y="10244"/>
                </a:moveTo>
                <a:cubicBezTo>
                  <a:pt x="15254" y="10205"/>
                  <a:pt x="15570" y="10203"/>
                  <a:pt x="15677" y="10195"/>
                </a:cubicBezTo>
                <a:cubicBezTo>
                  <a:pt x="15718" y="10195"/>
                  <a:pt x="15726" y="10195"/>
                  <a:pt x="15751" y="10195"/>
                </a:cubicBezTo>
                <a:cubicBezTo>
                  <a:pt x="15679" y="10340"/>
                  <a:pt x="15524" y="10474"/>
                  <a:pt x="15429" y="10616"/>
                </a:cubicBezTo>
                <a:cubicBezTo>
                  <a:pt x="15392" y="10690"/>
                  <a:pt x="15375" y="10694"/>
                  <a:pt x="15379" y="10740"/>
                </a:cubicBezTo>
              </a:path>
              <a:path w="8807" h="16322">
                <a:moveTo>
                  <a:pt x="14808" y="10939"/>
                </a:moveTo>
                <a:cubicBezTo>
                  <a:pt x="15146" y="10913"/>
                  <a:pt x="15486" y="10898"/>
                  <a:pt x="15825" y="10889"/>
                </a:cubicBezTo>
                <a:cubicBezTo>
                  <a:pt x="15850" y="10889"/>
                  <a:pt x="15858" y="10889"/>
                  <a:pt x="15875" y="10889"/>
                </a:cubicBezTo>
              </a:path>
              <a:path w="8807" h="16322">
                <a:moveTo>
                  <a:pt x="15602" y="11212"/>
                </a:moveTo>
                <a:cubicBezTo>
                  <a:pt x="15379" y="11167"/>
                  <a:pt x="15263" y="11193"/>
                  <a:pt x="15081" y="11311"/>
                </a:cubicBezTo>
                <a:cubicBezTo>
                  <a:pt x="15206" y="11484"/>
                  <a:pt x="15371" y="11587"/>
                  <a:pt x="15429" y="11782"/>
                </a:cubicBezTo>
                <a:cubicBezTo>
                  <a:pt x="15191" y="11838"/>
                  <a:pt x="15212" y="11730"/>
                  <a:pt x="15329" y="11534"/>
                </a:cubicBezTo>
                <a:cubicBezTo>
                  <a:pt x="15416" y="11404"/>
                  <a:pt x="15439" y="11375"/>
                  <a:pt x="15478" y="11286"/>
                </a:cubicBezTo>
              </a:path>
              <a:path w="8807" h="16322">
                <a:moveTo>
                  <a:pt x="16669" y="10815"/>
                </a:moveTo>
                <a:cubicBezTo>
                  <a:pt x="16679" y="10924"/>
                  <a:pt x="16694" y="11026"/>
                  <a:pt x="16694" y="11137"/>
                </a:cubicBezTo>
              </a:path>
              <a:path w="8807" h="16322">
                <a:moveTo>
                  <a:pt x="16495" y="11013"/>
                </a:moveTo>
                <a:cubicBezTo>
                  <a:pt x="16652" y="11013"/>
                  <a:pt x="16809" y="11013"/>
                  <a:pt x="16966" y="11013"/>
                </a:cubicBezTo>
              </a:path>
              <a:path w="8807" h="16322">
                <a:moveTo>
                  <a:pt x="17835" y="10319"/>
                </a:moveTo>
                <a:cubicBezTo>
                  <a:pt x="17923" y="10296"/>
                  <a:pt x="17886" y="10182"/>
                  <a:pt x="17835" y="10120"/>
                </a:cubicBezTo>
                <a:cubicBezTo>
                  <a:pt x="17695" y="9949"/>
                  <a:pt x="17494" y="10013"/>
                  <a:pt x="17413" y="10195"/>
                </a:cubicBezTo>
                <a:cubicBezTo>
                  <a:pt x="17405" y="10245"/>
                  <a:pt x="17396" y="10294"/>
                  <a:pt x="17388" y="10344"/>
                </a:cubicBezTo>
                <a:cubicBezTo>
                  <a:pt x="17587" y="10428"/>
                  <a:pt x="17633" y="10379"/>
                  <a:pt x="17760" y="10220"/>
                </a:cubicBezTo>
                <a:cubicBezTo>
                  <a:pt x="17783" y="10197"/>
                  <a:pt x="17791" y="10193"/>
                  <a:pt x="17785" y="10170"/>
                </a:cubicBezTo>
                <a:cubicBezTo>
                  <a:pt x="17820" y="10308"/>
                  <a:pt x="17833" y="10412"/>
                  <a:pt x="17810" y="10567"/>
                </a:cubicBezTo>
                <a:cubicBezTo>
                  <a:pt x="17787" y="10658"/>
                  <a:pt x="17781" y="10684"/>
                  <a:pt x="17760" y="10740"/>
                </a:cubicBezTo>
              </a:path>
              <a:path w="8807" h="16322">
                <a:moveTo>
                  <a:pt x="17338" y="10939"/>
                </a:moveTo>
                <a:cubicBezTo>
                  <a:pt x="17556" y="10889"/>
                  <a:pt x="17805" y="10914"/>
                  <a:pt x="18033" y="10914"/>
                </a:cubicBezTo>
                <a:cubicBezTo>
                  <a:pt x="18083" y="10914"/>
                  <a:pt x="18132" y="10914"/>
                  <a:pt x="18182" y="10914"/>
                </a:cubicBezTo>
              </a:path>
              <a:path w="8807" h="16322">
                <a:moveTo>
                  <a:pt x="17487" y="11187"/>
                </a:moveTo>
                <a:cubicBezTo>
                  <a:pt x="17519" y="11139"/>
                  <a:pt x="17761" y="11109"/>
                  <a:pt x="17835" y="11137"/>
                </a:cubicBezTo>
                <a:cubicBezTo>
                  <a:pt x="17835" y="11154"/>
                  <a:pt x="17835" y="11170"/>
                  <a:pt x="17835" y="11187"/>
                </a:cubicBezTo>
                <a:cubicBezTo>
                  <a:pt x="17789" y="11286"/>
                  <a:pt x="17679" y="11430"/>
                  <a:pt x="17636" y="11385"/>
                </a:cubicBezTo>
                <a:cubicBezTo>
                  <a:pt x="17818" y="11402"/>
                  <a:pt x="17934" y="11472"/>
                  <a:pt x="17785" y="11658"/>
                </a:cubicBezTo>
                <a:cubicBezTo>
                  <a:pt x="17673" y="11797"/>
                  <a:pt x="17584" y="11761"/>
                  <a:pt x="17438" y="11733"/>
                </a:cubicBezTo>
              </a:path>
              <a:path w="8807" h="16322">
                <a:moveTo>
                  <a:pt x="16346" y="13271"/>
                </a:moveTo>
                <a:cubicBezTo>
                  <a:pt x="16360" y="13338"/>
                  <a:pt x="16370" y="13462"/>
                  <a:pt x="16396" y="13519"/>
                </a:cubicBezTo>
                <a:cubicBezTo>
                  <a:pt x="16404" y="13519"/>
                  <a:pt x="16413" y="13519"/>
                  <a:pt x="16421" y="13519"/>
                </a:cubicBezTo>
              </a:path>
              <a:path w="8807" h="16322">
                <a:moveTo>
                  <a:pt x="16594" y="13271"/>
                </a:moveTo>
                <a:cubicBezTo>
                  <a:pt x="16623" y="13326"/>
                  <a:pt x="16711" y="13370"/>
                  <a:pt x="16768" y="13419"/>
                </a:cubicBezTo>
                <a:cubicBezTo>
                  <a:pt x="16726" y="13503"/>
                  <a:pt x="16711" y="13452"/>
                  <a:pt x="16619" y="13419"/>
                </a:cubicBezTo>
              </a:path>
              <a:path w="8807" h="16322">
                <a:moveTo>
                  <a:pt x="16619" y="13221"/>
                </a:moveTo>
                <a:cubicBezTo>
                  <a:pt x="16689" y="13202"/>
                  <a:pt x="16907" y="13161"/>
                  <a:pt x="16966" y="13221"/>
                </a:cubicBezTo>
                <a:cubicBezTo>
                  <a:pt x="16966" y="13238"/>
                  <a:pt x="16966" y="13254"/>
                  <a:pt x="16966" y="13271"/>
                </a:cubicBezTo>
              </a:path>
              <a:path w="8807" h="16322">
                <a:moveTo>
                  <a:pt x="17289" y="13146"/>
                </a:moveTo>
                <a:cubicBezTo>
                  <a:pt x="17289" y="13222"/>
                  <a:pt x="17300" y="13276"/>
                  <a:pt x="17314" y="13345"/>
                </a:cubicBezTo>
              </a:path>
              <a:path w="8807" h="16322">
                <a:moveTo>
                  <a:pt x="17661" y="13146"/>
                </a:moveTo>
                <a:cubicBezTo>
                  <a:pt x="17589" y="13170"/>
                  <a:pt x="17566" y="13177"/>
                  <a:pt x="17537" y="13221"/>
                </a:cubicBezTo>
                <a:cubicBezTo>
                  <a:pt x="17572" y="13328"/>
                  <a:pt x="17665" y="13378"/>
                  <a:pt x="17735" y="13469"/>
                </a:cubicBezTo>
                <a:cubicBezTo>
                  <a:pt x="17610" y="13469"/>
                  <a:pt x="17551" y="13429"/>
                  <a:pt x="17636" y="13295"/>
                </a:cubicBezTo>
                <a:cubicBezTo>
                  <a:pt x="17661" y="13270"/>
                  <a:pt x="17686" y="13246"/>
                  <a:pt x="17711" y="13221"/>
                </a:cubicBezTo>
              </a:path>
              <a:path w="8807" h="16322">
                <a:moveTo>
                  <a:pt x="18728" y="13568"/>
                </a:moveTo>
                <a:cubicBezTo>
                  <a:pt x="18728" y="13626"/>
                  <a:pt x="18728" y="13634"/>
                  <a:pt x="18728" y="13667"/>
                </a:cubicBezTo>
              </a:path>
              <a:path w="8807" h="16322">
                <a:moveTo>
                  <a:pt x="18951" y="13146"/>
                </a:moveTo>
                <a:cubicBezTo>
                  <a:pt x="19005" y="13173"/>
                  <a:pt x="19307" y="13373"/>
                  <a:pt x="19100" y="13419"/>
                </a:cubicBezTo>
                <a:cubicBezTo>
                  <a:pt x="19011" y="13439"/>
                  <a:pt x="18957" y="13431"/>
                  <a:pt x="18926" y="13370"/>
                </a:cubicBezTo>
                <a:cubicBezTo>
                  <a:pt x="19011" y="13381"/>
                  <a:pt x="19088" y="13395"/>
                  <a:pt x="19174" y="13395"/>
                </a:cubicBezTo>
              </a:path>
              <a:path w="8807" h="16322">
                <a:moveTo>
                  <a:pt x="16545" y="11609"/>
                </a:moveTo>
                <a:cubicBezTo>
                  <a:pt x="16545" y="11718"/>
                  <a:pt x="16530" y="11838"/>
                  <a:pt x="16570" y="11931"/>
                </a:cubicBezTo>
              </a:path>
              <a:path w="8807" h="16322">
                <a:moveTo>
                  <a:pt x="18157" y="11460"/>
                </a:moveTo>
                <a:cubicBezTo>
                  <a:pt x="18281" y="11460"/>
                  <a:pt x="18360" y="11474"/>
                  <a:pt x="18479" y="11509"/>
                </a:cubicBezTo>
                <a:cubicBezTo>
                  <a:pt x="18463" y="11599"/>
                  <a:pt x="18379" y="11899"/>
                  <a:pt x="18207" y="11782"/>
                </a:cubicBezTo>
                <a:cubicBezTo>
                  <a:pt x="18199" y="11757"/>
                  <a:pt x="18190" y="11733"/>
                  <a:pt x="18182" y="11708"/>
                </a:cubicBezTo>
                <a:cubicBezTo>
                  <a:pt x="18319" y="11708"/>
                  <a:pt x="18380" y="11741"/>
                  <a:pt x="18504" y="11782"/>
                </a:cubicBezTo>
                <a:cubicBezTo>
                  <a:pt x="18512" y="11782"/>
                  <a:pt x="18521" y="11782"/>
                  <a:pt x="18529" y="11782"/>
                </a:cubicBezTo>
              </a:path>
              <a:path w="8807" h="16322">
                <a:moveTo>
                  <a:pt x="18703" y="11460"/>
                </a:moveTo>
                <a:cubicBezTo>
                  <a:pt x="18727" y="11569"/>
                  <a:pt x="18794" y="11658"/>
                  <a:pt x="18926" y="11658"/>
                </a:cubicBezTo>
                <a:cubicBezTo>
                  <a:pt x="18926" y="11604"/>
                  <a:pt x="18939" y="11570"/>
                  <a:pt x="18976" y="11534"/>
                </a:cubicBezTo>
              </a:path>
              <a:path w="8807" h="16322">
                <a:moveTo>
                  <a:pt x="18926" y="11385"/>
                </a:moveTo>
                <a:cubicBezTo>
                  <a:pt x="18952" y="11542"/>
                  <a:pt x="18986" y="11699"/>
                  <a:pt x="19000" y="11857"/>
                </a:cubicBezTo>
              </a:path>
              <a:path w="8807" h="16322">
                <a:moveTo>
                  <a:pt x="15627" y="11286"/>
                </a:moveTo>
                <a:cubicBezTo>
                  <a:pt x="15660" y="11319"/>
                  <a:pt x="15693" y="11352"/>
                  <a:pt x="15726" y="11385"/>
                </a:cubicBezTo>
              </a:path>
              <a:path w="8807" h="16322">
                <a:moveTo>
                  <a:pt x="15726" y="11212"/>
                </a:moveTo>
                <a:cubicBezTo>
                  <a:pt x="15718" y="11212"/>
                  <a:pt x="15709" y="11212"/>
                  <a:pt x="15701" y="11212"/>
                </a:cubicBezTo>
                <a:cubicBezTo>
                  <a:pt x="15701" y="11268"/>
                  <a:pt x="15682" y="11308"/>
                  <a:pt x="15677" y="11361"/>
                </a:cubicBezTo>
                <a:cubicBezTo>
                  <a:pt x="15677" y="11385"/>
                  <a:pt x="15677" y="11394"/>
                  <a:pt x="15677" y="11410"/>
                </a:cubicBezTo>
              </a:path>
              <a:path w="8807" h="16322">
                <a:moveTo>
                  <a:pt x="15875" y="11237"/>
                </a:moveTo>
                <a:cubicBezTo>
                  <a:pt x="15904" y="11230"/>
                  <a:pt x="15920" y="11220"/>
                  <a:pt x="15949" y="11212"/>
                </a:cubicBezTo>
                <a:cubicBezTo>
                  <a:pt x="15962" y="11274"/>
                  <a:pt x="15963" y="11281"/>
                  <a:pt x="15949" y="11336"/>
                </a:cubicBezTo>
                <a:cubicBezTo>
                  <a:pt x="16025" y="11347"/>
                  <a:pt x="16008" y="11356"/>
                  <a:pt x="16049" y="11410"/>
                </a:cubicBezTo>
                <a:cubicBezTo>
                  <a:pt x="16017" y="11434"/>
                  <a:pt x="16006" y="11436"/>
                  <a:pt x="15974" y="11460"/>
                </a:cubicBezTo>
              </a:path>
              <a:path w="8807" h="16322">
                <a:moveTo>
                  <a:pt x="18058" y="11212"/>
                </a:moveTo>
                <a:cubicBezTo>
                  <a:pt x="18090" y="11212"/>
                  <a:pt x="18086" y="11233"/>
                  <a:pt x="18107" y="11261"/>
                </a:cubicBezTo>
              </a:path>
              <a:path w="8807" h="16322">
                <a:moveTo>
                  <a:pt x="18306" y="11038"/>
                </a:moveTo>
                <a:cubicBezTo>
                  <a:pt x="18245" y="11145"/>
                  <a:pt x="18226" y="11113"/>
                  <a:pt x="18355" y="11137"/>
                </a:cubicBezTo>
                <a:cubicBezTo>
                  <a:pt x="18388" y="11145"/>
                  <a:pt x="18422" y="11154"/>
                  <a:pt x="18455" y="11162"/>
                </a:cubicBezTo>
                <a:cubicBezTo>
                  <a:pt x="18435" y="11190"/>
                  <a:pt x="18332" y="11308"/>
                  <a:pt x="18355" y="11187"/>
                </a:cubicBezTo>
                <a:cubicBezTo>
                  <a:pt x="18378" y="11065"/>
                  <a:pt x="18414" y="11098"/>
                  <a:pt x="18306" y="11038"/>
                </a:cubicBezTo>
              </a:path>
              <a:path w="8807" h="16322">
                <a:moveTo>
                  <a:pt x="17934" y="10319"/>
                </a:moveTo>
                <a:cubicBezTo>
                  <a:pt x="18024" y="10319"/>
                  <a:pt x="18061" y="10309"/>
                  <a:pt x="18107" y="10368"/>
                </a:cubicBezTo>
                <a:cubicBezTo>
                  <a:pt x="18115" y="10376"/>
                  <a:pt x="18124" y="10385"/>
                  <a:pt x="18132" y="10393"/>
                </a:cubicBezTo>
              </a:path>
              <a:path w="8807" h="16322">
                <a:moveTo>
                  <a:pt x="18083" y="10269"/>
                </a:moveTo>
                <a:cubicBezTo>
                  <a:pt x="18073" y="10321"/>
                  <a:pt x="18043" y="10366"/>
                  <a:pt x="18033" y="10418"/>
                </a:cubicBezTo>
              </a:path>
              <a:path w="8807" h="16322">
                <a:moveTo>
                  <a:pt x="18231" y="10195"/>
                </a:moveTo>
                <a:cubicBezTo>
                  <a:pt x="18276" y="10195"/>
                  <a:pt x="18165" y="10220"/>
                  <a:pt x="18132" y="10244"/>
                </a:cubicBezTo>
                <a:cubicBezTo>
                  <a:pt x="18124" y="10252"/>
                  <a:pt x="18115" y="10261"/>
                  <a:pt x="18107" y="10269"/>
                </a:cubicBezTo>
                <a:cubicBezTo>
                  <a:pt x="18239" y="10278"/>
                  <a:pt x="18334" y="10270"/>
                  <a:pt x="18380" y="10393"/>
                </a:cubicBezTo>
                <a:cubicBezTo>
                  <a:pt x="18299" y="10454"/>
                  <a:pt x="18294" y="10339"/>
                  <a:pt x="18306" y="10269"/>
                </a:cubicBezTo>
                <a:cubicBezTo>
                  <a:pt x="18326" y="10229"/>
                  <a:pt x="18345" y="10213"/>
                  <a:pt x="18306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8040" y="3875040"/>
            <a:ext cx="1731960" cy="1268640"/>
          </a:xfrm>
          <a:custGeom>
            <a:avLst/>
            <a:gdLst/>
            <a:ahLst/>
            <a:rect l="l" t="t" r="r" b="b"/>
            <a:pathLst>
              <a:path w="4813" h="3524">
                <a:moveTo>
                  <a:pt x="20439" y="11212"/>
                </a:moveTo>
                <a:cubicBezTo>
                  <a:pt x="20552" y="11163"/>
                  <a:pt x="20763" y="11108"/>
                  <a:pt x="20786" y="11311"/>
                </a:cubicBezTo>
                <a:cubicBezTo>
                  <a:pt x="20811" y="11527"/>
                  <a:pt x="20629" y="11627"/>
                  <a:pt x="20464" y="11658"/>
                </a:cubicBezTo>
                <a:cubicBezTo>
                  <a:pt x="20486" y="11550"/>
                  <a:pt x="20580" y="11519"/>
                  <a:pt x="20687" y="11534"/>
                </a:cubicBezTo>
                <a:cubicBezTo>
                  <a:pt x="20717" y="11564"/>
                  <a:pt x="20731" y="11575"/>
                  <a:pt x="20762" y="11584"/>
                </a:cubicBezTo>
              </a:path>
              <a:path w="4813" h="3524">
                <a:moveTo>
                  <a:pt x="20910" y="11187"/>
                </a:moveTo>
                <a:cubicBezTo>
                  <a:pt x="20960" y="11237"/>
                  <a:pt x="21033" y="11347"/>
                  <a:pt x="21109" y="11361"/>
                </a:cubicBezTo>
                <a:cubicBezTo>
                  <a:pt x="21210" y="11361"/>
                  <a:pt x="21245" y="11359"/>
                  <a:pt x="21282" y="11286"/>
                </a:cubicBezTo>
              </a:path>
              <a:path w="4813" h="3524">
                <a:moveTo>
                  <a:pt x="21282" y="11038"/>
                </a:moveTo>
                <a:cubicBezTo>
                  <a:pt x="21306" y="11191"/>
                  <a:pt x="21377" y="11335"/>
                  <a:pt x="21431" y="11485"/>
                </a:cubicBezTo>
                <a:cubicBezTo>
                  <a:pt x="21439" y="11510"/>
                  <a:pt x="21448" y="11534"/>
                  <a:pt x="21456" y="11559"/>
                </a:cubicBezTo>
              </a:path>
              <a:path w="4813" h="3524">
                <a:moveTo>
                  <a:pt x="24036" y="11088"/>
                </a:moveTo>
                <a:cubicBezTo>
                  <a:pt x="24061" y="11021"/>
                  <a:pt x="24091" y="10912"/>
                  <a:pt x="23986" y="10889"/>
                </a:cubicBezTo>
                <a:cubicBezTo>
                  <a:pt x="23760" y="10839"/>
                  <a:pt x="23738" y="11035"/>
                  <a:pt x="23738" y="11187"/>
                </a:cubicBezTo>
                <a:cubicBezTo>
                  <a:pt x="23906" y="11163"/>
                  <a:pt x="23950" y="11111"/>
                  <a:pt x="24061" y="10988"/>
                </a:cubicBezTo>
                <a:cubicBezTo>
                  <a:pt x="24033" y="11102"/>
                  <a:pt x="24019" y="11257"/>
                  <a:pt x="24011" y="11385"/>
                </a:cubicBezTo>
                <a:cubicBezTo>
                  <a:pt x="24011" y="11463"/>
                  <a:pt x="23996" y="11512"/>
                  <a:pt x="24036" y="11460"/>
                </a:cubicBezTo>
              </a:path>
              <a:path w="4813" h="3524">
                <a:moveTo>
                  <a:pt x="24284" y="10939"/>
                </a:moveTo>
                <a:cubicBezTo>
                  <a:pt x="24330" y="10900"/>
                  <a:pt x="24488" y="10795"/>
                  <a:pt x="24532" y="10815"/>
                </a:cubicBezTo>
                <a:cubicBezTo>
                  <a:pt x="24655" y="10870"/>
                  <a:pt x="24507" y="11007"/>
                  <a:pt x="24457" y="11038"/>
                </a:cubicBezTo>
                <a:cubicBezTo>
                  <a:pt x="24585" y="11038"/>
                  <a:pt x="24689" y="11063"/>
                  <a:pt x="24581" y="11212"/>
                </a:cubicBezTo>
                <a:cubicBezTo>
                  <a:pt x="24472" y="11363"/>
                  <a:pt x="24413" y="11358"/>
                  <a:pt x="24259" y="11336"/>
                </a:cubicBezTo>
              </a:path>
              <a:path w="4813" h="3524">
                <a:moveTo>
                  <a:pt x="23614" y="11708"/>
                </a:moveTo>
                <a:cubicBezTo>
                  <a:pt x="23576" y="11570"/>
                  <a:pt x="23522" y="11428"/>
                  <a:pt x="23490" y="11286"/>
                </a:cubicBezTo>
                <a:cubicBezTo>
                  <a:pt x="23463" y="11169"/>
                  <a:pt x="23446" y="11057"/>
                  <a:pt x="23440" y="10939"/>
                </a:cubicBezTo>
                <a:cubicBezTo>
                  <a:pt x="23440" y="10931"/>
                  <a:pt x="23440" y="10922"/>
                  <a:pt x="23440" y="10914"/>
                </a:cubicBezTo>
                <a:cubicBezTo>
                  <a:pt x="23663" y="10894"/>
                  <a:pt x="23885" y="10857"/>
                  <a:pt x="24110" y="10840"/>
                </a:cubicBezTo>
                <a:cubicBezTo>
                  <a:pt x="24473" y="10813"/>
                  <a:pt x="24839" y="10776"/>
                  <a:pt x="25202" y="10765"/>
                </a:cubicBezTo>
                <a:cubicBezTo>
                  <a:pt x="25243" y="10765"/>
                  <a:pt x="25259" y="10757"/>
                  <a:pt x="25251" y="10790"/>
                </a:cubicBezTo>
              </a:path>
              <a:path w="4813" h="3524">
                <a:moveTo>
                  <a:pt x="22647" y="11112"/>
                </a:moveTo>
                <a:cubicBezTo>
                  <a:pt x="22602" y="11135"/>
                  <a:pt x="22620" y="11160"/>
                  <a:pt x="22597" y="11137"/>
                </a:cubicBezTo>
                <a:cubicBezTo>
                  <a:pt x="22711" y="11088"/>
                  <a:pt x="22856" y="11144"/>
                  <a:pt x="22796" y="11311"/>
                </a:cubicBezTo>
                <a:cubicBezTo>
                  <a:pt x="22734" y="11485"/>
                  <a:pt x="22591" y="11559"/>
                  <a:pt x="22423" y="11559"/>
                </a:cubicBezTo>
                <a:cubicBezTo>
                  <a:pt x="22522" y="11509"/>
                  <a:pt x="22618" y="11479"/>
                  <a:pt x="22696" y="11584"/>
                </a:cubicBezTo>
                <a:cubicBezTo>
                  <a:pt x="22696" y="11592"/>
                  <a:pt x="22696" y="11601"/>
                  <a:pt x="22696" y="11609"/>
                </a:cubicBezTo>
              </a:path>
              <a:path w="4813" h="3524">
                <a:moveTo>
                  <a:pt x="22796" y="11162"/>
                </a:moveTo>
                <a:cubicBezTo>
                  <a:pt x="22872" y="11173"/>
                  <a:pt x="22929" y="11206"/>
                  <a:pt x="23019" y="11187"/>
                </a:cubicBezTo>
                <a:cubicBezTo>
                  <a:pt x="23073" y="11160"/>
                  <a:pt x="23093" y="11148"/>
                  <a:pt x="23118" y="11112"/>
                </a:cubicBezTo>
              </a:path>
              <a:path w="4813" h="3524">
                <a:moveTo>
                  <a:pt x="23093" y="10964"/>
                </a:moveTo>
                <a:cubicBezTo>
                  <a:pt x="23093" y="11109"/>
                  <a:pt x="23099" y="11267"/>
                  <a:pt x="23118" y="11410"/>
                </a:cubicBezTo>
                <a:cubicBezTo>
                  <a:pt x="23137" y="11484"/>
                  <a:pt x="23171" y="11517"/>
                  <a:pt x="23118" y="11509"/>
                </a:cubicBezTo>
              </a:path>
              <a:path w="4813" h="3524">
                <a:moveTo>
                  <a:pt x="22920" y="11038"/>
                </a:moveTo>
                <a:cubicBezTo>
                  <a:pt x="22856" y="11038"/>
                  <a:pt x="22849" y="11045"/>
                  <a:pt x="22845" y="11112"/>
                </a:cubicBezTo>
                <a:cubicBezTo>
                  <a:pt x="22845" y="11154"/>
                  <a:pt x="22837" y="11170"/>
                  <a:pt x="22870" y="11162"/>
                </a:cubicBezTo>
              </a:path>
              <a:path w="4813" h="3524">
                <a:moveTo>
                  <a:pt x="23812" y="11683"/>
                </a:moveTo>
                <a:cubicBezTo>
                  <a:pt x="23812" y="11711"/>
                  <a:pt x="23814" y="11722"/>
                  <a:pt x="23837" y="11733"/>
                </a:cubicBezTo>
                <a:cubicBezTo>
                  <a:pt x="23837" y="11600"/>
                  <a:pt x="23933" y="11656"/>
                  <a:pt x="24036" y="11609"/>
                </a:cubicBezTo>
                <a:cubicBezTo>
                  <a:pt x="24092" y="11571"/>
                  <a:pt x="24095" y="11554"/>
                  <a:pt x="24135" y="11559"/>
                </a:cubicBezTo>
                <a:cubicBezTo>
                  <a:pt x="24171" y="11678"/>
                  <a:pt x="24160" y="11803"/>
                  <a:pt x="24160" y="11931"/>
                </a:cubicBezTo>
                <a:cubicBezTo>
                  <a:pt x="24160" y="11939"/>
                  <a:pt x="24160" y="11948"/>
                  <a:pt x="24160" y="11956"/>
                </a:cubicBezTo>
              </a:path>
              <a:path w="4813" h="3524">
                <a:moveTo>
                  <a:pt x="23341" y="11956"/>
                </a:moveTo>
                <a:cubicBezTo>
                  <a:pt x="23441" y="11923"/>
                  <a:pt x="23533" y="11906"/>
                  <a:pt x="23639" y="11906"/>
                </a:cubicBezTo>
              </a:path>
              <a:path w="4813" h="3524">
                <a:moveTo>
                  <a:pt x="23341" y="12179"/>
                </a:moveTo>
                <a:cubicBezTo>
                  <a:pt x="23605" y="12179"/>
                  <a:pt x="23874" y="12143"/>
                  <a:pt x="24135" y="12105"/>
                </a:cubicBezTo>
                <a:cubicBezTo>
                  <a:pt x="24323" y="12077"/>
                  <a:pt x="24470" y="12055"/>
                  <a:pt x="24656" y="12055"/>
                </a:cubicBezTo>
                <a:cubicBezTo>
                  <a:pt x="24664" y="12055"/>
                  <a:pt x="24673" y="12055"/>
                  <a:pt x="24681" y="12055"/>
                </a:cubicBezTo>
              </a:path>
              <a:path w="4813" h="3524">
                <a:moveTo>
                  <a:pt x="24557" y="12179"/>
                </a:moveTo>
                <a:cubicBezTo>
                  <a:pt x="24505" y="12214"/>
                  <a:pt x="24555" y="12397"/>
                  <a:pt x="24557" y="12477"/>
                </a:cubicBezTo>
                <a:cubicBezTo>
                  <a:pt x="24557" y="12535"/>
                  <a:pt x="24557" y="12576"/>
                  <a:pt x="24557" y="12526"/>
                </a:cubicBezTo>
              </a:path>
              <a:path w="4813" h="3524">
                <a:moveTo>
                  <a:pt x="23961" y="12378"/>
                </a:moveTo>
                <a:cubicBezTo>
                  <a:pt x="23961" y="12418"/>
                  <a:pt x="23990" y="12362"/>
                  <a:pt x="24036" y="12353"/>
                </a:cubicBezTo>
                <a:cubicBezTo>
                  <a:pt x="24052" y="12353"/>
                  <a:pt x="24069" y="12353"/>
                  <a:pt x="24085" y="12353"/>
                </a:cubicBezTo>
                <a:cubicBezTo>
                  <a:pt x="24138" y="12476"/>
                  <a:pt x="24096" y="12569"/>
                  <a:pt x="24011" y="12675"/>
                </a:cubicBezTo>
                <a:cubicBezTo>
                  <a:pt x="23954" y="12733"/>
                  <a:pt x="23946" y="12742"/>
                  <a:pt x="23912" y="12774"/>
                </a:cubicBezTo>
                <a:cubicBezTo>
                  <a:pt x="24003" y="12764"/>
                  <a:pt x="24074" y="12725"/>
                  <a:pt x="24160" y="12700"/>
                </a:cubicBezTo>
                <a:cubicBezTo>
                  <a:pt x="24168" y="12700"/>
                  <a:pt x="24177" y="12700"/>
                  <a:pt x="24185" y="12700"/>
                </a:cubicBezTo>
              </a:path>
              <a:path w="4813" h="3524">
                <a:moveTo>
                  <a:pt x="20861" y="13221"/>
                </a:moveTo>
                <a:cubicBezTo>
                  <a:pt x="20977" y="13182"/>
                  <a:pt x="21046" y="13087"/>
                  <a:pt x="21183" y="13097"/>
                </a:cubicBezTo>
                <a:cubicBezTo>
                  <a:pt x="21200" y="13105"/>
                  <a:pt x="21216" y="13114"/>
                  <a:pt x="21233" y="13122"/>
                </a:cubicBezTo>
                <a:cubicBezTo>
                  <a:pt x="21258" y="13354"/>
                  <a:pt x="21130" y="13417"/>
                  <a:pt x="20935" y="13568"/>
                </a:cubicBezTo>
                <a:cubicBezTo>
                  <a:pt x="20891" y="13524"/>
                  <a:pt x="21147" y="13512"/>
                  <a:pt x="21183" y="13519"/>
                </a:cubicBezTo>
                <a:cubicBezTo>
                  <a:pt x="21578" y="13595"/>
                  <a:pt x="21122" y="13966"/>
                  <a:pt x="20960" y="14015"/>
                </a:cubicBezTo>
                <a:cubicBezTo>
                  <a:pt x="20768" y="14073"/>
                  <a:pt x="20736" y="14035"/>
                  <a:pt x="20712" y="13915"/>
                </a:cubicBezTo>
              </a:path>
              <a:path w="4813" h="3524">
                <a:moveTo>
                  <a:pt x="21679" y="12849"/>
                </a:moveTo>
                <a:cubicBezTo>
                  <a:pt x="21734" y="12767"/>
                  <a:pt x="21890" y="12845"/>
                  <a:pt x="21977" y="12874"/>
                </a:cubicBezTo>
                <a:cubicBezTo>
                  <a:pt x="21871" y="13084"/>
                  <a:pt x="21764" y="13101"/>
                  <a:pt x="21530" y="13122"/>
                </a:cubicBezTo>
                <a:cubicBezTo>
                  <a:pt x="21552" y="13032"/>
                  <a:pt x="21701" y="13061"/>
                  <a:pt x="21779" y="13072"/>
                </a:cubicBezTo>
                <a:cubicBezTo>
                  <a:pt x="21863" y="13093"/>
                  <a:pt x="21882" y="13109"/>
                  <a:pt x="21927" y="13072"/>
                </a:cubicBezTo>
              </a:path>
              <a:path w="4813" h="3524">
                <a:moveTo>
                  <a:pt x="22051" y="12650"/>
                </a:moveTo>
                <a:cubicBezTo>
                  <a:pt x="22139" y="12721"/>
                  <a:pt x="22111" y="12831"/>
                  <a:pt x="22175" y="12923"/>
                </a:cubicBezTo>
                <a:cubicBezTo>
                  <a:pt x="22183" y="12923"/>
                  <a:pt x="22192" y="12923"/>
                  <a:pt x="22200" y="12923"/>
                </a:cubicBezTo>
              </a:path>
              <a:path w="4813" h="3524">
                <a:moveTo>
                  <a:pt x="21729" y="13295"/>
                </a:moveTo>
                <a:cubicBezTo>
                  <a:pt x="21924" y="13280"/>
                  <a:pt x="22107" y="13239"/>
                  <a:pt x="22299" y="13196"/>
                </a:cubicBezTo>
              </a:path>
              <a:path w="4813" h="3524">
                <a:moveTo>
                  <a:pt x="21828" y="13643"/>
                </a:moveTo>
                <a:cubicBezTo>
                  <a:pt x="21925" y="13684"/>
                  <a:pt x="22083" y="13779"/>
                  <a:pt x="21903" y="13866"/>
                </a:cubicBezTo>
                <a:cubicBezTo>
                  <a:pt x="21839" y="13897"/>
                  <a:pt x="21778" y="13910"/>
                  <a:pt x="21729" y="13891"/>
                </a:cubicBezTo>
                <a:cubicBezTo>
                  <a:pt x="21806" y="13829"/>
                  <a:pt x="21860" y="13822"/>
                  <a:pt x="21952" y="13841"/>
                </a:cubicBezTo>
              </a:path>
              <a:path w="4813" h="3524">
                <a:moveTo>
                  <a:pt x="22051" y="13543"/>
                </a:moveTo>
                <a:cubicBezTo>
                  <a:pt x="22084" y="13554"/>
                  <a:pt x="22110" y="13625"/>
                  <a:pt x="22126" y="13667"/>
                </a:cubicBezTo>
                <a:cubicBezTo>
                  <a:pt x="22163" y="13768"/>
                  <a:pt x="22320" y="13657"/>
                  <a:pt x="22374" y="13618"/>
                </a:cubicBezTo>
              </a:path>
              <a:path w="4813" h="3524">
                <a:moveTo>
                  <a:pt x="22299" y="13444"/>
                </a:moveTo>
                <a:cubicBezTo>
                  <a:pt x="22309" y="13584"/>
                  <a:pt x="22329" y="13732"/>
                  <a:pt x="22374" y="13866"/>
                </a:cubicBezTo>
                <a:cubicBezTo>
                  <a:pt x="22379" y="13880"/>
                  <a:pt x="22399" y="13975"/>
                  <a:pt x="22399" y="13915"/>
                </a:cubicBezTo>
              </a:path>
              <a:path w="4813" h="3524">
                <a:moveTo>
                  <a:pt x="22448" y="12799"/>
                </a:moveTo>
                <a:cubicBezTo>
                  <a:pt x="22481" y="12799"/>
                  <a:pt x="22514" y="12799"/>
                  <a:pt x="22547" y="12799"/>
                </a:cubicBezTo>
              </a:path>
              <a:path w="4813" h="3524">
                <a:moveTo>
                  <a:pt x="22597" y="12601"/>
                </a:moveTo>
                <a:cubicBezTo>
                  <a:pt x="22637" y="12581"/>
                  <a:pt x="22644" y="12572"/>
                  <a:pt x="22671" y="12576"/>
                </a:cubicBezTo>
                <a:cubicBezTo>
                  <a:pt x="22686" y="12621"/>
                  <a:pt x="22708" y="12768"/>
                  <a:pt x="22721" y="12774"/>
                </a:cubicBezTo>
                <a:cubicBezTo>
                  <a:pt x="22812" y="12818"/>
                  <a:pt x="22691" y="12885"/>
                  <a:pt x="22647" y="12923"/>
                </a:cubicBezTo>
              </a:path>
              <a:path w="4813" h="3524">
                <a:moveTo>
                  <a:pt x="22746" y="13593"/>
                </a:moveTo>
                <a:cubicBezTo>
                  <a:pt x="22775" y="13586"/>
                  <a:pt x="22791" y="13576"/>
                  <a:pt x="22820" y="13568"/>
                </a:cubicBezTo>
                <a:cubicBezTo>
                  <a:pt x="22829" y="13668"/>
                  <a:pt x="22823" y="13674"/>
                  <a:pt x="22771" y="13767"/>
                </a:cubicBezTo>
                <a:cubicBezTo>
                  <a:pt x="22816" y="13737"/>
                  <a:pt x="22903" y="13779"/>
                  <a:pt x="22845" y="13866"/>
                </a:cubicBezTo>
                <a:cubicBezTo>
                  <a:pt x="22824" y="13897"/>
                  <a:pt x="22662" y="13970"/>
                  <a:pt x="22696" y="13915"/>
                </a:cubicBezTo>
                <a:cubicBezTo>
                  <a:pt x="22721" y="13882"/>
                  <a:pt x="22746" y="13849"/>
                  <a:pt x="22771" y="13816"/>
                </a:cubicBezTo>
              </a:path>
              <a:path w="4813" h="3524">
                <a:moveTo>
                  <a:pt x="23019" y="13345"/>
                </a:moveTo>
                <a:cubicBezTo>
                  <a:pt x="23019" y="13298"/>
                  <a:pt x="23057" y="13320"/>
                  <a:pt x="23093" y="13320"/>
                </a:cubicBezTo>
              </a:path>
              <a:path w="4813" h="3524">
                <a:moveTo>
                  <a:pt x="22994" y="13469"/>
                </a:moveTo>
                <a:cubicBezTo>
                  <a:pt x="23044" y="13469"/>
                  <a:pt x="23060" y="13469"/>
                  <a:pt x="23093" y="13469"/>
                </a:cubicBezTo>
              </a:path>
              <a:path w="4813" h="3524">
                <a:moveTo>
                  <a:pt x="24383" y="13593"/>
                </a:moveTo>
                <a:cubicBezTo>
                  <a:pt x="24297" y="13601"/>
                  <a:pt x="24254" y="13612"/>
                  <a:pt x="24185" y="13667"/>
                </a:cubicBezTo>
                <a:cubicBezTo>
                  <a:pt x="24220" y="13674"/>
                  <a:pt x="24448" y="13745"/>
                  <a:pt x="24383" y="13841"/>
                </a:cubicBezTo>
                <a:cubicBezTo>
                  <a:pt x="24371" y="13859"/>
                  <a:pt x="24260" y="13886"/>
                  <a:pt x="24234" y="13891"/>
                </a:cubicBezTo>
                <a:cubicBezTo>
                  <a:pt x="24266" y="13807"/>
                  <a:pt x="24301" y="13727"/>
                  <a:pt x="24333" y="13643"/>
                </a:cubicBezTo>
              </a:path>
              <a:path w="4813" h="3524">
                <a:moveTo>
                  <a:pt x="23465" y="14114"/>
                </a:moveTo>
                <a:cubicBezTo>
                  <a:pt x="23663" y="14156"/>
                  <a:pt x="23807" y="14161"/>
                  <a:pt x="24011" y="14139"/>
                </a:cubicBezTo>
                <a:cubicBezTo>
                  <a:pt x="24261" y="14111"/>
                  <a:pt x="24592" y="14091"/>
                  <a:pt x="24805" y="13940"/>
                </a:cubicBezTo>
                <a:cubicBezTo>
                  <a:pt x="24997" y="13805"/>
                  <a:pt x="25028" y="13631"/>
                  <a:pt x="25028" y="13419"/>
                </a:cubicBezTo>
                <a:cubicBezTo>
                  <a:pt x="25028" y="13344"/>
                  <a:pt x="25015" y="13212"/>
                  <a:pt x="24978" y="13146"/>
                </a:cubicBezTo>
                <a:cubicBezTo>
                  <a:pt x="24976" y="13142"/>
                  <a:pt x="24914" y="13033"/>
                  <a:pt x="24904" y="13022"/>
                </a:cubicBezTo>
                <a:cubicBezTo>
                  <a:pt x="24833" y="12942"/>
                  <a:pt x="24653" y="12908"/>
                  <a:pt x="24557" y="12874"/>
                </a:cubicBezTo>
                <a:cubicBezTo>
                  <a:pt x="24468" y="12842"/>
                  <a:pt x="24404" y="12802"/>
                  <a:pt x="24309" y="12799"/>
                </a:cubicBezTo>
                <a:cubicBezTo>
                  <a:pt x="24128" y="12794"/>
                  <a:pt x="23983" y="12799"/>
                  <a:pt x="23812" y="12849"/>
                </a:cubicBezTo>
                <a:cubicBezTo>
                  <a:pt x="23668" y="12891"/>
                  <a:pt x="23532" y="12951"/>
                  <a:pt x="23391" y="12998"/>
                </a:cubicBezTo>
                <a:cubicBezTo>
                  <a:pt x="23273" y="13037"/>
                  <a:pt x="23238" y="13080"/>
                  <a:pt x="23143" y="13146"/>
                </a:cubicBezTo>
                <a:cubicBezTo>
                  <a:pt x="23077" y="13192"/>
                  <a:pt x="23010" y="13284"/>
                  <a:pt x="22994" y="13370"/>
                </a:cubicBezTo>
                <a:cubicBezTo>
                  <a:pt x="22972" y="13487"/>
                  <a:pt x="23056" y="13660"/>
                  <a:pt x="23093" y="13767"/>
                </a:cubicBezTo>
                <a:cubicBezTo>
                  <a:pt x="23142" y="13910"/>
                  <a:pt x="23219" y="14033"/>
                  <a:pt x="23292" y="14163"/>
                </a:cubicBezTo>
                <a:cubicBezTo>
                  <a:pt x="23329" y="14229"/>
                  <a:pt x="23317" y="14288"/>
                  <a:pt x="23391" y="14288"/>
                </a:cubicBezTo>
                <a:cubicBezTo>
                  <a:pt x="23513" y="14288"/>
                  <a:pt x="23613" y="14221"/>
                  <a:pt x="23713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87800" y="884160"/>
            <a:ext cx="4546440" cy="4054680"/>
          </a:xfrm>
          <a:custGeom>
            <a:avLst/>
            <a:gdLst/>
            <a:ahLst/>
            <a:rect l="l" t="t" r="r" b="b"/>
            <a:pathLst>
              <a:path w="12627" h="11262">
                <a:moveTo>
                  <a:pt x="9252" y="2803"/>
                </a:moveTo>
                <a:lnTo>
                  <a:pt x="9252" y="2803"/>
                </a:lnTo>
              </a:path>
              <a:path w="12627" h="11262">
                <a:moveTo>
                  <a:pt x="8855" y="2604"/>
                </a:moveTo>
                <a:cubicBezTo>
                  <a:pt x="9014" y="2604"/>
                  <a:pt x="9168" y="2584"/>
                  <a:pt x="9327" y="2580"/>
                </a:cubicBezTo>
                <a:cubicBezTo>
                  <a:pt x="9343" y="2580"/>
                  <a:pt x="9360" y="2580"/>
                  <a:pt x="9376" y="2580"/>
                </a:cubicBezTo>
                <a:cubicBezTo>
                  <a:pt x="9337" y="2657"/>
                  <a:pt x="9292" y="2698"/>
                  <a:pt x="9302" y="2803"/>
                </a:cubicBezTo>
                <a:cubicBezTo>
                  <a:pt x="9406" y="2796"/>
                  <a:pt x="9575" y="2806"/>
                  <a:pt x="9575" y="2654"/>
                </a:cubicBezTo>
                <a:cubicBezTo>
                  <a:pt x="9575" y="2609"/>
                  <a:pt x="9441" y="2575"/>
                  <a:pt x="9401" y="2555"/>
                </a:cubicBezTo>
              </a:path>
              <a:path w="12627" h="11262">
                <a:moveTo>
                  <a:pt x="9723" y="2729"/>
                </a:moveTo>
                <a:cubicBezTo>
                  <a:pt x="9740" y="2745"/>
                  <a:pt x="9756" y="2762"/>
                  <a:pt x="9773" y="2778"/>
                </a:cubicBezTo>
                <a:cubicBezTo>
                  <a:pt x="9767" y="2732"/>
                  <a:pt x="9719" y="2555"/>
                  <a:pt x="9798" y="2530"/>
                </a:cubicBezTo>
                <a:cubicBezTo>
                  <a:pt x="9914" y="2507"/>
                  <a:pt x="9947" y="2500"/>
                  <a:pt x="10021" y="2480"/>
                </a:cubicBezTo>
              </a:path>
              <a:path w="12627" h="11262">
                <a:moveTo>
                  <a:pt x="10170" y="2456"/>
                </a:moveTo>
                <a:cubicBezTo>
                  <a:pt x="10113" y="2467"/>
                  <a:pt x="10069" y="2484"/>
                  <a:pt x="10046" y="2530"/>
                </a:cubicBezTo>
                <a:cubicBezTo>
                  <a:pt x="10145" y="2566"/>
                  <a:pt x="10255" y="2578"/>
                  <a:pt x="10344" y="2629"/>
                </a:cubicBezTo>
                <a:cubicBezTo>
                  <a:pt x="10327" y="2749"/>
                  <a:pt x="10229" y="2724"/>
                  <a:pt x="10120" y="2729"/>
                </a:cubicBezTo>
                <a:cubicBezTo>
                  <a:pt x="10112" y="2729"/>
                  <a:pt x="10104" y="2729"/>
                  <a:pt x="10096" y="2729"/>
                </a:cubicBezTo>
              </a:path>
              <a:path w="12627" h="11262">
                <a:moveTo>
                  <a:pt x="10096" y="2729"/>
                </a:moveTo>
                <a:lnTo>
                  <a:pt x="10096" y="2729"/>
                </a:lnTo>
              </a:path>
              <a:path w="12627" h="11262">
                <a:moveTo>
                  <a:pt x="8930" y="5531"/>
                </a:moveTo>
                <a:cubicBezTo>
                  <a:pt x="9002" y="5508"/>
                  <a:pt x="9077" y="5495"/>
                  <a:pt x="9153" y="5482"/>
                </a:cubicBezTo>
              </a:path>
              <a:path w="12627" h="11262">
                <a:moveTo>
                  <a:pt x="9029" y="5308"/>
                </a:moveTo>
                <a:cubicBezTo>
                  <a:pt x="9029" y="5343"/>
                  <a:pt x="9034" y="5361"/>
                  <a:pt x="9054" y="5383"/>
                </a:cubicBezTo>
              </a:path>
              <a:path w="12627" h="11262">
                <a:moveTo>
                  <a:pt x="9054" y="5383"/>
                </a:moveTo>
                <a:lnTo>
                  <a:pt x="9054" y="5383"/>
                </a:lnTo>
              </a:path>
              <a:path w="12627" h="11262">
                <a:moveTo>
                  <a:pt x="9079" y="5655"/>
                </a:moveTo>
                <a:lnTo>
                  <a:pt x="9079" y="5655"/>
                </a:lnTo>
              </a:path>
              <a:path w="12627" h="11262">
                <a:moveTo>
                  <a:pt x="10195" y="6003"/>
                </a:moveTo>
                <a:lnTo>
                  <a:pt x="10195" y="6003"/>
                </a:lnTo>
              </a:path>
              <a:path w="12627" h="11262">
                <a:moveTo>
                  <a:pt x="11038" y="5110"/>
                </a:moveTo>
                <a:cubicBezTo>
                  <a:pt x="11068" y="5275"/>
                  <a:pt x="11134" y="5444"/>
                  <a:pt x="11187" y="5606"/>
                </a:cubicBezTo>
                <a:cubicBezTo>
                  <a:pt x="11195" y="5631"/>
                  <a:pt x="11204" y="5655"/>
                  <a:pt x="11212" y="5680"/>
                </a:cubicBezTo>
              </a:path>
              <a:path w="12627" h="11262">
                <a:moveTo>
                  <a:pt x="10641" y="5928"/>
                </a:moveTo>
                <a:cubicBezTo>
                  <a:pt x="10889" y="5928"/>
                  <a:pt x="11136" y="5907"/>
                  <a:pt x="11385" y="5904"/>
                </a:cubicBezTo>
                <a:cubicBezTo>
                  <a:pt x="11397" y="5904"/>
                  <a:pt x="11695" y="5866"/>
                  <a:pt x="11708" y="5904"/>
                </a:cubicBezTo>
              </a:path>
              <a:path w="12627" h="11262">
                <a:moveTo>
                  <a:pt x="10988" y="6400"/>
                </a:moveTo>
                <a:cubicBezTo>
                  <a:pt x="10988" y="6326"/>
                  <a:pt x="11039" y="6274"/>
                  <a:pt x="11112" y="6251"/>
                </a:cubicBezTo>
                <a:cubicBezTo>
                  <a:pt x="11332" y="6182"/>
                  <a:pt x="11245" y="6499"/>
                  <a:pt x="11212" y="6573"/>
                </a:cubicBezTo>
                <a:cubicBezTo>
                  <a:pt x="11178" y="6649"/>
                  <a:pt x="11115" y="6704"/>
                  <a:pt x="11088" y="6772"/>
                </a:cubicBezTo>
                <a:cubicBezTo>
                  <a:pt x="11055" y="6672"/>
                  <a:pt x="11096" y="6634"/>
                  <a:pt x="11212" y="6648"/>
                </a:cubicBezTo>
                <a:cubicBezTo>
                  <a:pt x="11369" y="6666"/>
                  <a:pt x="11446" y="6724"/>
                  <a:pt x="11584" y="6648"/>
                </a:cubicBezTo>
                <a:cubicBezTo>
                  <a:pt x="11600" y="6640"/>
                  <a:pt x="11617" y="6631"/>
                  <a:pt x="11633" y="6623"/>
                </a:cubicBezTo>
              </a:path>
              <a:path w="12627" h="11262">
                <a:moveTo>
                  <a:pt x="11658" y="5159"/>
                </a:moveTo>
                <a:cubicBezTo>
                  <a:pt x="11578" y="5041"/>
                  <a:pt x="11504" y="4955"/>
                  <a:pt x="11385" y="4862"/>
                </a:cubicBezTo>
                <a:cubicBezTo>
                  <a:pt x="11237" y="4746"/>
                  <a:pt x="11061" y="4728"/>
                  <a:pt x="10889" y="4738"/>
                </a:cubicBezTo>
                <a:cubicBezTo>
                  <a:pt x="10710" y="4749"/>
                  <a:pt x="10614" y="4772"/>
                  <a:pt x="10517" y="4936"/>
                </a:cubicBezTo>
                <a:cubicBezTo>
                  <a:pt x="10411" y="5116"/>
                  <a:pt x="10433" y="5335"/>
                  <a:pt x="10468" y="5531"/>
                </a:cubicBezTo>
                <a:cubicBezTo>
                  <a:pt x="10496" y="5685"/>
                  <a:pt x="10504" y="5848"/>
                  <a:pt x="10517" y="6003"/>
                </a:cubicBezTo>
                <a:cubicBezTo>
                  <a:pt x="10526" y="6113"/>
                  <a:pt x="10583" y="6240"/>
                  <a:pt x="10567" y="6350"/>
                </a:cubicBezTo>
                <a:cubicBezTo>
                  <a:pt x="10552" y="6451"/>
                  <a:pt x="10542" y="6543"/>
                  <a:pt x="10542" y="6648"/>
                </a:cubicBezTo>
                <a:cubicBezTo>
                  <a:pt x="10542" y="6716"/>
                  <a:pt x="10547" y="6789"/>
                  <a:pt x="10592" y="6846"/>
                </a:cubicBezTo>
                <a:cubicBezTo>
                  <a:pt x="10660" y="6933"/>
                  <a:pt x="10757" y="6936"/>
                  <a:pt x="10864" y="6945"/>
                </a:cubicBezTo>
                <a:cubicBezTo>
                  <a:pt x="11096" y="6964"/>
                  <a:pt x="11331" y="6939"/>
                  <a:pt x="11559" y="6921"/>
                </a:cubicBezTo>
                <a:cubicBezTo>
                  <a:pt x="11674" y="6912"/>
                  <a:pt x="11681" y="6902"/>
                  <a:pt x="11782" y="6846"/>
                </a:cubicBezTo>
                <a:cubicBezTo>
                  <a:pt x="11913" y="6773"/>
                  <a:pt x="11962" y="6768"/>
                  <a:pt x="11931" y="6598"/>
                </a:cubicBezTo>
                <a:cubicBezTo>
                  <a:pt x="11908" y="6470"/>
                  <a:pt x="11874" y="6374"/>
                  <a:pt x="11832" y="6251"/>
                </a:cubicBezTo>
                <a:cubicBezTo>
                  <a:pt x="11775" y="6085"/>
                  <a:pt x="11858" y="6031"/>
                  <a:pt x="11881" y="5879"/>
                </a:cubicBezTo>
                <a:cubicBezTo>
                  <a:pt x="11896" y="5781"/>
                  <a:pt x="11888" y="5667"/>
                  <a:pt x="11881" y="5581"/>
                </a:cubicBezTo>
                <a:cubicBezTo>
                  <a:pt x="11875" y="5510"/>
                  <a:pt x="11876" y="5446"/>
                  <a:pt x="11832" y="5383"/>
                </a:cubicBezTo>
                <a:cubicBezTo>
                  <a:pt x="11786" y="5317"/>
                  <a:pt x="11630" y="5269"/>
                  <a:pt x="11559" y="5234"/>
                </a:cubicBezTo>
                <a:cubicBezTo>
                  <a:pt x="11529" y="5219"/>
                  <a:pt x="11533" y="5206"/>
                  <a:pt x="11485" y="5209"/>
                </a:cubicBezTo>
                <a:cubicBezTo>
                  <a:pt x="11460" y="5209"/>
                  <a:pt x="11452" y="5209"/>
                  <a:pt x="11460" y="5234"/>
                </a:cubicBezTo>
              </a:path>
              <a:path w="12627" h="11262">
                <a:moveTo>
                  <a:pt x="15677" y="8409"/>
                </a:moveTo>
                <a:lnTo>
                  <a:pt x="15677" y="8409"/>
                </a:lnTo>
              </a:path>
              <a:path w="12627" h="11262">
                <a:moveTo>
                  <a:pt x="16371" y="6350"/>
                </a:moveTo>
                <a:lnTo>
                  <a:pt x="16371" y="6350"/>
                </a:lnTo>
              </a:path>
              <a:path w="12627" h="11262">
                <a:moveTo>
                  <a:pt x="21481" y="5804"/>
                </a:moveTo>
                <a:lnTo>
                  <a:pt x="21481" y="5804"/>
                </a:lnTo>
              </a:path>
              <a:path w="12627" h="11262">
                <a:moveTo>
                  <a:pt x="14560" y="12849"/>
                </a:moveTo>
                <a:lnTo>
                  <a:pt x="14560" y="12849"/>
                </a:lnTo>
              </a:path>
              <a:path w="12627" h="11262">
                <a:moveTo>
                  <a:pt x="15056" y="12948"/>
                </a:moveTo>
                <a:cubicBezTo>
                  <a:pt x="15056" y="12993"/>
                  <a:pt x="15053" y="13013"/>
                  <a:pt x="15081" y="12973"/>
                </a:cubicBezTo>
              </a:path>
              <a:path w="12627" h="11262">
                <a:moveTo>
                  <a:pt x="15081" y="12973"/>
                </a:moveTo>
                <a:lnTo>
                  <a:pt x="15081" y="12973"/>
                </a:lnTo>
              </a:path>
              <a:path w="12627" h="11262">
                <a:moveTo>
                  <a:pt x="14833" y="13643"/>
                </a:moveTo>
                <a:cubicBezTo>
                  <a:pt x="14841" y="13643"/>
                  <a:pt x="14850" y="13643"/>
                  <a:pt x="14858" y="13643"/>
                </a:cubicBezTo>
              </a:path>
              <a:path w="12627" h="11262">
                <a:moveTo>
                  <a:pt x="14858" y="13643"/>
                </a:moveTo>
                <a:lnTo>
                  <a:pt x="14858" y="13643"/>
                </a:lnTo>
              </a:path>
              <a:path w="12627" h="11262">
                <a:moveTo>
                  <a:pt x="15404" y="13717"/>
                </a:moveTo>
                <a:lnTo>
                  <a:pt x="15404" y="13717"/>
                </a:lnTo>
              </a:path>
              <a:path w="12627" h="11262">
                <a:moveTo>
                  <a:pt x="15627" y="13295"/>
                </a:moveTo>
                <a:cubicBezTo>
                  <a:pt x="15606" y="13391"/>
                  <a:pt x="15601" y="13448"/>
                  <a:pt x="15627" y="13543"/>
                </a:cubicBezTo>
              </a:path>
              <a:path w="12627" h="11262">
                <a:moveTo>
                  <a:pt x="15726" y="10443"/>
                </a:moveTo>
                <a:cubicBezTo>
                  <a:pt x="15774" y="10450"/>
                  <a:pt x="15784" y="10457"/>
                  <a:pt x="15825" y="10468"/>
                </a:cubicBezTo>
              </a:path>
              <a:path w="12627" h="11262">
                <a:moveTo>
                  <a:pt x="15751" y="10492"/>
                </a:moveTo>
                <a:lnTo>
                  <a:pt x="15751" y="10492"/>
                </a:lnTo>
              </a:path>
              <a:path w="12627" h="11262">
                <a:moveTo>
                  <a:pt x="16321" y="9872"/>
                </a:moveTo>
                <a:lnTo>
                  <a:pt x="16321" y="987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9880" y="1428840"/>
            <a:ext cx="1322280" cy="2349360"/>
          </a:xfrm>
          <a:custGeom>
            <a:avLst/>
            <a:gdLst/>
            <a:ahLst/>
            <a:rect l="l" t="t" r="r" b="b"/>
            <a:pathLst>
              <a:path w="3672" h="6524">
                <a:moveTo>
                  <a:pt x="14833" y="7491"/>
                </a:moveTo>
                <a:cubicBezTo>
                  <a:pt x="14858" y="7458"/>
                  <a:pt x="14879" y="7424"/>
                  <a:pt x="14833" y="7392"/>
                </a:cubicBezTo>
                <a:cubicBezTo>
                  <a:pt x="14799" y="7368"/>
                  <a:pt x="14703" y="7313"/>
                  <a:pt x="14660" y="7342"/>
                </a:cubicBezTo>
                <a:cubicBezTo>
                  <a:pt x="14614" y="7388"/>
                  <a:pt x="14599" y="7400"/>
                  <a:pt x="14585" y="7441"/>
                </a:cubicBezTo>
                <a:cubicBezTo>
                  <a:pt x="14660" y="7486"/>
                  <a:pt x="14708" y="7470"/>
                  <a:pt x="14784" y="7417"/>
                </a:cubicBezTo>
                <a:cubicBezTo>
                  <a:pt x="14792" y="7409"/>
                  <a:pt x="14800" y="7400"/>
                  <a:pt x="14808" y="7392"/>
                </a:cubicBezTo>
                <a:cubicBezTo>
                  <a:pt x="14825" y="7475"/>
                  <a:pt x="14833" y="7550"/>
                  <a:pt x="14833" y="7640"/>
                </a:cubicBezTo>
                <a:cubicBezTo>
                  <a:pt x="14833" y="7648"/>
                  <a:pt x="14833" y="7657"/>
                  <a:pt x="14833" y="7665"/>
                </a:cubicBezTo>
              </a:path>
              <a:path w="3672" h="6524">
                <a:moveTo>
                  <a:pt x="15007" y="7640"/>
                </a:moveTo>
                <a:cubicBezTo>
                  <a:pt x="15025" y="7701"/>
                  <a:pt x="15032" y="7711"/>
                  <a:pt x="15032" y="7764"/>
                </a:cubicBezTo>
              </a:path>
              <a:path w="3672" h="6524">
                <a:moveTo>
                  <a:pt x="16098" y="8037"/>
                </a:moveTo>
                <a:cubicBezTo>
                  <a:pt x="16098" y="8099"/>
                  <a:pt x="16117" y="8150"/>
                  <a:pt x="16123" y="8210"/>
                </a:cubicBezTo>
                <a:cubicBezTo>
                  <a:pt x="16123" y="8218"/>
                  <a:pt x="16123" y="8227"/>
                  <a:pt x="16123" y="8235"/>
                </a:cubicBezTo>
              </a:path>
              <a:path w="3672" h="6524">
                <a:moveTo>
                  <a:pt x="16421" y="7938"/>
                </a:moveTo>
                <a:cubicBezTo>
                  <a:pt x="16389" y="7961"/>
                  <a:pt x="16377" y="7964"/>
                  <a:pt x="16346" y="7987"/>
                </a:cubicBezTo>
                <a:cubicBezTo>
                  <a:pt x="16382" y="8003"/>
                  <a:pt x="16628" y="8073"/>
                  <a:pt x="16520" y="8136"/>
                </a:cubicBezTo>
                <a:cubicBezTo>
                  <a:pt x="16503" y="8136"/>
                  <a:pt x="16487" y="8136"/>
                  <a:pt x="16470" y="8136"/>
                </a:cubicBezTo>
                <a:cubicBezTo>
                  <a:pt x="16470" y="8075"/>
                  <a:pt x="16491" y="8023"/>
                  <a:pt x="16495" y="7962"/>
                </a:cubicBezTo>
                <a:cubicBezTo>
                  <a:pt x="16495" y="7954"/>
                  <a:pt x="16495" y="7946"/>
                  <a:pt x="16495" y="7938"/>
                </a:cubicBezTo>
              </a:path>
              <a:path w="3672" h="6524">
                <a:moveTo>
                  <a:pt x="15850" y="8334"/>
                </a:moveTo>
                <a:cubicBezTo>
                  <a:pt x="15922" y="8385"/>
                  <a:pt x="15983" y="8406"/>
                  <a:pt x="16098" y="8409"/>
                </a:cubicBezTo>
                <a:cubicBezTo>
                  <a:pt x="16235" y="8413"/>
                  <a:pt x="16413" y="8380"/>
                  <a:pt x="16520" y="8285"/>
                </a:cubicBezTo>
                <a:cubicBezTo>
                  <a:pt x="16573" y="8238"/>
                  <a:pt x="16612" y="8144"/>
                  <a:pt x="16644" y="8086"/>
                </a:cubicBezTo>
                <a:cubicBezTo>
                  <a:pt x="16668" y="8042"/>
                  <a:pt x="16658" y="7967"/>
                  <a:pt x="16644" y="7913"/>
                </a:cubicBezTo>
                <a:cubicBezTo>
                  <a:pt x="16631" y="7863"/>
                  <a:pt x="16595" y="7816"/>
                  <a:pt x="16570" y="7764"/>
                </a:cubicBezTo>
                <a:cubicBezTo>
                  <a:pt x="16544" y="7708"/>
                  <a:pt x="16495" y="7654"/>
                  <a:pt x="16446" y="7615"/>
                </a:cubicBezTo>
                <a:cubicBezTo>
                  <a:pt x="16377" y="7561"/>
                  <a:pt x="16351" y="7531"/>
                  <a:pt x="16272" y="7491"/>
                </a:cubicBezTo>
                <a:cubicBezTo>
                  <a:pt x="16214" y="7462"/>
                  <a:pt x="16148" y="7432"/>
                  <a:pt x="16098" y="7392"/>
                </a:cubicBezTo>
                <a:cubicBezTo>
                  <a:pt x="16029" y="7337"/>
                  <a:pt x="15968" y="7286"/>
                  <a:pt x="15875" y="7268"/>
                </a:cubicBezTo>
                <a:cubicBezTo>
                  <a:pt x="15813" y="7256"/>
                  <a:pt x="15785" y="7226"/>
                  <a:pt x="15701" y="7218"/>
                </a:cubicBezTo>
                <a:cubicBezTo>
                  <a:pt x="15601" y="7208"/>
                  <a:pt x="15456" y="7195"/>
                  <a:pt x="15379" y="7268"/>
                </a:cubicBezTo>
                <a:cubicBezTo>
                  <a:pt x="15335" y="7310"/>
                  <a:pt x="15306" y="7410"/>
                  <a:pt x="15304" y="7466"/>
                </a:cubicBezTo>
                <a:cubicBezTo>
                  <a:pt x="15300" y="7561"/>
                  <a:pt x="15346" y="7605"/>
                  <a:pt x="15379" y="7689"/>
                </a:cubicBezTo>
                <a:cubicBezTo>
                  <a:pt x="15409" y="7764"/>
                  <a:pt x="15442" y="7818"/>
                  <a:pt x="15478" y="7888"/>
                </a:cubicBezTo>
                <a:cubicBezTo>
                  <a:pt x="15504" y="7939"/>
                  <a:pt x="15552" y="7987"/>
                  <a:pt x="15577" y="8037"/>
                </a:cubicBezTo>
                <a:cubicBezTo>
                  <a:pt x="15598" y="8080"/>
                  <a:pt x="15613" y="8149"/>
                  <a:pt x="15652" y="8186"/>
                </a:cubicBezTo>
                <a:cubicBezTo>
                  <a:pt x="15714" y="8245"/>
                  <a:pt x="15804" y="8265"/>
                  <a:pt x="15875" y="8310"/>
                </a:cubicBezTo>
                <a:cubicBezTo>
                  <a:pt x="15944" y="8353"/>
                  <a:pt x="15870" y="8379"/>
                  <a:pt x="15999" y="8285"/>
                </a:cubicBezTo>
              </a:path>
              <a:path w="3672" h="6524">
                <a:moveTo>
                  <a:pt x="16421" y="6672"/>
                </a:moveTo>
                <a:cubicBezTo>
                  <a:pt x="16375" y="6687"/>
                  <a:pt x="16359" y="6811"/>
                  <a:pt x="16346" y="6871"/>
                </a:cubicBezTo>
                <a:cubicBezTo>
                  <a:pt x="16346" y="6914"/>
                  <a:pt x="16352" y="6905"/>
                  <a:pt x="16371" y="6821"/>
                </a:cubicBezTo>
              </a:path>
              <a:path w="3672" h="6524">
                <a:moveTo>
                  <a:pt x="16594" y="6573"/>
                </a:moveTo>
                <a:cubicBezTo>
                  <a:pt x="16557" y="6592"/>
                  <a:pt x="16531" y="6627"/>
                  <a:pt x="16520" y="6672"/>
                </a:cubicBezTo>
                <a:cubicBezTo>
                  <a:pt x="16597" y="6707"/>
                  <a:pt x="16720" y="6731"/>
                  <a:pt x="16743" y="6821"/>
                </a:cubicBezTo>
                <a:cubicBezTo>
                  <a:pt x="16627" y="6855"/>
                  <a:pt x="16668" y="6763"/>
                  <a:pt x="16694" y="6672"/>
                </a:cubicBezTo>
                <a:cubicBezTo>
                  <a:pt x="16723" y="6572"/>
                  <a:pt x="16727" y="6574"/>
                  <a:pt x="16644" y="6598"/>
                </a:cubicBezTo>
              </a:path>
              <a:path w="3672" h="6524">
                <a:moveTo>
                  <a:pt x="17785" y="6623"/>
                </a:moveTo>
                <a:cubicBezTo>
                  <a:pt x="17819" y="6716"/>
                  <a:pt x="17835" y="6796"/>
                  <a:pt x="17835" y="6896"/>
                </a:cubicBezTo>
                <a:cubicBezTo>
                  <a:pt x="17867" y="6862"/>
                  <a:pt x="17884" y="6845"/>
                  <a:pt x="17909" y="6821"/>
                </a:cubicBezTo>
              </a:path>
              <a:path w="3672" h="6524">
                <a:moveTo>
                  <a:pt x="18207" y="6573"/>
                </a:moveTo>
                <a:cubicBezTo>
                  <a:pt x="18122" y="6582"/>
                  <a:pt x="18110" y="6586"/>
                  <a:pt x="18058" y="6648"/>
                </a:cubicBezTo>
                <a:cubicBezTo>
                  <a:pt x="18120" y="6691"/>
                  <a:pt x="18256" y="6672"/>
                  <a:pt x="18256" y="6747"/>
                </a:cubicBezTo>
                <a:cubicBezTo>
                  <a:pt x="18248" y="6763"/>
                  <a:pt x="18239" y="6780"/>
                  <a:pt x="18231" y="6796"/>
                </a:cubicBezTo>
                <a:cubicBezTo>
                  <a:pt x="18100" y="6767"/>
                  <a:pt x="18153" y="6690"/>
                  <a:pt x="18207" y="6573"/>
                </a:cubicBezTo>
              </a:path>
              <a:path w="3672" h="6524">
                <a:moveTo>
                  <a:pt x="16371" y="6201"/>
                </a:moveTo>
                <a:cubicBezTo>
                  <a:pt x="16371" y="6255"/>
                  <a:pt x="16383" y="6238"/>
                  <a:pt x="16396" y="6276"/>
                </a:cubicBezTo>
              </a:path>
              <a:path w="3672" h="6524">
                <a:moveTo>
                  <a:pt x="16446" y="6127"/>
                </a:moveTo>
                <a:cubicBezTo>
                  <a:pt x="16430" y="6189"/>
                  <a:pt x="16389" y="6257"/>
                  <a:pt x="16371" y="6325"/>
                </a:cubicBezTo>
                <a:cubicBezTo>
                  <a:pt x="16371" y="6333"/>
                  <a:pt x="16371" y="6342"/>
                  <a:pt x="16371" y="6350"/>
                </a:cubicBezTo>
              </a:path>
              <a:path w="3672" h="6524">
                <a:moveTo>
                  <a:pt x="16520" y="6176"/>
                </a:moveTo>
                <a:cubicBezTo>
                  <a:pt x="16577" y="6157"/>
                  <a:pt x="16584" y="6149"/>
                  <a:pt x="16619" y="6152"/>
                </a:cubicBezTo>
                <a:cubicBezTo>
                  <a:pt x="16634" y="6226"/>
                  <a:pt x="16644" y="6232"/>
                  <a:pt x="16594" y="6300"/>
                </a:cubicBezTo>
                <a:cubicBezTo>
                  <a:pt x="16586" y="6308"/>
                  <a:pt x="16578" y="6317"/>
                  <a:pt x="16570" y="6325"/>
                </a:cubicBezTo>
                <a:cubicBezTo>
                  <a:pt x="16627" y="6325"/>
                  <a:pt x="16665" y="6311"/>
                  <a:pt x="16718" y="6300"/>
                </a:cubicBezTo>
              </a:path>
              <a:path w="3672" h="6524">
                <a:moveTo>
                  <a:pt x="16619" y="4887"/>
                </a:moveTo>
                <a:cubicBezTo>
                  <a:pt x="16665" y="4841"/>
                  <a:pt x="16677" y="4826"/>
                  <a:pt x="16718" y="4812"/>
                </a:cubicBezTo>
                <a:cubicBezTo>
                  <a:pt x="16718" y="4880"/>
                  <a:pt x="16712" y="4925"/>
                  <a:pt x="16694" y="4986"/>
                </a:cubicBezTo>
                <a:cubicBezTo>
                  <a:pt x="16769" y="4986"/>
                  <a:pt x="16842" y="4968"/>
                  <a:pt x="16917" y="4961"/>
                </a:cubicBezTo>
              </a:path>
              <a:path w="3672" h="6524">
                <a:moveTo>
                  <a:pt x="16222" y="4068"/>
                </a:moveTo>
                <a:cubicBezTo>
                  <a:pt x="16222" y="4212"/>
                  <a:pt x="16220" y="4373"/>
                  <a:pt x="16197" y="4514"/>
                </a:cubicBezTo>
                <a:cubicBezTo>
                  <a:pt x="16189" y="4531"/>
                  <a:pt x="16181" y="4547"/>
                  <a:pt x="16173" y="4564"/>
                </a:cubicBezTo>
              </a:path>
              <a:path w="3672" h="6524">
                <a:moveTo>
                  <a:pt x="16520" y="3994"/>
                </a:moveTo>
                <a:cubicBezTo>
                  <a:pt x="16443" y="4056"/>
                  <a:pt x="16387" y="4226"/>
                  <a:pt x="16421" y="4341"/>
                </a:cubicBezTo>
                <a:cubicBezTo>
                  <a:pt x="16437" y="4357"/>
                  <a:pt x="16454" y="4374"/>
                  <a:pt x="16470" y="4390"/>
                </a:cubicBezTo>
                <a:cubicBezTo>
                  <a:pt x="16658" y="4368"/>
                  <a:pt x="16818" y="4307"/>
                  <a:pt x="16718" y="4068"/>
                </a:cubicBezTo>
                <a:cubicBezTo>
                  <a:pt x="16686" y="3993"/>
                  <a:pt x="16558" y="3936"/>
                  <a:pt x="16520" y="3994"/>
                </a:cubicBezTo>
              </a:path>
              <a:path w="3672" h="6524">
                <a:moveTo>
                  <a:pt x="15751" y="5407"/>
                </a:moveTo>
                <a:cubicBezTo>
                  <a:pt x="16072" y="5226"/>
                  <a:pt x="16390" y="5047"/>
                  <a:pt x="16694" y="4837"/>
                </a:cubicBezTo>
                <a:cubicBezTo>
                  <a:pt x="16766" y="4787"/>
                  <a:pt x="16784" y="4766"/>
                  <a:pt x="16818" y="4738"/>
                </a:cubicBezTo>
              </a:path>
              <a:path w="3672" h="6524">
                <a:moveTo>
                  <a:pt x="15974" y="6648"/>
                </a:moveTo>
                <a:cubicBezTo>
                  <a:pt x="15949" y="6648"/>
                  <a:pt x="15941" y="6648"/>
                  <a:pt x="15925" y="6648"/>
                </a:cubicBezTo>
                <a:cubicBezTo>
                  <a:pt x="16002" y="6493"/>
                  <a:pt x="16277" y="6383"/>
                  <a:pt x="16421" y="6300"/>
                </a:cubicBezTo>
                <a:cubicBezTo>
                  <a:pt x="16551" y="6225"/>
                  <a:pt x="16918" y="6102"/>
                  <a:pt x="16768" y="6102"/>
                </a:cubicBezTo>
              </a:path>
              <a:path w="3672" h="6524">
                <a:moveTo>
                  <a:pt x="15825" y="10368"/>
                </a:moveTo>
                <a:cubicBezTo>
                  <a:pt x="15794" y="10400"/>
                  <a:pt x="15756" y="10424"/>
                  <a:pt x="15751" y="10468"/>
                </a:cubicBezTo>
                <a:cubicBezTo>
                  <a:pt x="15751" y="10476"/>
                  <a:pt x="15751" y="10484"/>
                  <a:pt x="15751" y="10492"/>
                </a:cubicBezTo>
              </a:path>
              <a:path w="3672" h="6524">
                <a:moveTo>
                  <a:pt x="15900" y="10344"/>
                </a:moveTo>
                <a:cubicBezTo>
                  <a:pt x="15961" y="10332"/>
                  <a:pt x="16007" y="10319"/>
                  <a:pt x="16073" y="10319"/>
                </a:cubicBezTo>
                <a:cubicBezTo>
                  <a:pt x="16081" y="10319"/>
                  <a:pt x="16090" y="10319"/>
                  <a:pt x="16098" y="10319"/>
                </a:cubicBezTo>
                <a:cubicBezTo>
                  <a:pt x="16090" y="10359"/>
                  <a:pt x="16043" y="10414"/>
                  <a:pt x="16098" y="10418"/>
                </a:cubicBezTo>
                <a:cubicBezTo>
                  <a:pt x="16150" y="10422"/>
                  <a:pt x="16172" y="10427"/>
                  <a:pt x="16123" y="10443"/>
                </a:cubicBezTo>
              </a:path>
              <a:path w="3672" h="6524">
                <a:moveTo>
                  <a:pt x="15677" y="9401"/>
                </a:moveTo>
                <a:cubicBezTo>
                  <a:pt x="15638" y="9440"/>
                  <a:pt x="15636" y="9457"/>
                  <a:pt x="15602" y="9451"/>
                </a:cubicBezTo>
                <a:cubicBezTo>
                  <a:pt x="15602" y="9464"/>
                  <a:pt x="15631" y="9338"/>
                  <a:pt x="15776" y="9376"/>
                </a:cubicBezTo>
                <a:cubicBezTo>
                  <a:pt x="16111" y="9463"/>
                  <a:pt x="15747" y="9760"/>
                  <a:pt x="15627" y="9823"/>
                </a:cubicBezTo>
                <a:cubicBezTo>
                  <a:pt x="15560" y="9845"/>
                  <a:pt x="15539" y="9859"/>
                  <a:pt x="15528" y="9798"/>
                </a:cubicBezTo>
                <a:cubicBezTo>
                  <a:pt x="15579" y="9680"/>
                  <a:pt x="15677" y="9707"/>
                  <a:pt x="15801" y="9748"/>
                </a:cubicBezTo>
                <a:cubicBezTo>
                  <a:pt x="15898" y="9780"/>
                  <a:pt x="15949" y="9907"/>
                  <a:pt x="15949" y="9823"/>
                </a:cubicBezTo>
              </a:path>
              <a:path w="3672" h="6524">
                <a:moveTo>
                  <a:pt x="16073" y="9401"/>
                </a:moveTo>
                <a:cubicBezTo>
                  <a:pt x="16091" y="9475"/>
                  <a:pt x="16180" y="9606"/>
                  <a:pt x="16222" y="9674"/>
                </a:cubicBezTo>
                <a:cubicBezTo>
                  <a:pt x="16278" y="9765"/>
                  <a:pt x="16305" y="9773"/>
                  <a:pt x="1632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70320" y="4545000"/>
            <a:ext cx="438480" cy="393840"/>
          </a:xfrm>
          <a:custGeom>
            <a:avLst/>
            <a:gdLst/>
            <a:ahLst/>
            <a:rect l="l" t="t" r="r" b="b"/>
            <a:pathLst>
              <a:path w="1216" h="1092">
                <a:moveTo>
                  <a:pt x="14560" y="12650"/>
                </a:moveTo>
                <a:cubicBezTo>
                  <a:pt x="14560" y="12716"/>
                  <a:pt x="14560" y="12783"/>
                  <a:pt x="14560" y="12849"/>
                </a:cubicBezTo>
              </a:path>
              <a:path w="1216" h="1092">
                <a:moveTo>
                  <a:pt x="14709" y="12650"/>
                </a:moveTo>
                <a:cubicBezTo>
                  <a:pt x="14709" y="12690"/>
                  <a:pt x="14697" y="12877"/>
                  <a:pt x="14734" y="12898"/>
                </a:cubicBezTo>
                <a:cubicBezTo>
                  <a:pt x="14810" y="12942"/>
                  <a:pt x="15024" y="12792"/>
                  <a:pt x="14957" y="12849"/>
                </a:cubicBezTo>
                <a:cubicBezTo>
                  <a:pt x="14916" y="12890"/>
                  <a:pt x="14908" y="12898"/>
                  <a:pt x="14883" y="12923"/>
                </a:cubicBezTo>
              </a:path>
              <a:path w="1216" h="1092">
                <a:moveTo>
                  <a:pt x="15379" y="12626"/>
                </a:moveTo>
                <a:cubicBezTo>
                  <a:pt x="15444" y="12640"/>
                  <a:pt x="15641" y="12719"/>
                  <a:pt x="15503" y="12799"/>
                </a:cubicBezTo>
                <a:cubicBezTo>
                  <a:pt x="15432" y="12840"/>
                  <a:pt x="15384" y="12832"/>
                  <a:pt x="15329" y="12799"/>
                </a:cubicBezTo>
                <a:cubicBezTo>
                  <a:pt x="15414" y="12808"/>
                  <a:pt x="15493" y="12828"/>
                  <a:pt x="15577" y="12849"/>
                </a:cubicBezTo>
              </a:path>
              <a:path w="1216" h="1092">
                <a:moveTo>
                  <a:pt x="14412" y="13295"/>
                </a:moveTo>
                <a:cubicBezTo>
                  <a:pt x="14367" y="13363"/>
                  <a:pt x="14307" y="13499"/>
                  <a:pt x="14412" y="13568"/>
                </a:cubicBezTo>
                <a:cubicBezTo>
                  <a:pt x="14524" y="13641"/>
                  <a:pt x="14620" y="13576"/>
                  <a:pt x="14684" y="13494"/>
                </a:cubicBezTo>
                <a:cubicBezTo>
                  <a:pt x="14591" y="13504"/>
                  <a:pt x="14560" y="13494"/>
                  <a:pt x="14560" y="13593"/>
                </a:cubicBezTo>
              </a:path>
              <a:path w="1216" h="1092">
                <a:moveTo>
                  <a:pt x="15205" y="13345"/>
                </a:moveTo>
                <a:cubicBezTo>
                  <a:pt x="15193" y="13298"/>
                  <a:pt x="15141" y="13248"/>
                  <a:pt x="15081" y="13271"/>
                </a:cubicBezTo>
                <a:cubicBezTo>
                  <a:pt x="15018" y="13313"/>
                  <a:pt x="14993" y="13316"/>
                  <a:pt x="15007" y="13370"/>
                </a:cubicBezTo>
                <a:cubicBezTo>
                  <a:pt x="15109" y="13370"/>
                  <a:pt x="15141" y="13362"/>
                  <a:pt x="15230" y="13320"/>
                </a:cubicBezTo>
                <a:cubicBezTo>
                  <a:pt x="15243" y="13412"/>
                  <a:pt x="15271" y="13501"/>
                  <a:pt x="15280" y="13593"/>
                </a:cubicBezTo>
              </a:path>
              <a:path w="1216" h="1092">
                <a:moveTo>
                  <a:pt x="15404" y="13643"/>
                </a:moveTo>
                <a:cubicBezTo>
                  <a:pt x="15404" y="13684"/>
                  <a:pt x="15404" y="13692"/>
                  <a:pt x="1540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29240" y="2678040"/>
            <a:ext cx="2313000" cy="2216160"/>
          </a:xfrm>
          <a:custGeom>
            <a:avLst/>
            <a:gdLst/>
            <a:ahLst/>
            <a:rect l="l" t="t" r="r" b="b"/>
            <a:pathLst>
              <a:path w="6426" h="6153">
                <a:moveTo>
                  <a:pt x="22746" y="8086"/>
                </a:moveTo>
                <a:cubicBezTo>
                  <a:pt x="22787" y="8078"/>
                  <a:pt x="22829" y="8070"/>
                  <a:pt x="22870" y="8062"/>
                </a:cubicBezTo>
              </a:path>
              <a:path w="6426" h="6153">
                <a:moveTo>
                  <a:pt x="22870" y="8062"/>
                </a:moveTo>
                <a:lnTo>
                  <a:pt x="22870" y="8062"/>
                </a:lnTo>
              </a:path>
              <a:path w="6426" h="6153">
                <a:moveTo>
                  <a:pt x="24284" y="7441"/>
                </a:moveTo>
                <a:lnTo>
                  <a:pt x="24284" y="7441"/>
                </a:lnTo>
              </a:path>
              <a:path w="6426" h="6153">
                <a:moveTo>
                  <a:pt x="17859" y="13543"/>
                </a:moveTo>
                <a:cubicBezTo>
                  <a:pt x="17859" y="13560"/>
                  <a:pt x="17859" y="13576"/>
                  <a:pt x="17859" y="13593"/>
                </a:cubicBezTo>
              </a:path>
              <a:path w="6426" h="6153">
                <a:moveTo>
                  <a:pt x="18380" y="13221"/>
                </a:moveTo>
                <a:cubicBezTo>
                  <a:pt x="18429" y="13342"/>
                  <a:pt x="18443" y="13381"/>
                  <a:pt x="18504" y="13444"/>
                </a:cubicBezTo>
              </a:path>
              <a:path w="6426" h="6153">
                <a:moveTo>
                  <a:pt x="18504" y="13444"/>
                </a:moveTo>
                <a:lnTo>
                  <a:pt x="18504" y="13444"/>
                </a:lnTo>
              </a:path>
              <a:path w="6426" h="6153">
                <a:moveTo>
                  <a:pt x="19000" y="11857"/>
                </a:moveTo>
                <a:lnTo>
                  <a:pt x="19000" y="11857"/>
                </a:lnTo>
              </a:path>
              <a:path w="6426" h="6153">
                <a:moveTo>
                  <a:pt x="19769" y="10988"/>
                </a:moveTo>
                <a:cubicBezTo>
                  <a:pt x="19865" y="10982"/>
                  <a:pt x="19928" y="10975"/>
                  <a:pt x="20017" y="10939"/>
                </a:cubicBezTo>
              </a:path>
              <a:path w="6426" h="6153">
                <a:moveTo>
                  <a:pt x="20017" y="10939"/>
                </a:moveTo>
                <a:lnTo>
                  <a:pt x="20017" y="109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3880" y="474192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8058" y="13171"/>
                </a:moveTo>
                <a:cubicBezTo>
                  <a:pt x="18156" y="13201"/>
                  <a:pt x="18337" y="13295"/>
                  <a:pt x="18207" y="13419"/>
                </a:cubicBezTo>
                <a:cubicBezTo>
                  <a:pt x="18119" y="13503"/>
                  <a:pt x="18005" y="13481"/>
                  <a:pt x="17983" y="13370"/>
                </a:cubicBezTo>
                <a:cubicBezTo>
                  <a:pt x="18036" y="13387"/>
                  <a:pt x="18283" y="13514"/>
                  <a:pt x="18331" y="13469"/>
                </a:cubicBezTo>
                <a:cubicBezTo>
                  <a:pt x="18339" y="13444"/>
                  <a:pt x="18347" y="13420"/>
                  <a:pt x="18355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72200" y="3714840"/>
            <a:ext cx="635040" cy="250560"/>
          </a:xfrm>
          <a:custGeom>
            <a:avLst/>
            <a:gdLst/>
            <a:ahLst/>
            <a:rect l="l" t="t" r="r" b="b"/>
            <a:pathLst>
              <a:path w="1762" h="695">
                <a:moveTo>
                  <a:pt x="19645" y="10889"/>
                </a:moveTo>
                <a:cubicBezTo>
                  <a:pt x="19733" y="10889"/>
                  <a:pt x="19805" y="10877"/>
                  <a:pt x="19893" y="10864"/>
                </a:cubicBezTo>
                <a:cubicBezTo>
                  <a:pt x="19901" y="10864"/>
                  <a:pt x="19910" y="10864"/>
                  <a:pt x="19918" y="10864"/>
                </a:cubicBezTo>
              </a:path>
              <a:path w="1762" h="695">
                <a:moveTo>
                  <a:pt x="20613" y="11013"/>
                </a:moveTo>
                <a:cubicBezTo>
                  <a:pt x="20755" y="11013"/>
                  <a:pt x="20915" y="10957"/>
                  <a:pt x="21059" y="10939"/>
                </a:cubicBezTo>
                <a:cubicBezTo>
                  <a:pt x="21179" y="10924"/>
                  <a:pt x="21289" y="10906"/>
                  <a:pt x="21406" y="10889"/>
                </a:cubicBezTo>
              </a:path>
              <a:path w="1762" h="695">
                <a:moveTo>
                  <a:pt x="20811" y="10616"/>
                </a:moveTo>
                <a:cubicBezTo>
                  <a:pt x="20811" y="10492"/>
                  <a:pt x="20789" y="10516"/>
                  <a:pt x="20687" y="10443"/>
                </a:cubicBezTo>
                <a:cubicBezTo>
                  <a:pt x="20626" y="10399"/>
                  <a:pt x="20527" y="10386"/>
                  <a:pt x="20489" y="10468"/>
                </a:cubicBezTo>
                <a:cubicBezTo>
                  <a:pt x="20424" y="10609"/>
                  <a:pt x="20514" y="10715"/>
                  <a:pt x="20638" y="10616"/>
                </a:cubicBezTo>
                <a:cubicBezTo>
                  <a:pt x="20701" y="10553"/>
                  <a:pt x="20718" y="10543"/>
                  <a:pt x="20737" y="10492"/>
                </a:cubicBezTo>
                <a:cubicBezTo>
                  <a:pt x="20737" y="10610"/>
                  <a:pt x="20775" y="10721"/>
                  <a:pt x="20762" y="10840"/>
                </a:cubicBezTo>
                <a:cubicBezTo>
                  <a:pt x="20743" y="10897"/>
                  <a:pt x="20717" y="10922"/>
                  <a:pt x="20762" y="10914"/>
                </a:cubicBezTo>
              </a:path>
              <a:path w="1762" h="695">
                <a:moveTo>
                  <a:pt x="20960" y="10344"/>
                </a:moveTo>
                <a:cubicBezTo>
                  <a:pt x="21061" y="10310"/>
                  <a:pt x="21175" y="10284"/>
                  <a:pt x="21258" y="10368"/>
                </a:cubicBezTo>
                <a:cubicBezTo>
                  <a:pt x="21326" y="10437"/>
                  <a:pt x="21180" y="10498"/>
                  <a:pt x="21134" y="10517"/>
                </a:cubicBezTo>
                <a:cubicBezTo>
                  <a:pt x="21234" y="10517"/>
                  <a:pt x="21273" y="10504"/>
                  <a:pt x="21357" y="10542"/>
                </a:cubicBezTo>
                <a:cubicBezTo>
                  <a:pt x="21299" y="10657"/>
                  <a:pt x="21206" y="10823"/>
                  <a:pt x="21034" y="10790"/>
                </a:cubicBezTo>
                <a:cubicBezTo>
                  <a:pt x="21026" y="10782"/>
                  <a:pt x="21018" y="10773"/>
                  <a:pt x="21010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81960" y="2973240"/>
            <a:ext cx="534960" cy="608040"/>
          </a:xfrm>
          <a:custGeom>
            <a:avLst/>
            <a:gdLst/>
            <a:ahLst/>
            <a:rect l="l" t="t" r="r" b="b"/>
            <a:pathLst>
              <a:path w="1489" h="1688">
                <a:moveTo>
                  <a:pt x="21828" y="8384"/>
                </a:moveTo>
                <a:cubicBezTo>
                  <a:pt x="21850" y="8495"/>
                  <a:pt x="21870" y="8540"/>
                  <a:pt x="21853" y="8657"/>
                </a:cubicBezTo>
              </a:path>
              <a:path w="1489" h="1688">
                <a:moveTo>
                  <a:pt x="22250" y="8260"/>
                </a:moveTo>
                <a:cubicBezTo>
                  <a:pt x="22209" y="8284"/>
                  <a:pt x="21982" y="8393"/>
                  <a:pt x="22076" y="8458"/>
                </a:cubicBezTo>
                <a:cubicBezTo>
                  <a:pt x="22198" y="8507"/>
                  <a:pt x="22237" y="8523"/>
                  <a:pt x="22324" y="8533"/>
                </a:cubicBezTo>
                <a:cubicBezTo>
                  <a:pt x="22324" y="8566"/>
                  <a:pt x="22324" y="8582"/>
                  <a:pt x="22324" y="8607"/>
                </a:cubicBezTo>
                <a:cubicBezTo>
                  <a:pt x="22161" y="8566"/>
                  <a:pt x="22168" y="8540"/>
                  <a:pt x="22225" y="8409"/>
                </a:cubicBezTo>
                <a:cubicBezTo>
                  <a:pt x="22225" y="8401"/>
                  <a:pt x="22225" y="8392"/>
                  <a:pt x="22225" y="8384"/>
                </a:cubicBezTo>
              </a:path>
              <a:path w="1489" h="1688">
                <a:moveTo>
                  <a:pt x="21059" y="8706"/>
                </a:moveTo>
                <a:cubicBezTo>
                  <a:pt x="21221" y="8673"/>
                  <a:pt x="21389" y="8678"/>
                  <a:pt x="21555" y="8657"/>
                </a:cubicBezTo>
              </a:path>
              <a:path w="1489" h="1688">
                <a:moveTo>
                  <a:pt x="21134" y="8979"/>
                </a:moveTo>
                <a:cubicBezTo>
                  <a:pt x="21412" y="8922"/>
                  <a:pt x="21694" y="8862"/>
                  <a:pt x="21977" y="8830"/>
                </a:cubicBezTo>
                <a:cubicBezTo>
                  <a:pt x="22162" y="8809"/>
                  <a:pt x="22360" y="8795"/>
                  <a:pt x="22547" y="8781"/>
                </a:cubicBezTo>
              </a:path>
              <a:path w="1489" h="1688">
                <a:moveTo>
                  <a:pt x="22126" y="9054"/>
                </a:moveTo>
                <a:cubicBezTo>
                  <a:pt x="22259" y="9044"/>
                  <a:pt x="22391" y="9019"/>
                  <a:pt x="22523" y="9004"/>
                </a:cubicBezTo>
                <a:cubicBezTo>
                  <a:pt x="22523" y="9044"/>
                  <a:pt x="22475" y="9274"/>
                  <a:pt x="22498" y="9302"/>
                </a:cubicBezTo>
                <a:cubicBezTo>
                  <a:pt x="22506" y="9294"/>
                  <a:pt x="22515" y="9285"/>
                  <a:pt x="22523" y="9277"/>
                </a:cubicBezTo>
              </a:path>
              <a:path w="1489" h="1688">
                <a:moveTo>
                  <a:pt x="22399" y="9748"/>
                </a:moveTo>
                <a:cubicBezTo>
                  <a:pt x="22410" y="9815"/>
                  <a:pt x="22437" y="9880"/>
                  <a:pt x="2244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2554200"/>
            <a:ext cx="588960" cy="384120"/>
          </a:xfrm>
          <a:custGeom>
            <a:avLst/>
            <a:gdLst/>
            <a:ahLst/>
            <a:rect l="l" t="t" r="r" b="b"/>
            <a:pathLst>
              <a:path w="1638" h="1068">
                <a:moveTo>
                  <a:pt x="22647" y="7913"/>
                </a:moveTo>
                <a:cubicBezTo>
                  <a:pt x="22705" y="7913"/>
                  <a:pt x="22762" y="7913"/>
                  <a:pt x="22820" y="7913"/>
                </a:cubicBezTo>
              </a:path>
              <a:path w="1638" h="1068">
                <a:moveTo>
                  <a:pt x="23118" y="7417"/>
                </a:moveTo>
                <a:cubicBezTo>
                  <a:pt x="23172" y="7310"/>
                  <a:pt x="23227" y="7576"/>
                  <a:pt x="23267" y="7689"/>
                </a:cubicBezTo>
                <a:cubicBezTo>
                  <a:pt x="23288" y="7749"/>
                  <a:pt x="23378" y="8136"/>
                  <a:pt x="23391" y="8136"/>
                </a:cubicBezTo>
              </a:path>
              <a:path w="1638" h="1068">
                <a:moveTo>
                  <a:pt x="23589" y="7144"/>
                </a:moveTo>
                <a:cubicBezTo>
                  <a:pt x="23714" y="7144"/>
                  <a:pt x="23818" y="7122"/>
                  <a:pt x="23937" y="7094"/>
                </a:cubicBezTo>
                <a:cubicBezTo>
                  <a:pt x="23945" y="7094"/>
                  <a:pt x="23953" y="7094"/>
                  <a:pt x="23961" y="7094"/>
                </a:cubicBezTo>
                <a:cubicBezTo>
                  <a:pt x="23961" y="7182"/>
                  <a:pt x="23944" y="7258"/>
                  <a:pt x="23937" y="7342"/>
                </a:cubicBezTo>
                <a:cubicBezTo>
                  <a:pt x="23937" y="7350"/>
                  <a:pt x="23937" y="7359"/>
                  <a:pt x="23937" y="7367"/>
                </a:cubicBezTo>
              </a:path>
              <a:path w="1638" h="1068">
                <a:moveTo>
                  <a:pt x="23664" y="7491"/>
                </a:moveTo>
                <a:cubicBezTo>
                  <a:pt x="23846" y="7462"/>
                  <a:pt x="24078" y="7384"/>
                  <a:pt x="24259" y="7392"/>
                </a:cubicBezTo>
                <a:cubicBezTo>
                  <a:pt x="24281" y="7414"/>
                  <a:pt x="24290" y="7419"/>
                  <a:pt x="24284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5040" y="2732040"/>
            <a:ext cx="741240" cy="31284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21779" y="7789"/>
                </a:moveTo>
                <a:cubicBezTo>
                  <a:pt x="21739" y="7802"/>
                  <a:pt x="21769" y="7800"/>
                  <a:pt x="21729" y="7813"/>
                </a:cubicBezTo>
                <a:cubicBezTo>
                  <a:pt x="21820" y="7723"/>
                  <a:pt x="21992" y="7688"/>
                  <a:pt x="21927" y="7913"/>
                </a:cubicBezTo>
                <a:cubicBezTo>
                  <a:pt x="21877" y="8086"/>
                  <a:pt x="21696" y="8310"/>
                  <a:pt x="21530" y="8210"/>
                </a:cubicBezTo>
                <a:cubicBezTo>
                  <a:pt x="21632" y="8109"/>
                  <a:pt x="21707" y="8078"/>
                  <a:pt x="21853" y="8161"/>
                </a:cubicBezTo>
                <a:cubicBezTo>
                  <a:pt x="21861" y="8169"/>
                  <a:pt x="21870" y="8178"/>
                  <a:pt x="21878" y="8186"/>
                </a:cubicBezTo>
              </a:path>
              <a:path w="2060" h="869">
                <a:moveTo>
                  <a:pt x="22175" y="7689"/>
                </a:moveTo>
                <a:cubicBezTo>
                  <a:pt x="22123" y="7725"/>
                  <a:pt x="22019" y="7733"/>
                  <a:pt x="21977" y="7764"/>
                </a:cubicBezTo>
                <a:cubicBezTo>
                  <a:pt x="21964" y="7774"/>
                  <a:pt x="21977" y="7920"/>
                  <a:pt x="21977" y="7938"/>
                </a:cubicBezTo>
                <a:cubicBezTo>
                  <a:pt x="22070" y="7930"/>
                  <a:pt x="22298" y="7854"/>
                  <a:pt x="22324" y="8012"/>
                </a:cubicBezTo>
                <a:cubicBezTo>
                  <a:pt x="22350" y="8172"/>
                  <a:pt x="22143" y="8165"/>
                  <a:pt x="22051" y="8186"/>
                </a:cubicBezTo>
              </a:path>
              <a:path w="2060" h="869">
                <a:moveTo>
                  <a:pt x="21431" y="8458"/>
                </a:moveTo>
                <a:cubicBezTo>
                  <a:pt x="21397" y="8283"/>
                  <a:pt x="21363" y="8108"/>
                  <a:pt x="21307" y="7938"/>
                </a:cubicBezTo>
                <a:cubicBezTo>
                  <a:pt x="21271" y="7847"/>
                  <a:pt x="21255" y="7842"/>
                  <a:pt x="21258" y="7789"/>
                </a:cubicBezTo>
                <a:cubicBezTo>
                  <a:pt x="21410" y="7712"/>
                  <a:pt x="21758" y="7663"/>
                  <a:pt x="21927" y="7640"/>
                </a:cubicBezTo>
                <a:cubicBezTo>
                  <a:pt x="22135" y="7612"/>
                  <a:pt x="22361" y="7602"/>
                  <a:pt x="22572" y="7590"/>
                </a:cubicBezTo>
              </a:path>
              <a:path w="2060" h="869">
                <a:moveTo>
                  <a:pt x="20513" y="8037"/>
                </a:moveTo>
                <a:cubicBezTo>
                  <a:pt x="20553" y="8156"/>
                  <a:pt x="20563" y="8258"/>
                  <a:pt x="20563" y="8384"/>
                </a:cubicBezTo>
              </a:path>
              <a:path w="2060" h="869">
                <a:moveTo>
                  <a:pt x="20836" y="7913"/>
                </a:moveTo>
                <a:cubicBezTo>
                  <a:pt x="20747" y="7987"/>
                  <a:pt x="20597" y="8098"/>
                  <a:pt x="20786" y="8186"/>
                </a:cubicBezTo>
                <a:cubicBezTo>
                  <a:pt x="20938" y="8229"/>
                  <a:pt x="20975" y="8235"/>
                  <a:pt x="21059" y="8285"/>
                </a:cubicBezTo>
                <a:cubicBezTo>
                  <a:pt x="21059" y="8320"/>
                  <a:pt x="21050" y="8333"/>
                  <a:pt x="21010" y="8334"/>
                </a:cubicBezTo>
                <a:cubicBezTo>
                  <a:pt x="20814" y="8259"/>
                  <a:pt x="20919" y="8164"/>
                  <a:pt x="20960" y="7962"/>
                </a:cubicBezTo>
                <a:cubicBezTo>
                  <a:pt x="20960" y="7954"/>
                  <a:pt x="20960" y="7946"/>
                  <a:pt x="2096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16280" y="4510080"/>
            <a:ext cx="179640" cy="357120"/>
          </a:xfrm>
          <a:custGeom>
            <a:avLst/>
            <a:gdLst/>
            <a:ahLst/>
            <a:rect l="l" t="t" r="r" b="b"/>
            <a:pathLst>
              <a:path w="497" h="994">
                <a:moveTo>
                  <a:pt x="13271" y="12526"/>
                </a:moveTo>
                <a:cubicBezTo>
                  <a:pt x="13187" y="12577"/>
                  <a:pt x="13069" y="12599"/>
                  <a:pt x="12973" y="12650"/>
                </a:cubicBezTo>
                <a:cubicBezTo>
                  <a:pt x="13084" y="12740"/>
                  <a:pt x="13193" y="12783"/>
                  <a:pt x="13271" y="12898"/>
                </a:cubicBezTo>
                <a:cubicBezTo>
                  <a:pt x="13221" y="12907"/>
                  <a:pt x="12928" y="12980"/>
                  <a:pt x="13072" y="12824"/>
                </a:cubicBezTo>
                <a:cubicBezTo>
                  <a:pt x="13135" y="12756"/>
                  <a:pt x="13296" y="12695"/>
                  <a:pt x="13320" y="12626"/>
                </a:cubicBezTo>
              </a:path>
              <a:path w="497" h="994">
                <a:moveTo>
                  <a:pt x="12874" y="13146"/>
                </a:moveTo>
                <a:cubicBezTo>
                  <a:pt x="12935" y="13134"/>
                  <a:pt x="13026" y="13108"/>
                  <a:pt x="13047" y="13171"/>
                </a:cubicBezTo>
                <a:cubicBezTo>
                  <a:pt x="12947" y="13258"/>
                  <a:pt x="12966" y="13201"/>
                  <a:pt x="13047" y="13295"/>
                </a:cubicBezTo>
                <a:cubicBezTo>
                  <a:pt x="13184" y="13454"/>
                  <a:pt x="12931" y="13491"/>
                  <a:pt x="12824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11840" y="4518000"/>
            <a:ext cx="160200" cy="366840"/>
          </a:xfrm>
          <a:custGeom>
            <a:avLst/>
            <a:gdLst/>
            <a:ahLst/>
            <a:rect l="l" t="t" r="r" b="b"/>
            <a:pathLst>
              <a:path w="447" h="1018">
                <a:moveTo>
                  <a:pt x="14039" y="12551"/>
                </a:moveTo>
                <a:cubicBezTo>
                  <a:pt x="13989" y="12566"/>
                  <a:pt x="13802" y="12625"/>
                  <a:pt x="13915" y="12725"/>
                </a:cubicBezTo>
                <a:cubicBezTo>
                  <a:pt x="14018" y="12786"/>
                  <a:pt x="14042" y="12794"/>
                  <a:pt x="14089" y="12849"/>
                </a:cubicBezTo>
                <a:cubicBezTo>
                  <a:pt x="13868" y="12875"/>
                  <a:pt x="13900" y="12833"/>
                  <a:pt x="14039" y="12700"/>
                </a:cubicBezTo>
                <a:cubicBezTo>
                  <a:pt x="14056" y="12683"/>
                  <a:pt x="14072" y="12667"/>
                  <a:pt x="14089" y="12650"/>
                </a:cubicBezTo>
              </a:path>
              <a:path w="447" h="1018">
                <a:moveTo>
                  <a:pt x="13767" y="13246"/>
                </a:moveTo>
                <a:cubicBezTo>
                  <a:pt x="13801" y="13246"/>
                  <a:pt x="14015" y="13222"/>
                  <a:pt x="13915" y="13295"/>
                </a:cubicBezTo>
                <a:cubicBezTo>
                  <a:pt x="13833" y="13337"/>
                  <a:pt x="13816" y="13345"/>
                  <a:pt x="13767" y="13370"/>
                </a:cubicBezTo>
                <a:cubicBezTo>
                  <a:pt x="13851" y="13370"/>
                  <a:pt x="13904" y="13380"/>
                  <a:pt x="13990" y="13395"/>
                </a:cubicBezTo>
                <a:cubicBezTo>
                  <a:pt x="13970" y="13451"/>
                  <a:pt x="13698" y="13686"/>
                  <a:pt x="13643" y="13568"/>
                </a:cubicBezTo>
                <a:cubicBezTo>
                  <a:pt x="13659" y="13543"/>
                  <a:pt x="13676" y="13519"/>
                  <a:pt x="13692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1000" y="4510080"/>
            <a:ext cx="108000" cy="392040"/>
          </a:xfrm>
          <a:custGeom>
            <a:avLst/>
            <a:gdLst/>
            <a:ahLst/>
            <a:rect l="l" t="t" r="r" b="b"/>
            <a:pathLst>
              <a:path w="299" h="1093">
                <a:moveTo>
                  <a:pt x="15925" y="12526"/>
                </a:moveTo>
                <a:cubicBezTo>
                  <a:pt x="15925" y="12631"/>
                  <a:pt x="15913" y="12721"/>
                  <a:pt x="15900" y="12824"/>
                </a:cubicBezTo>
              </a:path>
              <a:path w="299" h="1093">
                <a:moveTo>
                  <a:pt x="15776" y="13295"/>
                </a:moveTo>
                <a:cubicBezTo>
                  <a:pt x="15853" y="13317"/>
                  <a:pt x="16183" y="13444"/>
                  <a:pt x="15925" y="13543"/>
                </a:cubicBezTo>
                <a:cubicBezTo>
                  <a:pt x="15807" y="13563"/>
                  <a:pt x="15786" y="13585"/>
                  <a:pt x="15726" y="13543"/>
                </a:cubicBezTo>
                <a:cubicBezTo>
                  <a:pt x="15797" y="13459"/>
                  <a:pt x="15881" y="13499"/>
                  <a:pt x="15974" y="13568"/>
                </a:cubicBezTo>
                <a:cubicBezTo>
                  <a:pt x="15991" y="13585"/>
                  <a:pt x="16007" y="13601"/>
                  <a:pt x="16024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866880"/>
            <a:ext cx="2527200" cy="330120"/>
          </a:xfrm>
          <a:custGeom>
            <a:avLst/>
            <a:gdLst/>
            <a:ahLst/>
            <a:rect l="l" t="t" r="r" b="b"/>
            <a:pathLst>
              <a:path w="7020" h="919">
                <a:moveTo>
                  <a:pt x="1191" y="2406"/>
                </a:moveTo>
                <a:lnTo>
                  <a:pt x="1191" y="2406"/>
                </a:lnTo>
              </a:path>
              <a:path w="7020" h="919">
                <a:moveTo>
                  <a:pt x="1215" y="2505"/>
                </a:moveTo>
                <a:lnTo>
                  <a:pt x="1215" y="2505"/>
                </a:lnTo>
              </a:path>
              <a:path w="7020" h="919">
                <a:moveTo>
                  <a:pt x="1836" y="2505"/>
                </a:moveTo>
                <a:lnTo>
                  <a:pt x="1836" y="2505"/>
                </a:lnTo>
              </a:path>
              <a:path w="7020" h="919">
                <a:moveTo>
                  <a:pt x="3820" y="2530"/>
                </a:moveTo>
                <a:lnTo>
                  <a:pt x="3820" y="2530"/>
                </a:lnTo>
              </a:path>
              <a:path w="7020" h="919">
                <a:moveTo>
                  <a:pt x="5606" y="2803"/>
                </a:moveTo>
                <a:lnTo>
                  <a:pt x="5606" y="2803"/>
                </a:lnTo>
              </a:path>
              <a:path w="7020" h="919">
                <a:moveTo>
                  <a:pt x="7665" y="2654"/>
                </a:moveTo>
                <a:cubicBezTo>
                  <a:pt x="7673" y="2713"/>
                  <a:pt x="7684" y="2833"/>
                  <a:pt x="7714" y="2803"/>
                </a:cubicBezTo>
              </a:path>
              <a:path w="7020" h="919">
                <a:moveTo>
                  <a:pt x="7714" y="2803"/>
                </a:moveTo>
                <a:lnTo>
                  <a:pt x="7714" y="2803"/>
                </a:lnTo>
              </a:path>
              <a:path w="7020" h="919">
                <a:moveTo>
                  <a:pt x="7714" y="2530"/>
                </a:moveTo>
                <a:lnTo>
                  <a:pt x="7714" y="2530"/>
                </a:lnTo>
              </a:path>
              <a:path w="7020" h="919">
                <a:moveTo>
                  <a:pt x="695" y="3299"/>
                </a:moveTo>
                <a:cubicBezTo>
                  <a:pt x="723" y="3299"/>
                  <a:pt x="733" y="3302"/>
                  <a:pt x="744" y="3324"/>
                </a:cubicBezTo>
              </a:path>
              <a:path w="7020" h="919">
                <a:moveTo>
                  <a:pt x="744" y="3324"/>
                </a:moveTo>
                <a:lnTo>
                  <a:pt x="744" y="332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920" y="803160"/>
            <a:ext cx="1428840" cy="420840"/>
          </a:xfrm>
          <a:custGeom>
            <a:avLst/>
            <a:gdLst/>
            <a:ahLst/>
            <a:rect l="l" t="t" r="r" b="b"/>
            <a:pathLst>
              <a:path w="3970" h="1167">
                <a:moveTo>
                  <a:pt x="918" y="2232"/>
                </a:moveTo>
                <a:cubicBezTo>
                  <a:pt x="937" y="2328"/>
                  <a:pt x="973" y="2454"/>
                  <a:pt x="967" y="2555"/>
                </a:cubicBezTo>
                <a:cubicBezTo>
                  <a:pt x="948" y="2612"/>
                  <a:pt x="940" y="2619"/>
                  <a:pt x="943" y="2654"/>
                </a:cubicBezTo>
              </a:path>
              <a:path w="3970" h="1167">
                <a:moveTo>
                  <a:pt x="496" y="2456"/>
                </a:moveTo>
                <a:cubicBezTo>
                  <a:pt x="641" y="2432"/>
                  <a:pt x="794" y="2414"/>
                  <a:pt x="943" y="2406"/>
                </a:cubicBezTo>
                <a:cubicBezTo>
                  <a:pt x="1025" y="2401"/>
                  <a:pt x="1109" y="2406"/>
                  <a:pt x="1191" y="2406"/>
                </a:cubicBezTo>
              </a:path>
              <a:path w="3970" h="1167">
                <a:moveTo>
                  <a:pt x="1265" y="2232"/>
                </a:moveTo>
                <a:cubicBezTo>
                  <a:pt x="1127" y="2278"/>
                  <a:pt x="1015" y="2398"/>
                  <a:pt x="893" y="2480"/>
                </a:cubicBezTo>
                <a:cubicBezTo>
                  <a:pt x="854" y="2507"/>
                  <a:pt x="821" y="2521"/>
                  <a:pt x="794" y="2530"/>
                </a:cubicBezTo>
              </a:path>
              <a:path w="3970" h="1167">
                <a:moveTo>
                  <a:pt x="620" y="2332"/>
                </a:moveTo>
                <a:cubicBezTo>
                  <a:pt x="747" y="2304"/>
                  <a:pt x="889" y="2383"/>
                  <a:pt x="1017" y="2431"/>
                </a:cubicBezTo>
                <a:cubicBezTo>
                  <a:pt x="1091" y="2459"/>
                  <a:pt x="1143" y="2505"/>
                  <a:pt x="1215" y="2505"/>
                </a:cubicBezTo>
              </a:path>
              <a:path w="3970" h="1167">
                <a:moveTo>
                  <a:pt x="1637" y="2456"/>
                </a:moveTo>
                <a:cubicBezTo>
                  <a:pt x="1624" y="2416"/>
                  <a:pt x="1625" y="2446"/>
                  <a:pt x="1612" y="2406"/>
                </a:cubicBezTo>
                <a:cubicBezTo>
                  <a:pt x="1492" y="2510"/>
                  <a:pt x="1461" y="2553"/>
                  <a:pt x="1414" y="2704"/>
                </a:cubicBezTo>
                <a:cubicBezTo>
                  <a:pt x="1584" y="2761"/>
                  <a:pt x="1658" y="2800"/>
                  <a:pt x="1811" y="2704"/>
                </a:cubicBezTo>
              </a:path>
              <a:path w="3970" h="1167">
                <a:moveTo>
                  <a:pt x="1811" y="2456"/>
                </a:moveTo>
                <a:cubicBezTo>
                  <a:pt x="1766" y="2514"/>
                  <a:pt x="1673" y="2590"/>
                  <a:pt x="1687" y="2679"/>
                </a:cubicBezTo>
                <a:cubicBezTo>
                  <a:pt x="1708" y="2816"/>
                  <a:pt x="1925" y="2740"/>
                  <a:pt x="1960" y="2654"/>
                </a:cubicBezTo>
                <a:cubicBezTo>
                  <a:pt x="2001" y="2552"/>
                  <a:pt x="1898" y="2533"/>
                  <a:pt x="1836" y="2505"/>
                </a:cubicBezTo>
              </a:path>
              <a:path w="3970" h="1167">
                <a:moveTo>
                  <a:pt x="2084" y="2555"/>
                </a:moveTo>
                <a:cubicBezTo>
                  <a:pt x="2130" y="2624"/>
                  <a:pt x="2142" y="2644"/>
                  <a:pt x="2183" y="2679"/>
                </a:cubicBezTo>
                <a:cubicBezTo>
                  <a:pt x="2183" y="2733"/>
                  <a:pt x="2129" y="2634"/>
                  <a:pt x="2133" y="2580"/>
                </a:cubicBezTo>
                <a:cubicBezTo>
                  <a:pt x="2140" y="2477"/>
                  <a:pt x="2351" y="2492"/>
                  <a:pt x="2406" y="2530"/>
                </a:cubicBezTo>
                <a:cubicBezTo>
                  <a:pt x="2477" y="2579"/>
                  <a:pt x="2480" y="2655"/>
                  <a:pt x="2480" y="2629"/>
                </a:cubicBezTo>
                <a:cubicBezTo>
                  <a:pt x="2521" y="2528"/>
                  <a:pt x="2551" y="2484"/>
                  <a:pt x="2679" y="2505"/>
                </a:cubicBezTo>
                <a:cubicBezTo>
                  <a:pt x="2775" y="2521"/>
                  <a:pt x="2814" y="2595"/>
                  <a:pt x="2828" y="2679"/>
                </a:cubicBezTo>
              </a:path>
              <a:path w="3970" h="1167">
                <a:moveTo>
                  <a:pt x="2952" y="2530"/>
                </a:moveTo>
                <a:cubicBezTo>
                  <a:pt x="2982" y="2583"/>
                  <a:pt x="3002" y="2644"/>
                  <a:pt x="3026" y="2704"/>
                </a:cubicBezTo>
                <a:cubicBezTo>
                  <a:pt x="3022" y="2686"/>
                  <a:pt x="2975" y="2568"/>
                  <a:pt x="3001" y="2555"/>
                </a:cubicBezTo>
                <a:cubicBezTo>
                  <a:pt x="3087" y="2512"/>
                  <a:pt x="3217" y="2608"/>
                  <a:pt x="3249" y="2679"/>
                </a:cubicBezTo>
                <a:cubicBezTo>
                  <a:pt x="3249" y="2687"/>
                  <a:pt x="3249" y="2696"/>
                  <a:pt x="3249" y="2704"/>
                </a:cubicBezTo>
                <a:cubicBezTo>
                  <a:pt x="3249" y="2591"/>
                  <a:pt x="3214" y="2547"/>
                  <a:pt x="3324" y="2505"/>
                </a:cubicBezTo>
                <a:cubicBezTo>
                  <a:pt x="3471" y="2449"/>
                  <a:pt x="3517" y="2553"/>
                  <a:pt x="3547" y="2679"/>
                </a:cubicBezTo>
                <a:cubicBezTo>
                  <a:pt x="3560" y="2733"/>
                  <a:pt x="3498" y="2705"/>
                  <a:pt x="3547" y="2729"/>
                </a:cubicBezTo>
              </a:path>
              <a:path w="3970" h="1167">
                <a:moveTo>
                  <a:pt x="3820" y="2530"/>
                </a:moveTo>
                <a:cubicBezTo>
                  <a:pt x="3722" y="2510"/>
                  <a:pt x="3685" y="2494"/>
                  <a:pt x="3646" y="2629"/>
                </a:cubicBezTo>
                <a:cubicBezTo>
                  <a:pt x="3598" y="2796"/>
                  <a:pt x="3804" y="2805"/>
                  <a:pt x="3894" y="2729"/>
                </a:cubicBezTo>
                <a:cubicBezTo>
                  <a:pt x="4060" y="2589"/>
                  <a:pt x="3885" y="2585"/>
                  <a:pt x="3820" y="2555"/>
                </a:cubicBezTo>
                <a:cubicBezTo>
                  <a:pt x="3820" y="2547"/>
                  <a:pt x="3820" y="2538"/>
                  <a:pt x="3820" y="2530"/>
                </a:cubicBezTo>
              </a:path>
              <a:path w="3970" h="1167">
                <a:moveTo>
                  <a:pt x="4118" y="2629"/>
                </a:moveTo>
                <a:cubicBezTo>
                  <a:pt x="4134" y="2654"/>
                  <a:pt x="4151" y="2679"/>
                  <a:pt x="4167" y="2704"/>
                </a:cubicBezTo>
                <a:cubicBezTo>
                  <a:pt x="4183" y="2593"/>
                  <a:pt x="4178" y="2505"/>
                  <a:pt x="4316" y="2530"/>
                </a:cubicBezTo>
                <a:cubicBezTo>
                  <a:pt x="4415" y="2548"/>
                  <a:pt x="4429" y="2676"/>
                  <a:pt x="4440" y="2753"/>
                </a:cubicBezTo>
              </a:path>
              <a:path w="3970" h="1167">
                <a:moveTo>
                  <a:pt x="471" y="2952"/>
                </a:moveTo>
                <a:cubicBezTo>
                  <a:pt x="573" y="2927"/>
                  <a:pt x="501" y="3131"/>
                  <a:pt x="496" y="3200"/>
                </a:cubicBezTo>
                <a:cubicBezTo>
                  <a:pt x="492" y="3257"/>
                  <a:pt x="484" y="3381"/>
                  <a:pt x="496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0240" y="839880"/>
            <a:ext cx="876600" cy="204840"/>
          </a:xfrm>
          <a:custGeom>
            <a:avLst/>
            <a:gdLst/>
            <a:ahLst/>
            <a:rect l="l" t="t" r="r" b="b"/>
            <a:pathLst>
              <a:path w="2432" h="571">
                <a:moveTo>
                  <a:pt x="5507" y="2604"/>
                </a:moveTo>
                <a:cubicBezTo>
                  <a:pt x="5432" y="2545"/>
                  <a:pt x="5263" y="2499"/>
                  <a:pt x="5159" y="2580"/>
                </a:cubicBezTo>
                <a:cubicBezTo>
                  <a:pt x="5013" y="2694"/>
                  <a:pt x="5118" y="2789"/>
                  <a:pt x="5184" y="2902"/>
                </a:cubicBezTo>
                <a:cubicBezTo>
                  <a:pt x="5407" y="2857"/>
                  <a:pt x="5396" y="2829"/>
                  <a:pt x="5531" y="2629"/>
                </a:cubicBezTo>
              </a:path>
              <a:path w="2432" h="571">
                <a:moveTo>
                  <a:pt x="5383" y="2332"/>
                </a:moveTo>
                <a:cubicBezTo>
                  <a:pt x="5454" y="2461"/>
                  <a:pt x="5506" y="2589"/>
                  <a:pt x="5556" y="2729"/>
                </a:cubicBezTo>
                <a:cubicBezTo>
                  <a:pt x="5575" y="2786"/>
                  <a:pt x="5566" y="2811"/>
                  <a:pt x="5606" y="2803"/>
                </a:cubicBezTo>
              </a:path>
              <a:path w="2432" h="571">
                <a:moveTo>
                  <a:pt x="5631" y="2679"/>
                </a:moveTo>
                <a:cubicBezTo>
                  <a:pt x="5718" y="2663"/>
                  <a:pt x="5791" y="2654"/>
                  <a:pt x="5879" y="2654"/>
                </a:cubicBezTo>
                <a:cubicBezTo>
                  <a:pt x="5879" y="2604"/>
                  <a:pt x="5859" y="2553"/>
                  <a:pt x="5804" y="2530"/>
                </a:cubicBezTo>
                <a:cubicBezTo>
                  <a:pt x="5697" y="2486"/>
                  <a:pt x="5630" y="2652"/>
                  <a:pt x="5655" y="2729"/>
                </a:cubicBezTo>
                <a:cubicBezTo>
                  <a:pt x="5717" y="2920"/>
                  <a:pt x="5925" y="2733"/>
                  <a:pt x="5978" y="2679"/>
                </a:cubicBezTo>
                <a:cubicBezTo>
                  <a:pt x="6088" y="2568"/>
                  <a:pt x="6038" y="2637"/>
                  <a:pt x="6102" y="2753"/>
                </a:cubicBezTo>
                <a:cubicBezTo>
                  <a:pt x="6088" y="2671"/>
                  <a:pt x="6088" y="2662"/>
                  <a:pt x="6102" y="2580"/>
                </a:cubicBezTo>
                <a:cubicBezTo>
                  <a:pt x="6215" y="2580"/>
                  <a:pt x="6344" y="2531"/>
                  <a:pt x="6400" y="2654"/>
                </a:cubicBezTo>
                <a:cubicBezTo>
                  <a:pt x="6410" y="2676"/>
                  <a:pt x="6400" y="2900"/>
                  <a:pt x="6400" y="2828"/>
                </a:cubicBezTo>
              </a:path>
              <a:path w="2432" h="571">
                <a:moveTo>
                  <a:pt x="6871" y="2629"/>
                </a:moveTo>
                <a:cubicBezTo>
                  <a:pt x="6758" y="2591"/>
                  <a:pt x="6652" y="2605"/>
                  <a:pt x="6548" y="2679"/>
                </a:cubicBezTo>
                <a:cubicBezTo>
                  <a:pt x="6523" y="2704"/>
                  <a:pt x="6499" y="2728"/>
                  <a:pt x="6474" y="2753"/>
                </a:cubicBezTo>
                <a:cubicBezTo>
                  <a:pt x="6539" y="2884"/>
                  <a:pt x="6740" y="3028"/>
                  <a:pt x="6871" y="2828"/>
                </a:cubicBezTo>
                <a:cubicBezTo>
                  <a:pt x="6930" y="2738"/>
                  <a:pt x="6846" y="2708"/>
                  <a:pt x="6796" y="2679"/>
                </a:cubicBezTo>
              </a:path>
              <a:path w="2432" h="571">
                <a:moveTo>
                  <a:pt x="6871" y="2729"/>
                </a:moveTo>
                <a:cubicBezTo>
                  <a:pt x="6902" y="2790"/>
                  <a:pt x="6933" y="2839"/>
                  <a:pt x="6945" y="2902"/>
                </a:cubicBezTo>
                <a:cubicBezTo>
                  <a:pt x="6945" y="2830"/>
                  <a:pt x="6930" y="2729"/>
                  <a:pt x="6995" y="2679"/>
                </a:cubicBezTo>
                <a:cubicBezTo>
                  <a:pt x="7062" y="2627"/>
                  <a:pt x="7159" y="2752"/>
                  <a:pt x="7193" y="2778"/>
                </a:cubicBezTo>
                <a:cubicBezTo>
                  <a:pt x="7201" y="2778"/>
                  <a:pt x="7210" y="2778"/>
                  <a:pt x="7218" y="2778"/>
                </a:cubicBezTo>
                <a:cubicBezTo>
                  <a:pt x="7200" y="2724"/>
                  <a:pt x="7174" y="2617"/>
                  <a:pt x="7243" y="2604"/>
                </a:cubicBezTo>
                <a:cubicBezTo>
                  <a:pt x="7400" y="2575"/>
                  <a:pt x="7478" y="2701"/>
                  <a:pt x="7516" y="2828"/>
                </a:cubicBezTo>
                <a:cubicBezTo>
                  <a:pt x="7516" y="2836"/>
                  <a:pt x="7516" y="2845"/>
                  <a:pt x="7516" y="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4960" y="866880"/>
            <a:ext cx="455760" cy="17784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7987" y="2704"/>
                </a:moveTo>
                <a:cubicBezTo>
                  <a:pt x="8007" y="2805"/>
                  <a:pt x="8005" y="2825"/>
                  <a:pt x="8037" y="2877"/>
                </a:cubicBezTo>
                <a:cubicBezTo>
                  <a:pt x="8037" y="2806"/>
                  <a:pt x="8047" y="2738"/>
                  <a:pt x="8062" y="2679"/>
                </a:cubicBezTo>
                <a:cubicBezTo>
                  <a:pt x="8092" y="2558"/>
                  <a:pt x="8203" y="2601"/>
                  <a:pt x="8285" y="2654"/>
                </a:cubicBezTo>
                <a:cubicBezTo>
                  <a:pt x="8371" y="2710"/>
                  <a:pt x="8384" y="2786"/>
                  <a:pt x="8384" y="2877"/>
                </a:cubicBezTo>
              </a:path>
              <a:path w="1266" h="497">
                <a:moveTo>
                  <a:pt x="8731" y="2704"/>
                </a:moveTo>
                <a:cubicBezTo>
                  <a:pt x="8780" y="2688"/>
                  <a:pt x="8751" y="2672"/>
                  <a:pt x="8731" y="2604"/>
                </a:cubicBezTo>
                <a:cubicBezTo>
                  <a:pt x="8551" y="2660"/>
                  <a:pt x="8521" y="2728"/>
                  <a:pt x="8582" y="2902"/>
                </a:cubicBezTo>
                <a:cubicBezTo>
                  <a:pt x="8710" y="2877"/>
                  <a:pt x="8802" y="2848"/>
                  <a:pt x="8781" y="2704"/>
                </a:cubicBezTo>
                <a:cubicBezTo>
                  <a:pt x="8807" y="2784"/>
                  <a:pt x="8887" y="2934"/>
                  <a:pt x="9004" y="2877"/>
                </a:cubicBezTo>
                <a:cubicBezTo>
                  <a:pt x="9037" y="2844"/>
                  <a:pt x="9070" y="2811"/>
                  <a:pt x="9103" y="2778"/>
                </a:cubicBezTo>
              </a:path>
              <a:path w="1266" h="497">
                <a:moveTo>
                  <a:pt x="9079" y="2406"/>
                </a:moveTo>
                <a:cubicBezTo>
                  <a:pt x="9147" y="2543"/>
                  <a:pt x="9185" y="2693"/>
                  <a:pt x="9252" y="2828"/>
                </a:cubicBezTo>
                <a:cubicBezTo>
                  <a:pt x="9252" y="2820"/>
                  <a:pt x="9252" y="2811"/>
                  <a:pt x="9252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120" y="1081080"/>
            <a:ext cx="1990800" cy="150840"/>
          </a:xfrm>
          <a:custGeom>
            <a:avLst/>
            <a:gdLst/>
            <a:ahLst/>
            <a:rect l="l" t="t" r="r" b="b"/>
            <a:pathLst>
              <a:path w="5532" h="423">
                <a:moveTo>
                  <a:pt x="1414" y="3200"/>
                </a:moveTo>
                <a:cubicBezTo>
                  <a:pt x="1437" y="3162"/>
                  <a:pt x="1439" y="3149"/>
                  <a:pt x="1439" y="3101"/>
                </a:cubicBezTo>
                <a:cubicBezTo>
                  <a:pt x="1298" y="3101"/>
                  <a:pt x="1188" y="3112"/>
                  <a:pt x="1141" y="3274"/>
                </a:cubicBezTo>
                <a:cubicBezTo>
                  <a:pt x="1141" y="3307"/>
                  <a:pt x="1141" y="3340"/>
                  <a:pt x="1141" y="3373"/>
                </a:cubicBezTo>
                <a:cubicBezTo>
                  <a:pt x="1255" y="3391"/>
                  <a:pt x="1332" y="3400"/>
                  <a:pt x="1389" y="3274"/>
                </a:cubicBezTo>
                <a:cubicBezTo>
                  <a:pt x="1389" y="3266"/>
                  <a:pt x="1389" y="3257"/>
                  <a:pt x="1389" y="3249"/>
                </a:cubicBezTo>
                <a:cubicBezTo>
                  <a:pt x="1469" y="3390"/>
                  <a:pt x="1486" y="3373"/>
                  <a:pt x="1637" y="3373"/>
                </a:cubicBezTo>
              </a:path>
              <a:path w="5532" h="423">
                <a:moveTo>
                  <a:pt x="1836" y="3249"/>
                </a:moveTo>
                <a:cubicBezTo>
                  <a:pt x="1836" y="3153"/>
                  <a:pt x="1768" y="3176"/>
                  <a:pt x="1687" y="3200"/>
                </a:cubicBezTo>
                <a:cubicBezTo>
                  <a:pt x="1574" y="3233"/>
                  <a:pt x="1606" y="3317"/>
                  <a:pt x="1612" y="3398"/>
                </a:cubicBezTo>
                <a:cubicBezTo>
                  <a:pt x="1760" y="3398"/>
                  <a:pt x="1879" y="3393"/>
                  <a:pt x="1836" y="3200"/>
                </a:cubicBezTo>
                <a:cubicBezTo>
                  <a:pt x="1819" y="3167"/>
                  <a:pt x="1803" y="3134"/>
                  <a:pt x="1786" y="3101"/>
                </a:cubicBezTo>
              </a:path>
              <a:path w="5532" h="423">
                <a:moveTo>
                  <a:pt x="1761" y="3026"/>
                </a:moveTo>
                <a:cubicBezTo>
                  <a:pt x="1833" y="3080"/>
                  <a:pt x="1870" y="3247"/>
                  <a:pt x="1885" y="3349"/>
                </a:cubicBezTo>
                <a:cubicBezTo>
                  <a:pt x="1885" y="3407"/>
                  <a:pt x="1885" y="3448"/>
                  <a:pt x="1885" y="3398"/>
                </a:cubicBezTo>
              </a:path>
              <a:path w="5532" h="423">
                <a:moveTo>
                  <a:pt x="2208" y="3225"/>
                </a:moveTo>
                <a:cubicBezTo>
                  <a:pt x="2178" y="3149"/>
                  <a:pt x="2102" y="3083"/>
                  <a:pt x="2009" y="3150"/>
                </a:cubicBezTo>
                <a:cubicBezTo>
                  <a:pt x="1928" y="3208"/>
                  <a:pt x="1945" y="3300"/>
                  <a:pt x="1960" y="3373"/>
                </a:cubicBezTo>
                <a:cubicBezTo>
                  <a:pt x="2151" y="3383"/>
                  <a:pt x="2147" y="3385"/>
                  <a:pt x="2282" y="3249"/>
                </a:cubicBezTo>
              </a:path>
              <a:path w="5532" h="423">
                <a:moveTo>
                  <a:pt x="2133" y="3026"/>
                </a:moveTo>
                <a:cubicBezTo>
                  <a:pt x="2166" y="3156"/>
                  <a:pt x="2219" y="3280"/>
                  <a:pt x="2282" y="3398"/>
                </a:cubicBezTo>
              </a:path>
              <a:path w="5532" h="423">
                <a:moveTo>
                  <a:pt x="2654" y="3175"/>
                </a:moveTo>
                <a:cubicBezTo>
                  <a:pt x="2663" y="3247"/>
                  <a:pt x="2680" y="3307"/>
                  <a:pt x="2704" y="3373"/>
                </a:cubicBezTo>
                <a:cubicBezTo>
                  <a:pt x="2688" y="3290"/>
                  <a:pt x="2624" y="3087"/>
                  <a:pt x="2803" y="3101"/>
                </a:cubicBezTo>
                <a:cubicBezTo>
                  <a:pt x="2950" y="3112"/>
                  <a:pt x="2996" y="3253"/>
                  <a:pt x="3076" y="3349"/>
                </a:cubicBezTo>
              </a:path>
              <a:path w="5532" h="423">
                <a:moveTo>
                  <a:pt x="3076" y="3101"/>
                </a:moveTo>
                <a:cubicBezTo>
                  <a:pt x="3088" y="3181"/>
                  <a:pt x="3106" y="3370"/>
                  <a:pt x="3249" y="3299"/>
                </a:cubicBezTo>
                <a:cubicBezTo>
                  <a:pt x="3323" y="3226"/>
                  <a:pt x="3348" y="3202"/>
                  <a:pt x="3349" y="3125"/>
                </a:cubicBezTo>
                <a:cubicBezTo>
                  <a:pt x="3355" y="3174"/>
                  <a:pt x="3409" y="3366"/>
                  <a:pt x="3473" y="3349"/>
                </a:cubicBezTo>
                <a:cubicBezTo>
                  <a:pt x="3585" y="3281"/>
                  <a:pt x="3623" y="3270"/>
                  <a:pt x="3621" y="3175"/>
                </a:cubicBezTo>
                <a:cubicBezTo>
                  <a:pt x="3680" y="3076"/>
                  <a:pt x="3649" y="3225"/>
                  <a:pt x="3671" y="3299"/>
                </a:cubicBezTo>
                <a:cubicBezTo>
                  <a:pt x="3671" y="3241"/>
                  <a:pt x="3671" y="3183"/>
                  <a:pt x="3671" y="3125"/>
                </a:cubicBezTo>
                <a:cubicBezTo>
                  <a:pt x="3772" y="3136"/>
                  <a:pt x="3841" y="3237"/>
                  <a:pt x="3919" y="3249"/>
                </a:cubicBezTo>
                <a:cubicBezTo>
                  <a:pt x="3972" y="3257"/>
                  <a:pt x="3942" y="3148"/>
                  <a:pt x="3969" y="3101"/>
                </a:cubicBezTo>
                <a:cubicBezTo>
                  <a:pt x="4050" y="3175"/>
                  <a:pt x="4093" y="3208"/>
                  <a:pt x="4093" y="3324"/>
                </a:cubicBezTo>
              </a:path>
              <a:path w="5532" h="423">
                <a:moveTo>
                  <a:pt x="4192" y="3200"/>
                </a:moveTo>
                <a:cubicBezTo>
                  <a:pt x="4238" y="3177"/>
                  <a:pt x="4276" y="3157"/>
                  <a:pt x="4316" y="3125"/>
                </a:cubicBezTo>
                <a:cubicBezTo>
                  <a:pt x="4230" y="3125"/>
                  <a:pt x="4154" y="3093"/>
                  <a:pt x="4142" y="3225"/>
                </a:cubicBezTo>
                <a:cubicBezTo>
                  <a:pt x="4118" y="3483"/>
                  <a:pt x="4424" y="3279"/>
                  <a:pt x="4490" y="3225"/>
                </a:cubicBezTo>
                <a:cubicBezTo>
                  <a:pt x="4534" y="3189"/>
                  <a:pt x="4543" y="3262"/>
                  <a:pt x="4564" y="3324"/>
                </a:cubicBezTo>
                <a:cubicBezTo>
                  <a:pt x="4564" y="3249"/>
                  <a:pt x="4587" y="3157"/>
                  <a:pt x="4638" y="3101"/>
                </a:cubicBezTo>
                <a:cubicBezTo>
                  <a:pt x="4689" y="3101"/>
                  <a:pt x="4722" y="3107"/>
                  <a:pt x="4762" y="3125"/>
                </a:cubicBezTo>
              </a:path>
              <a:path w="5532" h="423">
                <a:moveTo>
                  <a:pt x="5011" y="3200"/>
                </a:moveTo>
                <a:cubicBezTo>
                  <a:pt x="5011" y="3109"/>
                  <a:pt x="4944" y="3152"/>
                  <a:pt x="4887" y="3200"/>
                </a:cubicBezTo>
                <a:cubicBezTo>
                  <a:pt x="4854" y="3233"/>
                  <a:pt x="4820" y="3266"/>
                  <a:pt x="4787" y="3299"/>
                </a:cubicBezTo>
                <a:cubicBezTo>
                  <a:pt x="4903" y="3349"/>
                  <a:pt x="4923" y="3311"/>
                  <a:pt x="5011" y="3225"/>
                </a:cubicBezTo>
                <a:cubicBezTo>
                  <a:pt x="5027" y="3308"/>
                  <a:pt x="5069" y="3376"/>
                  <a:pt x="5184" y="3324"/>
                </a:cubicBezTo>
                <a:cubicBezTo>
                  <a:pt x="5209" y="3299"/>
                  <a:pt x="5234" y="3274"/>
                  <a:pt x="5259" y="3249"/>
                </a:cubicBezTo>
              </a:path>
              <a:path w="5532" h="423">
                <a:moveTo>
                  <a:pt x="5259" y="3001"/>
                </a:moveTo>
                <a:cubicBezTo>
                  <a:pt x="5290" y="3128"/>
                  <a:pt x="5367" y="3245"/>
                  <a:pt x="5407" y="3373"/>
                </a:cubicBezTo>
                <a:cubicBezTo>
                  <a:pt x="5407" y="3381"/>
                  <a:pt x="5407" y="3390"/>
                  <a:pt x="5407" y="3398"/>
                </a:cubicBezTo>
              </a:path>
              <a:path w="5532" h="423">
                <a:moveTo>
                  <a:pt x="5159" y="3150"/>
                </a:moveTo>
                <a:cubicBezTo>
                  <a:pt x="5296" y="3150"/>
                  <a:pt x="5421" y="3144"/>
                  <a:pt x="5556" y="3125"/>
                </a:cubicBezTo>
                <a:cubicBezTo>
                  <a:pt x="5542" y="3223"/>
                  <a:pt x="5473" y="3325"/>
                  <a:pt x="5606" y="3349"/>
                </a:cubicBezTo>
                <a:cubicBezTo>
                  <a:pt x="5754" y="3375"/>
                  <a:pt x="5784" y="3313"/>
                  <a:pt x="5829" y="3200"/>
                </a:cubicBezTo>
                <a:cubicBezTo>
                  <a:pt x="5726" y="3148"/>
                  <a:pt x="5689" y="3131"/>
                  <a:pt x="5606" y="3150"/>
                </a:cubicBezTo>
              </a:path>
              <a:path w="5532" h="423">
                <a:moveTo>
                  <a:pt x="5928" y="3274"/>
                </a:moveTo>
                <a:cubicBezTo>
                  <a:pt x="5928" y="3310"/>
                  <a:pt x="5907" y="3137"/>
                  <a:pt x="6003" y="3101"/>
                </a:cubicBezTo>
                <a:cubicBezTo>
                  <a:pt x="6044" y="3101"/>
                  <a:pt x="6086" y="3101"/>
                  <a:pt x="6127" y="3101"/>
                </a:cubicBezTo>
              </a:path>
              <a:path w="5532" h="423">
                <a:moveTo>
                  <a:pt x="6573" y="3076"/>
                </a:moveTo>
                <a:cubicBezTo>
                  <a:pt x="6483" y="3104"/>
                  <a:pt x="6424" y="3123"/>
                  <a:pt x="6350" y="3175"/>
                </a:cubicBezTo>
                <a:cubicBezTo>
                  <a:pt x="6457" y="3202"/>
                  <a:pt x="6565" y="3223"/>
                  <a:pt x="6672" y="3249"/>
                </a:cubicBezTo>
                <a:cubicBezTo>
                  <a:pt x="6601" y="3393"/>
                  <a:pt x="6594" y="3328"/>
                  <a:pt x="6424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920" y="1224000"/>
            <a:ext cx="3125880" cy="411120"/>
          </a:xfrm>
          <a:custGeom>
            <a:avLst/>
            <a:gdLst/>
            <a:ahLst/>
            <a:rect l="l" t="t" r="r" b="b"/>
            <a:pathLst>
              <a:path w="8682" h="1142">
                <a:moveTo>
                  <a:pt x="1885" y="3398"/>
                </a:moveTo>
                <a:lnTo>
                  <a:pt x="1885" y="3398"/>
                </a:lnTo>
              </a:path>
              <a:path w="8682" h="1142">
                <a:moveTo>
                  <a:pt x="2282" y="3398"/>
                </a:moveTo>
                <a:lnTo>
                  <a:pt x="2282" y="3398"/>
                </a:lnTo>
              </a:path>
              <a:path w="8682" h="1142">
                <a:moveTo>
                  <a:pt x="5407" y="3398"/>
                </a:moveTo>
                <a:lnTo>
                  <a:pt x="5407" y="3398"/>
                </a:lnTo>
              </a:path>
              <a:path w="8682" h="1142">
                <a:moveTo>
                  <a:pt x="198" y="3746"/>
                </a:moveTo>
                <a:cubicBezTo>
                  <a:pt x="135" y="3767"/>
                  <a:pt x="213" y="3802"/>
                  <a:pt x="248" y="3820"/>
                </a:cubicBezTo>
                <a:cubicBezTo>
                  <a:pt x="265" y="3828"/>
                  <a:pt x="281" y="3837"/>
                  <a:pt x="298" y="3845"/>
                </a:cubicBezTo>
                <a:cubicBezTo>
                  <a:pt x="291" y="3797"/>
                  <a:pt x="284" y="3787"/>
                  <a:pt x="273" y="3746"/>
                </a:cubicBezTo>
                <a:cubicBezTo>
                  <a:pt x="361" y="3746"/>
                  <a:pt x="351" y="3743"/>
                  <a:pt x="422" y="3795"/>
                </a:cubicBezTo>
                <a:cubicBezTo>
                  <a:pt x="527" y="3871"/>
                  <a:pt x="505" y="3953"/>
                  <a:pt x="446" y="4068"/>
                </a:cubicBezTo>
                <a:cubicBezTo>
                  <a:pt x="421" y="4116"/>
                  <a:pt x="396" y="4241"/>
                  <a:pt x="372" y="4192"/>
                </a:cubicBezTo>
                <a:cubicBezTo>
                  <a:pt x="349" y="4146"/>
                  <a:pt x="386" y="4056"/>
                  <a:pt x="446" y="4068"/>
                </a:cubicBezTo>
                <a:cubicBezTo>
                  <a:pt x="516" y="4082"/>
                  <a:pt x="549" y="4138"/>
                  <a:pt x="620" y="4142"/>
                </a:cubicBezTo>
                <a:cubicBezTo>
                  <a:pt x="676" y="4145"/>
                  <a:pt x="713" y="4118"/>
                  <a:pt x="769" y="4118"/>
                </a:cubicBezTo>
              </a:path>
              <a:path w="8682" h="1142">
                <a:moveTo>
                  <a:pt x="1017" y="4093"/>
                </a:moveTo>
                <a:cubicBezTo>
                  <a:pt x="1025" y="4093"/>
                  <a:pt x="1034" y="4093"/>
                  <a:pt x="1042" y="4093"/>
                </a:cubicBezTo>
              </a:path>
              <a:path w="8682" h="1142">
                <a:moveTo>
                  <a:pt x="1042" y="4093"/>
                </a:moveTo>
                <a:lnTo>
                  <a:pt x="1042" y="4093"/>
                </a:lnTo>
              </a:path>
              <a:path w="8682" h="1142">
                <a:moveTo>
                  <a:pt x="5829" y="4142"/>
                </a:moveTo>
                <a:lnTo>
                  <a:pt x="5829" y="4142"/>
                </a:lnTo>
              </a:path>
              <a:path w="8682" h="1142">
                <a:moveTo>
                  <a:pt x="6648" y="4142"/>
                </a:moveTo>
                <a:lnTo>
                  <a:pt x="6648" y="4142"/>
                </a:lnTo>
              </a:path>
              <a:path w="8682" h="1142">
                <a:moveTo>
                  <a:pt x="7789" y="4118"/>
                </a:moveTo>
                <a:lnTo>
                  <a:pt x="7789" y="4118"/>
                </a:lnTo>
              </a:path>
              <a:path w="8682" h="1142">
                <a:moveTo>
                  <a:pt x="8756" y="3671"/>
                </a:moveTo>
                <a:cubicBezTo>
                  <a:pt x="8766" y="3815"/>
                  <a:pt x="8799" y="3934"/>
                  <a:pt x="8855" y="4068"/>
                </a:cubicBezTo>
              </a:path>
              <a:path w="8682" h="1142">
                <a:moveTo>
                  <a:pt x="8855" y="4068"/>
                </a:moveTo>
                <a:lnTo>
                  <a:pt x="8855" y="4068"/>
                </a:lnTo>
              </a:path>
              <a:path w="8682" h="1142">
                <a:moveTo>
                  <a:pt x="5234" y="4539"/>
                </a:moveTo>
                <a:lnTo>
                  <a:pt x="5234" y="45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7680" y="1347840"/>
            <a:ext cx="482400" cy="233280"/>
          </a:xfrm>
          <a:custGeom>
            <a:avLst/>
            <a:gdLst/>
            <a:ahLst/>
            <a:rect l="l" t="t" r="r" b="b"/>
            <a:pathLst>
              <a:path w="1340" h="645">
                <a:moveTo>
                  <a:pt x="1662" y="3894"/>
                </a:moveTo>
                <a:cubicBezTo>
                  <a:pt x="1636" y="3886"/>
                  <a:pt x="1619" y="3863"/>
                  <a:pt x="1588" y="3845"/>
                </a:cubicBezTo>
                <a:cubicBezTo>
                  <a:pt x="1554" y="3825"/>
                  <a:pt x="1439" y="3760"/>
                  <a:pt x="1463" y="3795"/>
                </a:cubicBezTo>
                <a:cubicBezTo>
                  <a:pt x="1527" y="3889"/>
                  <a:pt x="1577" y="4006"/>
                  <a:pt x="1588" y="4118"/>
                </a:cubicBezTo>
                <a:cubicBezTo>
                  <a:pt x="1588" y="4126"/>
                  <a:pt x="1588" y="4134"/>
                  <a:pt x="1588" y="4142"/>
                </a:cubicBezTo>
              </a:path>
              <a:path w="1340" h="645">
                <a:moveTo>
                  <a:pt x="1712" y="3746"/>
                </a:moveTo>
                <a:cubicBezTo>
                  <a:pt x="1691" y="3793"/>
                  <a:pt x="1623" y="3880"/>
                  <a:pt x="1687" y="3919"/>
                </a:cubicBezTo>
                <a:cubicBezTo>
                  <a:pt x="1781" y="3977"/>
                  <a:pt x="1886" y="4000"/>
                  <a:pt x="1910" y="4118"/>
                </a:cubicBezTo>
              </a:path>
              <a:path w="1340" h="645">
                <a:moveTo>
                  <a:pt x="1786" y="3969"/>
                </a:moveTo>
                <a:cubicBezTo>
                  <a:pt x="1844" y="3957"/>
                  <a:pt x="1879" y="3952"/>
                  <a:pt x="1836" y="3919"/>
                </a:cubicBezTo>
                <a:cubicBezTo>
                  <a:pt x="1828" y="3911"/>
                  <a:pt x="1819" y="3902"/>
                  <a:pt x="1811" y="3894"/>
                </a:cubicBezTo>
                <a:cubicBezTo>
                  <a:pt x="1878" y="3907"/>
                  <a:pt x="1974" y="4003"/>
                  <a:pt x="1984" y="4068"/>
                </a:cubicBezTo>
                <a:cubicBezTo>
                  <a:pt x="1997" y="4154"/>
                  <a:pt x="2027" y="4126"/>
                  <a:pt x="2133" y="4068"/>
                </a:cubicBezTo>
              </a:path>
              <a:path w="1340" h="645">
                <a:moveTo>
                  <a:pt x="2158" y="4043"/>
                </a:moveTo>
                <a:cubicBezTo>
                  <a:pt x="2208" y="4018"/>
                  <a:pt x="2224" y="4010"/>
                  <a:pt x="2257" y="3994"/>
                </a:cubicBezTo>
                <a:cubicBezTo>
                  <a:pt x="2217" y="3927"/>
                  <a:pt x="2144" y="3873"/>
                  <a:pt x="2084" y="3969"/>
                </a:cubicBezTo>
                <a:cubicBezTo>
                  <a:pt x="2064" y="4029"/>
                  <a:pt x="2065" y="4044"/>
                  <a:pt x="2034" y="4068"/>
                </a:cubicBezTo>
                <a:cubicBezTo>
                  <a:pt x="2188" y="4176"/>
                  <a:pt x="2244" y="4129"/>
                  <a:pt x="2406" y="4043"/>
                </a:cubicBezTo>
              </a:path>
              <a:path w="1340" h="645">
                <a:moveTo>
                  <a:pt x="2480" y="3944"/>
                </a:moveTo>
                <a:cubicBezTo>
                  <a:pt x="2429" y="4049"/>
                  <a:pt x="2472" y="4201"/>
                  <a:pt x="2505" y="4316"/>
                </a:cubicBezTo>
                <a:cubicBezTo>
                  <a:pt x="2508" y="4325"/>
                  <a:pt x="2530" y="4426"/>
                  <a:pt x="2530" y="4366"/>
                </a:cubicBezTo>
                <a:cubicBezTo>
                  <a:pt x="2481" y="4255"/>
                  <a:pt x="2337" y="4024"/>
                  <a:pt x="2480" y="3919"/>
                </a:cubicBezTo>
                <a:cubicBezTo>
                  <a:pt x="2597" y="3833"/>
                  <a:pt x="2696" y="3934"/>
                  <a:pt x="2778" y="3994"/>
                </a:cubicBezTo>
                <a:cubicBezTo>
                  <a:pt x="2719" y="4123"/>
                  <a:pt x="2627" y="4160"/>
                  <a:pt x="2505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339920"/>
            <a:ext cx="2268720" cy="411120"/>
          </a:xfrm>
          <a:custGeom>
            <a:avLst/>
            <a:gdLst/>
            <a:ahLst/>
            <a:rect l="l" t="t" r="r" b="b"/>
            <a:pathLst>
              <a:path w="6301" h="1142">
                <a:moveTo>
                  <a:pt x="3522" y="3770"/>
                </a:moveTo>
                <a:cubicBezTo>
                  <a:pt x="3541" y="3902"/>
                  <a:pt x="3576" y="4034"/>
                  <a:pt x="3597" y="4167"/>
                </a:cubicBezTo>
                <a:cubicBezTo>
                  <a:pt x="3597" y="4195"/>
                  <a:pt x="3599" y="4201"/>
                  <a:pt x="3621" y="4167"/>
                </a:cubicBezTo>
              </a:path>
              <a:path w="6301" h="1142">
                <a:moveTo>
                  <a:pt x="3299" y="3994"/>
                </a:moveTo>
                <a:cubicBezTo>
                  <a:pt x="3470" y="3972"/>
                  <a:pt x="3699" y="4006"/>
                  <a:pt x="3770" y="3845"/>
                </a:cubicBezTo>
                <a:cubicBezTo>
                  <a:pt x="3811" y="3752"/>
                  <a:pt x="3823" y="3908"/>
                  <a:pt x="3845" y="3994"/>
                </a:cubicBezTo>
                <a:cubicBezTo>
                  <a:pt x="3853" y="4035"/>
                  <a:pt x="3862" y="4077"/>
                  <a:pt x="3870" y="4118"/>
                </a:cubicBezTo>
                <a:cubicBezTo>
                  <a:pt x="3881" y="3963"/>
                  <a:pt x="3940" y="3846"/>
                  <a:pt x="4093" y="4018"/>
                </a:cubicBezTo>
                <a:cubicBezTo>
                  <a:pt x="4129" y="4092"/>
                  <a:pt x="4146" y="4096"/>
                  <a:pt x="4142" y="4142"/>
                </a:cubicBezTo>
              </a:path>
              <a:path w="6301" h="1142">
                <a:moveTo>
                  <a:pt x="4266" y="3994"/>
                </a:moveTo>
                <a:cubicBezTo>
                  <a:pt x="4332" y="3969"/>
                  <a:pt x="4401" y="3937"/>
                  <a:pt x="4465" y="3919"/>
                </a:cubicBezTo>
                <a:cubicBezTo>
                  <a:pt x="4355" y="3919"/>
                  <a:pt x="4334" y="4012"/>
                  <a:pt x="4291" y="4093"/>
                </a:cubicBezTo>
                <a:cubicBezTo>
                  <a:pt x="4415" y="4138"/>
                  <a:pt x="4511" y="4157"/>
                  <a:pt x="4638" y="4118"/>
                </a:cubicBezTo>
                <a:cubicBezTo>
                  <a:pt x="4663" y="4110"/>
                  <a:pt x="4688" y="4101"/>
                  <a:pt x="4713" y="4093"/>
                </a:cubicBezTo>
              </a:path>
              <a:path w="6301" h="1142">
                <a:moveTo>
                  <a:pt x="5755" y="3994"/>
                </a:moveTo>
                <a:cubicBezTo>
                  <a:pt x="5709" y="3917"/>
                  <a:pt x="5526" y="3834"/>
                  <a:pt x="5432" y="3919"/>
                </a:cubicBezTo>
                <a:cubicBezTo>
                  <a:pt x="5309" y="4030"/>
                  <a:pt x="5400" y="4153"/>
                  <a:pt x="5457" y="4242"/>
                </a:cubicBezTo>
                <a:cubicBezTo>
                  <a:pt x="5664" y="4169"/>
                  <a:pt x="5656" y="4171"/>
                  <a:pt x="5730" y="3969"/>
                </a:cubicBezTo>
              </a:path>
              <a:path w="6301" h="1142">
                <a:moveTo>
                  <a:pt x="5606" y="3721"/>
                </a:moveTo>
                <a:cubicBezTo>
                  <a:pt x="5694" y="3870"/>
                  <a:pt x="5633" y="4165"/>
                  <a:pt x="5804" y="4192"/>
                </a:cubicBezTo>
                <a:cubicBezTo>
                  <a:pt x="5812" y="4175"/>
                  <a:pt x="5821" y="4159"/>
                  <a:pt x="5829" y="4142"/>
                </a:cubicBezTo>
              </a:path>
              <a:path w="6301" h="1142">
                <a:moveTo>
                  <a:pt x="5953" y="4018"/>
                </a:moveTo>
                <a:cubicBezTo>
                  <a:pt x="6016" y="4003"/>
                  <a:pt x="6036" y="3995"/>
                  <a:pt x="6052" y="3919"/>
                </a:cubicBezTo>
                <a:cubicBezTo>
                  <a:pt x="6052" y="3903"/>
                  <a:pt x="6052" y="3886"/>
                  <a:pt x="6052" y="3870"/>
                </a:cubicBezTo>
                <a:cubicBezTo>
                  <a:pt x="5943" y="3870"/>
                  <a:pt x="5816" y="3932"/>
                  <a:pt x="5904" y="4068"/>
                </a:cubicBezTo>
                <a:cubicBezTo>
                  <a:pt x="6029" y="4260"/>
                  <a:pt x="6198" y="4103"/>
                  <a:pt x="6276" y="3994"/>
                </a:cubicBezTo>
              </a:path>
              <a:path w="6301" h="1142">
                <a:moveTo>
                  <a:pt x="6276" y="3944"/>
                </a:moveTo>
                <a:cubicBezTo>
                  <a:pt x="6291" y="3978"/>
                  <a:pt x="6348" y="4147"/>
                  <a:pt x="6325" y="4068"/>
                </a:cubicBezTo>
                <a:cubicBezTo>
                  <a:pt x="6325" y="4022"/>
                  <a:pt x="6313" y="3996"/>
                  <a:pt x="6276" y="3969"/>
                </a:cubicBezTo>
                <a:cubicBezTo>
                  <a:pt x="6376" y="3867"/>
                  <a:pt x="6487" y="3858"/>
                  <a:pt x="6598" y="3969"/>
                </a:cubicBezTo>
                <a:cubicBezTo>
                  <a:pt x="6660" y="4031"/>
                  <a:pt x="6648" y="4065"/>
                  <a:pt x="6648" y="4142"/>
                </a:cubicBezTo>
              </a:path>
              <a:path w="6301" h="1142">
                <a:moveTo>
                  <a:pt x="6945" y="3894"/>
                </a:moveTo>
                <a:cubicBezTo>
                  <a:pt x="6828" y="3957"/>
                  <a:pt x="6793" y="4005"/>
                  <a:pt x="6722" y="4118"/>
                </a:cubicBezTo>
                <a:cubicBezTo>
                  <a:pt x="6816" y="4199"/>
                  <a:pt x="6994" y="4231"/>
                  <a:pt x="7020" y="4043"/>
                </a:cubicBezTo>
                <a:cubicBezTo>
                  <a:pt x="6992" y="3987"/>
                  <a:pt x="6976" y="3968"/>
                  <a:pt x="6921" y="3969"/>
                </a:cubicBezTo>
              </a:path>
              <a:path w="6301" h="1142">
                <a:moveTo>
                  <a:pt x="7119" y="4018"/>
                </a:moveTo>
                <a:cubicBezTo>
                  <a:pt x="7136" y="4059"/>
                  <a:pt x="7152" y="4101"/>
                  <a:pt x="7169" y="4142"/>
                </a:cubicBezTo>
                <a:cubicBezTo>
                  <a:pt x="7169" y="4193"/>
                  <a:pt x="7143" y="4038"/>
                  <a:pt x="7169" y="3994"/>
                </a:cubicBezTo>
                <a:cubicBezTo>
                  <a:pt x="7204" y="3934"/>
                  <a:pt x="7331" y="4089"/>
                  <a:pt x="7342" y="4093"/>
                </a:cubicBezTo>
                <a:cubicBezTo>
                  <a:pt x="7342" y="4085"/>
                  <a:pt x="7342" y="4076"/>
                  <a:pt x="7342" y="4068"/>
                </a:cubicBezTo>
                <a:cubicBezTo>
                  <a:pt x="7394" y="3945"/>
                  <a:pt x="7455" y="3925"/>
                  <a:pt x="7541" y="4068"/>
                </a:cubicBezTo>
                <a:cubicBezTo>
                  <a:pt x="7541" y="4093"/>
                  <a:pt x="7541" y="4101"/>
                  <a:pt x="7565" y="4093"/>
                </a:cubicBezTo>
              </a:path>
              <a:path w="6301" h="1142">
                <a:moveTo>
                  <a:pt x="7665" y="3894"/>
                </a:moveTo>
                <a:cubicBezTo>
                  <a:pt x="7702" y="3977"/>
                  <a:pt x="7737" y="4046"/>
                  <a:pt x="7789" y="4118"/>
                </a:cubicBezTo>
              </a:path>
              <a:path w="6301" h="1142">
                <a:moveTo>
                  <a:pt x="7913" y="4043"/>
                </a:moveTo>
                <a:cubicBezTo>
                  <a:pt x="7929" y="4060"/>
                  <a:pt x="7946" y="4076"/>
                  <a:pt x="7962" y="4093"/>
                </a:cubicBezTo>
                <a:cubicBezTo>
                  <a:pt x="7955" y="4070"/>
                  <a:pt x="7859" y="3964"/>
                  <a:pt x="7938" y="3944"/>
                </a:cubicBezTo>
                <a:cubicBezTo>
                  <a:pt x="8100" y="3902"/>
                  <a:pt x="8195" y="4000"/>
                  <a:pt x="8210" y="4142"/>
                </a:cubicBezTo>
              </a:path>
              <a:path w="6301" h="1142">
                <a:moveTo>
                  <a:pt x="8384" y="3894"/>
                </a:moveTo>
                <a:cubicBezTo>
                  <a:pt x="8234" y="3919"/>
                  <a:pt x="8234" y="3988"/>
                  <a:pt x="8210" y="4118"/>
                </a:cubicBezTo>
                <a:cubicBezTo>
                  <a:pt x="8400" y="4118"/>
                  <a:pt x="8430" y="4111"/>
                  <a:pt x="8508" y="3944"/>
                </a:cubicBezTo>
                <a:cubicBezTo>
                  <a:pt x="8508" y="3982"/>
                  <a:pt x="8508" y="4091"/>
                  <a:pt x="8558" y="4093"/>
                </a:cubicBezTo>
                <a:cubicBezTo>
                  <a:pt x="8678" y="4063"/>
                  <a:pt x="8730" y="4045"/>
                  <a:pt x="8806" y="3994"/>
                </a:cubicBezTo>
              </a:path>
              <a:path w="6301" h="1142">
                <a:moveTo>
                  <a:pt x="8434" y="3845"/>
                </a:moveTo>
                <a:cubicBezTo>
                  <a:pt x="8584" y="3836"/>
                  <a:pt x="8731" y="3804"/>
                  <a:pt x="8880" y="3795"/>
                </a:cubicBezTo>
                <a:cubicBezTo>
                  <a:pt x="8888" y="3795"/>
                  <a:pt x="8897" y="3795"/>
                  <a:pt x="8905" y="3795"/>
                </a:cubicBezTo>
                <a:cubicBezTo>
                  <a:pt x="8905" y="3852"/>
                  <a:pt x="8872" y="3988"/>
                  <a:pt x="8930" y="4018"/>
                </a:cubicBezTo>
                <a:cubicBezTo>
                  <a:pt x="9015" y="4062"/>
                  <a:pt x="9183" y="4052"/>
                  <a:pt x="9153" y="3919"/>
                </a:cubicBezTo>
                <a:cubicBezTo>
                  <a:pt x="9139" y="3855"/>
                  <a:pt x="9027" y="3776"/>
                  <a:pt x="9004" y="3845"/>
                </a:cubicBezTo>
              </a:path>
              <a:path w="6301" h="1142">
                <a:moveTo>
                  <a:pt x="9376" y="4018"/>
                </a:moveTo>
                <a:cubicBezTo>
                  <a:pt x="9384" y="4026"/>
                  <a:pt x="9393" y="4035"/>
                  <a:pt x="9401" y="4043"/>
                </a:cubicBezTo>
                <a:cubicBezTo>
                  <a:pt x="9401" y="3951"/>
                  <a:pt x="9444" y="3900"/>
                  <a:pt x="9475" y="3820"/>
                </a:cubicBezTo>
                <a:cubicBezTo>
                  <a:pt x="9485" y="3794"/>
                  <a:pt x="9558" y="3768"/>
                  <a:pt x="9599" y="3746"/>
                </a:cubicBezTo>
              </a:path>
              <a:path w="6301" h="1142">
                <a:moveTo>
                  <a:pt x="5457" y="4465"/>
                </a:moveTo>
                <a:cubicBezTo>
                  <a:pt x="5522" y="4491"/>
                  <a:pt x="5536" y="4589"/>
                  <a:pt x="5606" y="4589"/>
                </a:cubicBezTo>
                <a:cubicBezTo>
                  <a:pt x="5614" y="4581"/>
                  <a:pt x="5623" y="4572"/>
                  <a:pt x="5631" y="4564"/>
                </a:cubicBezTo>
              </a:path>
              <a:path w="6301" h="1142">
                <a:moveTo>
                  <a:pt x="5680" y="4366"/>
                </a:moveTo>
                <a:cubicBezTo>
                  <a:pt x="5662" y="4454"/>
                  <a:pt x="5629" y="4548"/>
                  <a:pt x="5606" y="4638"/>
                </a:cubicBezTo>
                <a:cubicBezTo>
                  <a:pt x="5587" y="4712"/>
                  <a:pt x="5567" y="4787"/>
                  <a:pt x="5556" y="4862"/>
                </a:cubicBezTo>
              </a:path>
              <a:path w="6301" h="1142">
                <a:moveTo>
                  <a:pt x="5011" y="4539"/>
                </a:moveTo>
                <a:cubicBezTo>
                  <a:pt x="5002" y="4539"/>
                  <a:pt x="4845" y="4532"/>
                  <a:pt x="4862" y="4514"/>
                </a:cubicBezTo>
                <a:cubicBezTo>
                  <a:pt x="4878" y="4514"/>
                  <a:pt x="4895" y="4514"/>
                  <a:pt x="491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000" y="1581120"/>
            <a:ext cx="1919160" cy="169920"/>
          </a:xfrm>
          <a:custGeom>
            <a:avLst/>
            <a:gdLst/>
            <a:ahLst/>
            <a:rect l="l" t="t" r="r" b="b"/>
            <a:pathLst>
              <a:path w="5334" h="473">
                <a:moveTo>
                  <a:pt x="273" y="4490"/>
                </a:moveTo>
                <a:cubicBezTo>
                  <a:pt x="342" y="4403"/>
                  <a:pt x="476" y="4366"/>
                  <a:pt x="595" y="4415"/>
                </a:cubicBezTo>
                <a:cubicBezTo>
                  <a:pt x="661" y="4442"/>
                  <a:pt x="530" y="4523"/>
                  <a:pt x="471" y="4564"/>
                </a:cubicBezTo>
                <a:cubicBezTo>
                  <a:pt x="455" y="4572"/>
                  <a:pt x="438" y="4581"/>
                  <a:pt x="422" y="4589"/>
                </a:cubicBezTo>
                <a:cubicBezTo>
                  <a:pt x="488" y="4589"/>
                  <a:pt x="638" y="4571"/>
                  <a:pt x="620" y="4688"/>
                </a:cubicBezTo>
                <a:cubicBezTo>
                  <a:pt x="605" y="4786"/>
                  <a:pt x="331" y="4862"/>
                  <a:pt x="248" y="4862"/>
                </a:cubicBezTo>
                <a:cubicBezTo>
                  <a:pt x="240" y="4854"/>
                  <a:pt x="231" y="4845"/>
                  <a:pt x="223" y="4837"/>
                </a:cubicBezTo>
              </a:path>
              <a:path w="5334" h="473">
                <a:moveTo>
                  <a:pt x="1141" y="4812"/>
                </a:moveTo>
                <a:cubicBezTo>
                  <a:pt x="1133" y="4812"/>
                  <a:pt x="1124" y="4812"/>
                  <a:pt x="1116" y="4812"/>
                </a:cubicBezTo>
              </a:path>
              <a:path w="5334" h="473">
                <a:moveTo>
                  <a:pt x="4614" y="4738"/>
                </a:moveTo>
                <a:lnTo>
                  <a:pt x="4614" y="4738"/>
                </a:lnTo>
              </a:path>
              <a:path w="5334" h="473">
                <a:moveTo>
                  <a:pt x="5556" y="4862"/>
                </a:moveTo>
                <a:lnTo>
                  <a:pt x="5556" y="48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0240" y="1535040"/>
            <a:ext cx="1241640" cy="179640"/>
          </a:xfrm>
          <a:custGeom>
            <a:avLst/>
            <a:gdLst/>
            <a:ahLst/>
            <a:rect l="l" t="t" r="r" b="b"/>
            <a:pathLst>
              <a:path w="3448" h="497">
                <a:moveTo>
                  <a:pt x="1984" y="4390"/>
                </a:moveTo>
                <a:cubicBezTo>
                  <a:pt x="2037" y="4373"/>
                  <a:pt x="2011" y="4313"/>
                  <a:pt x="1935" y="4316"/>
                </a:cubicBezTo>
                <a:cubicBezTo>
                  <a:pt x="1845" y="4339"/>
                  <a:pt x="1812" y="4338"/>
                  <a:pt x="1836" y="4415"/>
                </a:cubicBezTo>
                <a:cubicBezTo>
                  <a:pt x="1890" y="4542"/>
                  <a:pt x="1904" y="4481"/>
                  <a:pt x="2034" y="4490"/>
                </a:cubicBezTo>
                <a:cubicBezTo>
                  <a:pt x="2141" y="4511"/>
                  <a:pt x="2183" y="4502"/>
                  <a:pt x="2158" y="4589"/>
                </a:cubicBezTo>
                <a:cubicBezTo>
                  <a:pt x="2124" y="4634"/>
                  <a:pt x="1805" y="4813"/>
                  <a:pt x="1836" y="4738"/>
                </a:cubicBezTo>
                <a:cubicBezTo>
                  <a:pt x="1861" y="4705"/>
                  <a:pt x="1885" y="4671"/>
                  <a:pt x="1910" y="4638"/>
                </a:cubicBezTo>
              </a:path>
              <a:path w="3448" h="497">
                <a:moveTo>
                  <a:pt x="2406" y="4440"/>
                </a:moveTo>
                <a:cubicBezTo>
                  <a:pt x="2406" y="4525"/>
                  <a:pt x="2426" y="4603"/>
                  <a:pt x="2431" y="4688"/>
                </a:cubicBezTo>
                <a:cubicBezTo>
                  <a:pt x="2431" y="4696"/>
                  <a:pt x="2431" y="4705"/>
                  <a:pt x="2431" y="4713"/>
                </a:cubicBezTo>
              </a:path>
              <a:path w="3448" h="497">
                <a:moveTo>
                  <a:pt x="2679" y="4415"/>
                </a:moveTo>
                <a:cubicBezTo>
                  <a:pt x="2679" y="4474"/>
                  <a:pt x="2663" y="4704"/>
                  <a:pt x="2704" y="4663"/>
                </a:cubicBezTo>
                <a:cubicBezTo>
                  <a:pt x="2665" y="4579"/>
                  <a:pt x="2595" y="4438"/>
                  <a:pt x="2729" y="4390"/>
                </a:cubicBezTo>
                <a:cubicBezTo>
                  <a:pt x="2889" y="4333"/>
                  <a:pt x="2948" y="4542"/>
                  <a:pt x="3026" y="4614"/>
                </a:cubicBezTo>
                <a:cubicBezTo>
                  <a:pt x="3034" y="4614"/>
                  <a:pt x="3043" y="4614"/>
                  <a:pt x="3051" y="4614"/>
                </a:cubicBezTo>
                <a:cubicBezTo>
                  <a:pt x="3043" y="4547"/>
                  <a:pt x="2999" y="4416"/>
                  <a:pt x="3076" y="4390"/>
                </a:cubicBezTo>
                <a:cubicBezTo>
                  <a:pt x="3214" y="4460"/>
                  <a:pt x="3280" y="4535"/>
                  <a:pt x="3324" y="4688"/>
                </a:cubicBezTo>
                <a:cubicBezTo>
                  <a:pt x="3324" y="4713"/>
                  <a:pt x="3324" y="4721"/>
                  <a:pt x="3324" y="4688"/>
                </a:cubicBezTo>
              </a:path>
              <a:path w="3448" h="497">
                <a:moveTo>
                  <a:pt x="3522" y="4366"/>
                </a:moveTo>
                <a:cubicBezTo>
                  <a:pt x="3522" y="4397"/>
                  <a:pt x="3515" y="4614"/>
                  <a:pt x="3547" y="4614"/>
                </a:cubicBezTo>
                <a:cubicBezTo>
                  <a:pt x="3547" y="4586"/>
                  <a:pt x="3545" y="4575"/>
                  <a:pt x="3522" y="4564"/>
                </a:cubicBezTo>
                <a:cubicBezTo>
                  <a:pt x="3522" y="4442"/>
                  <a:pt x="3498" y="4275"/>
                  <a:pt x="3696" y="4291"/>
                </a:cubicBezTo>
                <a:cubicBezTo>
                  <a:pt x="3778" y="4333"/>
                  <a:pt x="3803" y="4333"/>
                  <a:pt x="3820" y="4390"/>
                </a:cubicBezTo>
                <a:cubicBezTo>
                  <a:pt x="3773" y="4494"/>
                  <a:pt x="3709" y="4575"/>
                  <a:pt x="3572" y="4514"/>
                </a:cubicBezTo>
                <a:cubicBezTo>
                  <a:pt x="3572" y="4506"/>
                  <a:pt x="3572" y="4498"/>
                  <a:pt x="3572" y="4490"/>
                </a:cubicBezTo>
              </a:path>
              <a:path w="3448" h="497">
                <a:moveTo>
                  <a:pt x="4018" y="4266"/>
                </a:moveTo>
                <a:cubicBezTo>
                  <a:pt x="4058" y="4385"/>
                  <a:pt x="4063" y="4431"/>
                  <a:pt x="4018" y="4564"/>
                </a:cubicBezTo>
                <a:cubicBezTo>
                  <a:pt x="3999" y="4605"/>
                  <a:pt x="3991" y="4611"/>
                  <a:pt x="3994" y="4638"/>
                </a:cubicBezTo>
                <a:cubicBezTo>
                  <a:pt x="4080" y="4638"/>
                  <a:pt x="4158" y="4619"/>
                  <a:pt x="4242" y="4614"/>
                </a:cubicBezTo>
                <a:cubicBezTo>
                  <a:pt x="4258" y="4614"/>
                  <a:pt x="4275" y="4614"/>
                  <a:pt x="4291" y="4614"/>
                </a:cubicBezTo>
              </a:path>
              <a:path w="3448" h="497">
                <a:moveTo>
                  <a:pt x="4564" y="4341"/>
                </a:moveTo>
                <a:cubicBezTo>
                  <a:pt x="4601" y="4471"/>
                  <a:pt x="4614" y="4572"/>
                  <a:pt x="4614" y="4713"/>
                </a:cubicBezTo>
                <a:cubicBezTo>
                  <a:pt x="4614" y="4721"/>
                  <a:pt x="4614" y="4730"/>
                  <a:pt x="4614" y="4738"/>
                </a:cubicBezTo>
              </a:path>
              <a:path w="3448" h="497">
                <a:moveTo>
                  <a:pt x="4911" y="4490"/>
                </a:moveTo>
                <a:cubicBezTo>
                  <a:pt x="4916" y="4514"/>
                  <a:pt x="4974" y="4713"/>
                  <a:pt x="4986" y="4713"/>
                </a:cubicBezTo>
                <a:cubicBezTo>
                  <a:pt x="4986" y="4705"/>
                  <a:pt x="4986" y="4696"/>
                  <a:pt x="4986" y="4688"/>
                </a:cubicBezTo>
                <a:cubicBezTo>
                  <a:pt x="4977" y="4594"/>
                  <a:pt x="4955" y="4504"/>
                  <a:pt x="4936" y="4415"/>
                </a:cubicBezTo>
                <a:cubicBezTo>
                  <a:pt x="4936" y="4407"/>
                  <a:pt x="4936" y="4398"/>
                  <a:pt x="4936" y="4390"/>
                </a:cubicBezTo>
                <a:cubicBezTo>
                  <a:pt x="4995" y="4347"/>
                  <a:pt x="5060" y="4387"/>
                  <a:pt x="5135" y="4390"/>
                </a:cubicBezTo>
                <a:cubicBezTo>
                  <a:pt x="5235" y="4394"/>
                  <a:pt x="5188" y="4415"/>
                  <a:pt x="5283" y="4415"/>
                </a:cubicBezTo>
              </a:path>
              <a:path w="3448" h="497">
                <a:moveTo>
                  <a:pt x="5085" y="4514"/>
                </a:moveTo>
                <a:cubicBezTo>
                  <a:pt x="5135" y="4539"/>
                  <a:pt x="5173" y="4539"/>
                  <a:pt x="5234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03720" y="2286000"/>
            <a:ext cx="1554120" cy="2536920"/>
          </a:xfrm>
          <a:custGeom>
            <a:avLst/>
            <a:gdLst/>
            <a:ahLst/>
            <a:rect l="l" t="t" r="r" b="b"/>
            <a:pathLst>
              <a:path w="4317" h="7046">
                <a:moveTo>
                  <a:pt x="9178" y="6350"/>
                </a:moveTo>
                <a:lnTo>
                  <a:pt x="9178" y="6350"/>
                </a:lnTo>
                <a:lnTo>
                  <a:pt x="9178" y="6350"/>
                </a:lnTo>
              </a:path>
              <a:path w="4317" h="7046">
                <a:moveTo>
                  <a:pt x="9178" y="6350"/>
                </a:moveTo>
                <a:lnTo>
                  <a:pt x="9178" y="6350"/>
                </a:lnTo>
              </a:path>
              <a:path w="4317" h="7046">
                <a:moveTo>
                  <a:pt x="9351" y="6648"/>
                </a:moveTo>
                <a:lnTo>
                  <a:pt x="9351" y="6648"/>
                </a:lnTo>
              </a:path>
              <a:path w="4317" h="7046">
                <a:moveTo>
                  <a:pt x="13320" y="13246"/>
                </a:moveTo>
                <a:lnTo>
                  <a:pt x="13320" y="13246"/>
                </a:lnTo>
              </a:path>
              <a:path w="4317" h="7046">
                <a:moveTo>
                  <a:pt x="13395" y="13395"/>
                </a:moveTo>
                <a:cubicBezTo>
                  <a:pt x="13428" y="13387"/>
                  <a:pt x="13461" y="13378"/>
                  <a:pt x="13494" y="13370"/>
                </a:cubicBezTo>
              </a:path>
              <a:path w="4317" h="7046">
                <a:moveTo>
                  <a:pt x="13494" y="13370"/>
                </a:moveTo>
                <a:lnTo>
                  <a:pt x="13494" y="1337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920" y="4705200"/>
            <a:ext cx="4268880" cy="768600"/>
          </a:xfrm>
          <a:custGeom>
            <a:avLst/>
            <a:gdLst/>
            <a:ahLst/>
            <a:rect l="l" t="t" r="r" b="b"/>
            <a:pathLst>
              <a:path w="11857" h="2134">
                <a:moveTo>
                  <a:pt x="1017" y="13171"/>
                </a:moveTo>
                <a:cubicBezTo>
                  <a:pt x="1017" y="13380"/>
                  <a:pt x="1000" y="13583"/>
                  <a:pt x="992" y="13791"/>
                </a:cubicBezTo>
                <a:cubicBezTo>
                  <a:pt x="987" y="13924"/>
                  <a:pt x="1008" y="14013"/>
                  <a:pt x="967" y="14139"/>
                </a:cubicBezTo>
                <a:cubicBezTo>
                  <a:pt x="994" y="13954"/>
                  <a:pt x="1046" y="13825"/>
                  <a:pt x="1141" y="13667"/>
                </a:cubicBezTo>
                <a:cubicBezTo>
                  <a:pt x="1273" y="13702"/>
                  <a:pt x="1461" y="13839"/>
                  <a:pt x="1315" y="14015"/>
                </a:cubicBezTo>
                <a:cubicBezTo>
                  <a:pt x="1238" y="14108"/>
                  <a:pt x="938" y="14212"/>
                  <a:pt x="843" y="14089"/>
                </a:cubicBezTo>
                <a:cubicBezTo>
                  <a:pt x="851" y="14081"/>
                  <a:pt x="860" y="14072"/>
                  <a:pt x="868" y="14064"/>
                </a:cubicBezTo>
              </a:path>
              <a:path w="11857" h="2134">
                <a:moveTo>
                  <a:pt x="546" y="14263"/>
                </a:moveTo>
                <a:cubicBezTo>
                  <a:pt x="786" y="14443"/>
                  <a:pt x="989" y="14464"/>
                  <a:pt x="1290" y="14387"/>
                </a:cubicBezTo>
                <a:cubicBezTo>
                  <a:pt x="1687" y="14285"/>
                  <a:pt x="1866" y="14120"/>
                  <a:pt x="1786" y="13692"/>
                </a:cubicBezTo>
                <a:cubicBezTo>
                  <a:pt x="1696" y="13211"/>
                  <a:pt x="1454" y="13076"/>
                  <a:pt x="992" y="13072"/>
                </a:cubicBezTo>
                <a:cubicBezTo>
                  <a:pt x="544" y="13068"/>
                  <a:pt x="220" y="13146"/>
                  <a:pt x="174" y="13643"/>
                </a:cubicBezTo>
                <a:cubicBezTo>
                  <a:pt x="142" y="13994"/>
                  <a:pt x="306" y="14479"/>
                  <a:pt x="744" y="14337"/>
                </a:cubicBezTo>
                <a:cubicBezTo>
                  <a:pt x="852" y="14279"/>
                  <a:pt x="959" y="14221"/>
                  <a:pt x="1067" y="14163"/>
                </a:cubicBezTo>
              </a:path>
              <a:path w="11857" h="2134">
                <a:moveTo>
                  <a:pt x="2580" y="14288"/>
                </a:moveTo>
                <a:cubicBezTo>
                  <a:pt x="2920" y="14252"/>
                  <a:pt x="3256" y="14232"/>
                  <a:pt x="3597" y="14213"/>
                </a:cubicBezTo>
              </a:path>
              <a:path w="11857" h="2134">
                <a:moveTo>
                  <a:pt x="6276" y="14387"/>
                </a:moveTo>
                <a:lnTo>
                  <a:pt x="6276" y="14387"/>
                </a:lnTo>
              </a:path>
              <a:path w="11857" h="2134">
                <a:moveTo>
                  <a:pt x="9302" y="13146"/>
                </a:moveTo>
                <a:cubicBezTo>
                  <a:pt x="9445" y="13242"/>
                  <a:pt x="9417" y="13365"/>
                  <a:pt x="9451" y="13519"/>
                </a:cubicBezTo>
                <a:cubicBezTo>
                  <a:pt x="9471" y="13559"/>
                  <a:pt x="9469" y="13575"/>
                  <a:pt x="9500" y="13568"/>
                </a:cubicBezTo>
              </a:path>
              <a:path w="11857" h="2134">
                <a:moveTo>
                  <a:pt x="9872" y="15205"/>
                </a:moveTo>
                <a:lnTo>
                  <a:pt x="9872" y="15205"/>
                </a:lnTo>
              </a:path>
              <a:path w="11857" h="2134">
                <a:moveTo>
                  <a:pt x="10641" y="13767"/>
                </a:moveTo>
                <a:cubicBezTo>
                  <a:pt x="10734" y="13761"/>
                  <a:pt x="10821" y="13749"/>
                  <a:pt x="10914" y="13742"/>
                </a:cubicBezTo>
              </a:path>
              <a:path w="11857" h="2134">
                <a:moveTo>
                  <a:pt x="10914" y="13742"/>
                </a:moveTo>
                <a:lnTo>
                  <a:pt x="10914" y="13742"/>
                </a:lnTo>
              </a:path>
              <a:path w="11857" h="2134">
                <a:moveTo>
                  <a:pt x="11559" y="13370"/>
                </a:moveTo>
                <a:lnTo>
                  <a:pt x="11559" y="13370"/>
                </a:lnTo>
              </a:path>
              <a:path w="11857" h="2134">
                <a:moveTo>
                  <a:pt x="11410" y="13469"/>
                </a:moveTo>
                <a:cubicBezTo>
                  <a:pt x="11510" y="13459"/>
                  <a:pt x="11608" y="13432"/>
                  <a:pt x="11708" y="13419"/>
                </a:cubicBezTo>
              </a:path>
              <a:path w="11857" h="2134">
                <a:moveTo>
                  <a:pt x="11857" y="13395"/>
                </a:moveTo>
                <a:cubicBezTo>
                  <a:pt x="11857" y="13349"/>
                  <a:pt x="11875" y="13328"/>
                  <a:pt x="11931" y="13320"/>
                </a:cubicBezTo>
              </a:path>
              <a:path w="11857" h="2134">
                <a:moveTo>
                  <a:pt x="12030" y="13469"/>
                </a:moveTo>
                <a:lnTo>
                  <a:pt x="12030" y="13469"/>
                </a:lnTo>
              </a:path>
              <a:path w="11857" h="2134">
                <a:moveTo>
                  <a:pt x="11633" y="14238"/>
                </a:moveTo>
                <a:cubicBezTo>
                  <a:pt x="11638" y="14333"/>
                  <a:pt x="11649" y="14418"/>
                  <a:pt x="11658" y="14511"/>
                </a:cubicBezTo>
              </a:path>
              <a:path w="11857" h="2134">
                <a:moveTo>
                  <a:pt x="11509" y="14610"/>
                </a:moveTo>
                <a:cubicBezTo>
                  <a:pt x="11607" y="14587"/>
                  <a:pt x="11710" y="14557"/>
                  <a:pt x="11807" y="14536"/>
                </a:cubicBezTo>
              </a:path>
              <a:path w="11857" h="2134">
                <a:moveTo>
                  <a:pt x="11807" y="14536"/>
                </a:moveTo>
                <a:lnTo>
                  <a:pt x="11807" y="14536"/>
                </a:lnTo>
              </a:path>
              <a:path w="11857" h="2134">
                <a:moveTo>
                  <a:pt x="3919" y="13196"/>
                </a:moveTo>
                <a:lnTo>
                  <a:pt x="3919" y="13196"/>
                </a:lnTo>
              </a:path>
              <a:path w="11857" h="2134">
                <a:moveTo>
                  <a:pt x="2158" y="14039"/>
                </a:moveTo>
                <a:cubicBezTo>
                  <a:pt x="2158" y="14031"/>
                  <a:pt x="2158" y="14023"/>
                  <a:pt x="2158" y="14015"/>
                </a:cubicBezTo>
              </a:path>
              <a:path w="11857" h="2134">
                <a:moveTo>
                  <a:pt x="1414" y="14039"/>
                </a:moveTo>
                <a:cubicBezTo>
                  <a:pt x="1392" y="14127"/>
                  <a:pt x="1354" y="14205"/>
                  <a:pt x="131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795920"/>
            <a:ext cx="206280" cy="625320"/>
          </a:xfrm>
          <a:custGeom>
            <a:avLst/>
            <a:gdLst/>
            <a:ahLst/>
            <a:rect l="l" t="t" r="r" b="b"/>
            <a:pathLst>
              <a:path w="572" h="1737">
                <a:moveTo>
                  <a:pt x="2902" y="13320"/>
                </a:moveTo>
                <a:cubicBezTo>
                  <a:pt x="3031" y="13346"/>
                  <a:pt x="3157" y="13401"/>
                  <a:pt x="3299" y="13370"/>
                </a:cubicBezTo>
                <a:cubicBezTo>
                  <a:pt x="3307" y="13362"/>
                  <a:pt x="3316" y="13353"/>
                  <a:pt x="3324" y="13345"/>
                </a:cubicBezTo>
                <a:cubicBezTo>
                  <a:pt x="3324" y="13519"/>
                  <a:pt x="3247" y="13652"/>
                  <a:pt x="3200" y="13816"/>
                </a:cubicBezTo>
                <a:cubicBezTo>
                  <a:pt x="3182" y="13907"/>
                  <a:pt x="3173" y="13914"/>
                  <a:pt x="3175" y="13965"/>
                </a:cubicBezTo>
              </a:path>
              <a:path w="572" h="1737">
                <a:moveTo>
                  <a:pt x="3051" y="14461"/>
                </a:moveTo>
                <a:cubicBezTo>
                  <a:pt x="2937" y="14502"/>
                  <a:pt x="2854" y="14545"/>
                  <a:pt x="2753" y="14610"/>
                </a:cubicBezTo>
                <a:cubicBezTo>
                  <a:pt x="2824" y="14752"/>
                  <a:pt x="3027" y="14835"/>
                  <a:pt x="3150" y="14982"/>
                </a:cubicBezTo>
                <a:cubicBezTo>
                  <a:pt x="2968" y="15091"/>
                  <a:pt x="2851" y="15090"/>
                  <a:pt x="2952" y="14833"/>
                </a:cubicBezTo>
                <a:cubicBezTo>
                  <a:pt x="2985" y="14748"/>
                  <a:pt x="3048" y="14667"/>
                  <a:pt x="3076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4822920"/>
            <a:ext cx="1278000" cy="598320"/>
          </a:xfrm>
          <a:custGeom>
            <a:avLst/>
            <a:gdLst/>
            <a:ahLst/>
            <a:rect l="l" t="t" r="r" b="b"/>
            <a:pathLst>
              <a:path w="3548" h="1662">
                <a:moveTo>
                  <a:pt x="4142" y="14163"/>
                </a:moveTo>
                <a:cubicBezTo>
                  <a:pt x="4142" y="14273"/>
                  <a:pt x="4162" y="14377"/>
                  <a:pt x="4167" y="14486"/>
                </a:cubicBezTo>
                <a:cubicBezTo>
                  <a:pt x="4167" y="14494"/>
                  <a:pt x="4167" y="14503"/>
                  <a:pt x="4167" y="14511"/>
                </a:cubicBezTo>
              </a:path>
              <a:path w="3548" h="1662">
                <a:moveTo>
                  <a:pt x="4018" y="14337"/>
                </a:moveTo>
                <a:cubicBezTo>
                  <a:pt x="4191" y="14317"/>
                  <a:pt x="4364" y="14288"/>
                  <a:pt x="4539" y="14288"/>
                </a:cubicBezTo>
              </a:path>
              <a:path w="3548" h="1662">
                <a:moveTo>
                  <a:pt x="5333" y="13419"/>
                </a:moveTo>
                <a:cubicBezTo>
                  <a:pt x="5274" y="13362"/>
                  <a:pt x="5173" y="13422"/>
                  <a:pt x="5085" y="13444"/>
                </a:cubicBezTo>
                <a:cubicBezTo>
                  <a:pt x="5008" y="13463"/>
                  <a:pt x="5000" y="13688"/>
                  <a:pt x="4986" y="13767"/>
                </a:cubicBezTo>
                <a:cubicBezTo>
                  <a:pt x="4986" y="13775"/>
                  <a:pt x="4986" y="13783"/>
                  <a:pt x="4986" y="13791"/>
                </a:cubicBezTo>
                <a:cubicBezTo>
                  <a:pt x="5082" y="13791"/>
                  <a:pt x="5162" y="13741"/>
                  <a:pt x="5259" y="13791"/>
                </a:cubicBezTo>
                <a:cubicBezTo>
                  <a:pt x="5496" y="13912"/>
                  <a:pt x="5357" y="14128"/>
                  <a:pt x="5135" y="14114"/>
                </a:cubicBezTo>
                <a:cubicBezTo>
                  <a:pt x="5094" y="14097"/>
                  <a:pt x="5052" y="14081"/>
                  <a:pt x="5011" y="14064"/>
                </a:cubicBezTo>
              </a:path>
              <a:path w="3548" h="1662">
                <a:moveTo>
                  <a:pt x="4589" y="14362"/>
                </a:moveTo>
                <a:cubicBezTo>
                  <a:pt x="4937" y="14329"/>
                  <a:pt x="5332" y="14254"/>
                  <a:pt x="5680" y="14312"/>
                </a:cubicBezTo>
                <a:cubicBezTo>
                  <a:pt x="5680" y="14320"/>
                  <a:pt x="5680" y="14329"/>
                  <a:pt x="5680" y="14337"/>
                </a:cubicBezTo>
              </a:path>
              <a:path w="3548" h="1662">
                <a:moveTo>
                  <a:pt x="4887" y="14660"/>
                </a:moveTo>
                <a:cubicBezTo>
                  <a:pt x="4868" y="14602"/>
                  <a:pt x="4810" y="14616"/>
                  <a:pt x="4961" y="14560"/>
                </a:cubicBezTo>
                <a:cubicBezTo>
                  <a:pt x="5035" y="14542"/>
                  <a:pt x="5094" y="14534"/>
                  <a:pt x="5035" y="14536"/>
                </a:cubicBezTo>
                <a:cubicBezTo>
                  <a:pt x="4990" y="14558"/>
                  <a:pt x="4666" y="14666"/>
                  <a:pt x="4787" y="14759"/>
                </a:cubicBezTo>
                <a:cubicBezTo>
                  <a:pt x="4928" y="14868"/>
                  <a:pt x="5050" y="14864"/>
                  <a:pt x="5135" y="15007"/>
                </a:cubicBezTo>
                <a:cubicBezTo>
                  <a:pt x="4927" y="15067"/>
                  <a:pt x="4830" y="15046"/>
                  <a:pt x="4961" y="14808"/>
                </a:cubicBezTo>
                <a:cubicBezTo>
                  <a:pt x="5036" y="14695"/>
                  <a:pt x="5069" y="14689"/>
                  <a:pt x="5060" y="14610"/>
                </a:cubicBezTo>
              </a:path>
              <a:path w="3548" h="1662">
                <a:moveTo>
                  <a:pt x="5978" y="14263"/>
                </a:moveTo>
                <a:cubicBezTo>
                  <a:pt x="6044" y="14273"/>
                  <a:pt x="6097" y="14270"/>
                  <a:pt x="6152" y="14288"/>
                </a:cubicBezTo>
              </a:path>
              <a:path w="3548" h="1662">
                <a:moveTo>
                  <a:pt x="5928" y="14461"/>
                </a:moveTo>
                <a:cubicBezTo>
                  <a:pt x="6067" y="14461"/>
                  <a:pt x="6145" y="14438"/>
                  <a:pt x="6276" y="14387"/>
                </a:cubicBezTo>
              </a:path>
              <a:path w="3548" h="1662">
                <a:moveTo>
                  <a:pt x="6796" y="13543"/>
                </a:moveTo>
                <a:cubicBezTo>
                  <a:pt x="6819" y="13630"/>
                  <a:pt x="6842" y="13938"/>
                  <a:pt x="6896" y="13990"/>
                </a:cubicBezTo>
                <a:cubicBezTo>
                  <a:pt x="6896" y="13973"/>
                  <a:pt x="6896" y="13957"/>
                  <a:pt x="6896" y="13940"/>
                </a:cubicBezTo>
              </a:path>
              <a:path w="3548" h="1662">
                <a:moveTo>
                  <a:pt x="6945" y="13519"/>
                </a:moveTo>
                <a:cubicBezTo>
                  <a:pt x="7120" y="13499"/>
                  <a:pt x="7382" y="13490"/>
                  <a:pt x="7392" y="13742"/>
                </a:cubicBezTo>
                <a:cubicBezTo>
                  <a:pt x="7402" y="13999"/>
                  <a:pt x="7155" y="14012"/>
                  <a:pt x="6995" y="13965"/>
                </a:cubicBezTo>
                <a:cubicBezTo>
                  <a:pt x="7122" y="13863"/>
                  <a:pt x="7235" y="13820"/>
                  <a:pt x="7392" y="13915"/>
                </a:cubicBezTo>
                <a:cubicBezTo>
                  <a:pt x="7479" y="13967"/>
                  <a:pt x="7499" y="14052"/>
                  <a:pt x="7516" y="14139"/>
                </a:cubicBezTo>
              </a:path>
              <a:path w="3548" h="1662">
                <a:moveTo>
                  <a:pt x="6722" y="14238"/>
                </a:moveTo>
                <a:cubicBezTo>
                  <a:pt x="6940" y="14238"/>
                  <a:pt x="7150" y="14238"/>
                  <a:pt x="7367" y="14213"/>
                </a:cubicBezTo>
                <a:cubicBezTo>
                  <a:pt x="7482" y="14194"/>
                  <a:pt x="7498" y="14185"/>
                  <a:pt x="7565" y="14188"/>
                </a:cubicBezTo>
              </a:path>
              <a:path w="3548" h="1662">
                <a:moveTo>
                  <a:pt x="7193" y="14461"/>
                </a:moveTo>
                <a:cubicBezTo>
                  <a:pt x="7079" y="14475"/>
                  <a:pt x="6993" y="14547"/>
                  <a:pt x="6896" y="14610"/>
                </a:cubicBezTo>
                <a:cubicBezTo>
                  <a:pt x="6972" y="14711"/>
                  <a:pt x="7176" y="14759"/>
                  <a:pt x="7317" y="14833"/>
                </a:cubicBezTo>
                <a:cubicBezTo>
                  <a:pt x="7205" y="14912"/>
                  <a:pt x="7053" y="14960"/>
                  <a:pt x="7144" y="14734"/>
                </a:cubicBezTo>
                <a:cubicBezTo>
                  <a:pt x="7176" y="14655"/>
                  <a:pt x="7256" y="14598"/>
                  <a:pt x="7218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2960" y="4670280"/>
            <a:ext cx="1465200" cy="911520"/>
          </a:xfrm>
          <a:custGeom>
            <a:avLst/>
            <a:gdLst/>
            <a:ahLst/>
            <a:rect l="l" t="t" r="r" b="b"/>
            <a:pathLst>
              <a:path w="4069" h="2531">
                <a:moveTo>
                  <a:pt x="9178" y="14015"/>
                </a:moveTo>
                <a:cubicBezTo>
                  <a:pt x="9178" y="14105"/>
                  <a:pt x="9230" y="14177"/>
                  <a:pt x="9252" y="14263"/>
                </a:cubicBezTo>
                <a:cubicBezTo>
                  <a:pt x="9262" y="14302"/>
                  <a:pt x="9298" y="14222"/>
                  <a:pt x="9327" y="14188"/>
                </a:cubicBezTo>
              </a:path>
              <a:path w="4069" h="2531">
                <a:moveTo>
                  <a:pt x="9351" y="13965"/>
                </a:moveTo>
                <a:cubicBezTo>
                  <a:pt x="9486" y="13953"/>
                  <a:pt x="9832" y="13922"/>
                  <a:pt x="9723" y="14188"/>
                </a:cubicBezTo>
                <a:cubicBezTo>
                  <a:pt x="9682" y="14288"/>
                  <a:pt x="9539" y="14228"/>
                  <a:pt x="9475" y="14213"/>
                </a:cubicBezTo>
                <a:cubicBezTo>
                  <a:pt x="9553" y="14145"/>
                  <a:pt x="9641" y="14148"/>
                  <a:pt x="9748" y="14213"/>
                </a:cubicBezTo>
                <a:cubicBezTo>
                  <a:pt x="9771" y="14236"/>
                  <a:pt x="9779" y="14240"/>
                  <a:pt x="9773" y="14263"/>
                </a:cubicBezTo>
              </a:path>
              <a:path w="4069" h="2531">
                <a:moveTo>
                  <a:pt x="9872" y="14412"/>
                </a:moveTo>
                <a:cubicBezTo>
                  <a:pt x="9998" y="14361"/>
                  <a:pt x="10015" y="14219"/>
                  <a:pt x="9996" y="14089"/>
                </a:cubicBezTo>
                <a:cubicBezTo>
                  <a:pt x="9975" y="13941"/>
                  <a:pt x="9896" y="13870"/>
                  <a:pt x="9823" y="13767"/>
                </a:cubicBezTo>
                <a:cubicBezTo>
                  <a:pt x="10027" y="13767"/>
                  <a:pt x="10215" y="13788"/>
                  <a:pt x="10418" y="13767"/>
                </a:cubicBezTo>
                <a:cubicBezTo>
                  <a:pt x="10567" y="13746"/>
                  <a:pt x="10599" y="13737"/>
                  <a:pt x="10691" y="13742"/>
                </a:cubicBezTo>
              </a:path>
              <a:path w="4069" h="2531">
                <a:moveTo>
                  <a:pt x="10319" y="13965"/>
                </a:moveTo>
                <a:cubicBezTo>
                  <a:pt x="10258" y="13965"/>
                  <a:pt x="10231" y="13973"/>
                  <a:pt x="10170" y="13990"/>
                </a:cubicBezTo>
                <a:cubicBezTo>
                  <a:pt x="10193" y="14072"/>
                  <a:pt x="10337" y="14084"/>
                  <a:pt x="10468" y="14139"/>
                </a:cubicBezTo>
                <a:cubicBezTo>
                  <a:pt x="10388" y="14200"/>
                  <a:pt x="10297" y="14286"/>
                  <a:pt x="10319" y="14114"/>
                </a:cubicBezTo>
                <a:cubicBezTo>
                  <a:pt x="10325" y="14063"/>
                  <a:pt x="10404" y="13948"/>
                  <a:pt x="10344" y="13990"/>
                </a:cubicBezTo>
              </a:path>
              <a:path w="4069" h="2531">
                <a:moveTo>
                  <a:pt x="9823" y="13692"/>
                </a:moveTo>
                <a:cubicBezTo>
                  <a:pt x="9817" y="13710"/>
                  <a:pt x="9746" y="13834"/>
                  <a:pt x="9823" y="13841"/>
                </a:cubicBezTo>
                <a:cubicBezTo>
                  <a:pt x="9994" y="13856"/>
                  <a:pt x="10178" y="13655"/>
                  <a:pt x="10269" y="13543"/>
                </a:cubicBezTo>
                <a:cubicBezTo>
                  <a:pt x="10228" y="13620"/>
                  <a:pt x="10034" y="14020"/>
                  <a:pt x="10046" y="14015"/>
                </a:cubicBezTo>
                <a:cubicBezTo>
                  <a:pt x="10153" y="13973"/>
                  <a:pt x="10187" y="13883"/>
                  <a:pt x="10294" y="13841"/>
                </a:cubicBezTo>
                <a:cubicBezTo>
                  <a:pt x="10218" y="13917"/>
                  <a:pt x="9816" y="14318"/>
                  <a:pt x="10071" y="14238"/>
                </a:cubicBezTo>
                <a:cubicBezTo>
                  <a:pt x="10203" y="14181"/>
                  <a:pt x="10221" y="14175"/>
                  <a:pt x="10294" y="14139"/>
                </a:cubicBezTo>
                <a:cubicBezTo>
                  <a:pt x="10240" y="14223"/>
                  <a:pt x="10024" y="14386"/>
                  <a:pt x="10220" y="14337"/>
                </a:cubicBezTo>
                <a:cubicBezTo>
                  <a:pt x="10452" y="14278"/>
                  <a:pt x="10485" y="14273"/>
                  <a:pt x="10220" y="14362"/>
                </a:cubicBezTo>
              </a:path>
              <a:path w="4069" h="2531">
                <a:moveTo>
                  <a:pt x="9128" y="14635"/>
                </a:moveTo>
                <a:cubicBezTo>
                  <a:pt x="9074" y="14466"/>
                  <a:pt x="9017" y="14290"/>
                  <a:pt x="8979" y="14114"/>
                </a:cubicBezTo>
                <a:cubicBezTo>
                  <a:pt x="8970" y="14074"/>
                  <a:pt x="8891" y="13856"/>
                  <a:pt x="8979" y="13816"/>
                </a:cubicBezTo>
                <a:cubicBezTo>
                  <a:pt x="9106" y="13759"/>
                  <a:pt x="9317" y="13757"/>
                  <a:pt x="9451" y="13742"/>
                </a:cubicBezTo>
                <a:cubicBezTo>
                  <a:pt x="9658" y="13719"/>
                  <a:pt x="9863" y="13700"/>
                  <a:pt x="10071" y="13692"/>
                </a:cubicBezTo>
              </a:path>
              <a:path w="4069" h="2531">
                <a:moveTo>
                  <a:pt x="8558" y="13915"/>
                </a:moveTo>
                <a:cubicBezTo>
                  <a:pt x="8462" y="13954"/>
                  <a:pt x="8368" y="14042"/>
                  <a:pt x="8285" y="14114"/>
                </a:cubicBezTo>
                <a:cubicBezTo>
                  <a:pt x="8421" y="14171"/>
                  <a:pt x="8579" y="14204"/>
                  <a:pt x="8706" y="14263"/>
                </a:cubicBezTo>
                <a:cubicBezTo>
                  <a:pt x="8504" y="14387"/>
                  <a:pt x="8507" y="14262"/>
                  <a:pt x="8582" y="14064"/>
                </a:cubicBezTo>
                <a:cubicBezTo>
                  <a:pt x="8599" y="14031"/>
                  <a:pt x="8615" y="13998"/>
                  <a:pt x="8632" y="13965"/>
                </a:cubicBezTo>
              </a:path>
              <a:path w="4069" h="2531">
                <a:moveTo>
                  <a:pt x="9723" y="14387"/>
                </a:moveTo>
                <a:cubicBezTo>
                  <a:pt x="9754" y="14387"/>
                  <a:pt x="9720" y="14423"/>
                  <a:pt x="9699" y="14436"/>
                </a:cubicBezTo>
                <a:cubicBezTo>
                  <a:pt x="9653" y="14466"/>
                  <a:pt x="9597" y="14494"/>
                  <a:pt x="9550" y="14536"/>
                </a:cubicBezTo>
                <a:cubicBezTo>
                  <a:pt x="9616" y="14617"/>
                  <a:pt x="9794" y="14589"/>
                  <a:pt x="9823" y="14709"/>
                </a:cubicBezTo>
                <a:cubicBezTo>
                  <a:pt x="9842" y="14790"/>
                  <a:pt x="9747" y="14817"/>
                  <a:pt x="9699" y="14833"/>
                </a:cubicBezTo>
                <a:cubicBezTo>
                  <a:pt x="9656" y="14673"/>
                  <a:pt x="9709" y="14637"/>
                  <a:pt x="9773" y="14486"/>
                </a:cubicBezTo>
              </a:path>
              <a:path w="4069" h="2531">
                <a:moveTo>
                  <a:pt x="9054" y="15156"/>
                </a:moveTo>
                <a:cubicBezTo>
                  <a:pt x="9316" y="15081"/>
                  <a:pt x="9577" y="14976"/>
                  <a:pt x="9847" y="14932"/>
                </a:cubicBezTo>
                <a:cubicBezTo>
                  <a:pt x="9880" y="14932"/>
                  <a:pt x="9914" y="14932"/>
                  <a:pt x="9947" y="14932"/>
                </a:cubicBezTo>
              </a:path>
              <a:path w="4069" h="2531">
                <a:moveTo>
                  <a:pt x="9550" y="15230"/>
                </a:moveTo>
                <a:cubicBezTo>
                  <a:pt x="9542" y="15288"/>
                  <a:pt x="9531" y="15345"/>
                  <a:pt x="9525" y="15404"/>
                </a:cubicBezTo>
                <a:cubicBezTo>
                  <a:pt x="9709" y="15417"/>
                  <a:pt x="9771" y="15357"/>
                  <a:pt x="9872" y="15205"/>
                </a:cubicBezTo>
              </a:path>
              <a:path w="4069" h="2531">
                <a:moveTo>
                  <a:pt x="9773" y="15156"/>
                </a:moveTo>
                <a:cubicBezTo>
                  <a:pt x="9767" y="15238"/>
                  <a:pt x="9703" y="15432"/>
                  <a:pt x="9748" y="15503"/>
                </a:cubicBezTo>
                <a:cubicBezTo>
                  <a:pt x="9756" y="15503"/>
                  <a:pt x="9765" y="15503"/>
                  <a:pt x="9773" y="15503"/>
                </a:cubicBezTo>
              </a:path>
              <a:path w="4069" h="2531">
                <a:moveTo>
                  <a:pt x="10641" y="13593"/>
                </a:moveTo>
                <a:cubicBezTo>
                  <a:pt x="10712" y="13593"/>
                  <a:pt x="10839" y="13576"/>
                  <a:pt x="10864" y="13593"/>
                </a:cubicBezTo>
              </a:path>
              <a:path w="4069" h="2531">
                <a:moveTo>
                  <a:pt x="11137" y="13196"/>
                </a:moveTo>
                <a:cubicBezTo>
                  <a:pt x="11137" y="13121"/>
                  <a:pt x="11152" y="13295"/>
                  <a:pt x="11162" y="13370"/>
                </a:cubicBezTo>
                <a:cubicBezTo>
                  <a:pt x="11173" y="13453"/>
                  <a:pt x="11140" y="13919"/>
                  <a:pt x="11187" y="13965"/>
                </a:cubicBezTo>
                <a:cubicBezTo>
                  <a:pt x="11262" y="14038"/>
                  <a:pt x="11246" y="13771"/>
                  <a:pt x="11261" y="13667"/>
                </a:cubicBezTo>
              </a:path>
              <a:path w="4069" h="2531">
                <a:moveTo>
                  <a:pt x="11385" y="13047"/>
                </a:moveTo>
                <a:cubicBezTo>
                  <a:pt x="11385" y="13097"/>
                  <a:pt x="11385" y="13146"/>
                  <a:pt x="11385" y="13196"/>
                </a:cubicBezTo>
                <a:cubicBezTo>
                  <a:pt x="11443" y="13196"/>
                  <a:pt x="11501" y="13196"/>
                  <a:pt x="11559" y="13196"/>
                </a:cubicBezTo>
              </a:path>
              <a:path w="4069" h="2531">
                <a:moveTo>
                  <a:pt x="11485" y="12973"/>
                </a:moveTo>
                <a:cubicBezTo>
                  <a:pt x="11508" y="13070"/>
                  <a:pt x="11530" y="13160"/>
                  <a:pt x="11534" y="13271"/>
                </a:cubicBezTo>
                <a:cubicBezTo>
                  <a:pt x="11534" y="13322"/>
                  <a:pt x="11535" y="13341"/>
                  <a:pt x="11559" y="13370"/>
                </a:cubicBezTo>
              </a:path>
              <a:path w="4069" h="2531">
                <a:moveTo>
                  <a:pt x="11658" y="13543"/>
                </a:moveTo>
                <a:cubicBezTo>
                  <a:pt x="11625" y="13570"/>
                  <a:pt x="11491" y="13624"/>
                  <a:pt x="11509" y="13667"/>
                </a:cubicBezTo>
                <a:cubicBezTo>
                  <a:pt x="11521" y="13695"/>
                  <a:pt x="11629" y="13740"/>
                  <a:pt x="11658" y="13816"/>
                </a:cubicBezTo>
                <a:cubicBezTo>
                  <a:pt x="11565" y="13886"/>
                  <a:pt x="11591" y="13749"/>
                  <a:pt x="11609" y="13692"/>
                </a:cubicBezTo>
                <a:cubicBezTo>
                  <a:pt x="11623" y="13647"/>
                  <a:pt x="11649" y="13614"/>
                  <a:pt x="11658" y="13568"/>
                </a:cubicBezTo>
              </a:path>
              <a:path w="4069" h="2531">
                <a:moveTo>
                  <a:pt x="11832" y="13494"/>
                </a:moveTo>
                <a:cubicBezTo>
                  <a:pt x="11906" y="13494"/>
                  <a:pt x="11962" y="13483"/>
                  <a:pt x="12030" y="13469"/>
                </a:cubicBezTo>
              </a:path>
              <a:path w="4069" h="2531">
                <a:moveTo>
                  <a:pt x="11212" y="14436"/>
                </a:moveTo>
                <a:cubicBezTo>
                  <a:pt x="11244" y="14595"/>
                  <a:pt x="11236" y="14743"/>
                  <a:pt x="11212" y="14908"/>
                </a:cubicBezTo>
                <a:cubicBezTo>
                  <a:pt x="11204" y="14949"/>
                  <a:pt x="11195" y="14991"/>
                  <a:pt x="11187" y="15032"/>
                </a:cubicBezTo>
              </a:path>
              <a:path w="4069" h="2531">
                <a:moveTo>
                  <a:pt x="11609" y="14858"/>
                </a:moveTo>
                <a:cubicBezTo>
                  <a:pt x="11666" y="14851"/>
                  <a:pt x="11725" y="14840"/>
                  <a:pt x="11782" y="14833"/>
                </a:cubicBezTo>
                <a:cubicBezTo>
                  <a:pt x="11763" y="14922"/>
                  <a:pt x="11683" y="14958"/>
                  <a:pt x="11658" y="15032"/>
                </a:cubicBezTo>
                <a:cubicBezTo>
                  <a:pt x="11620" y="15143"/>
                  <a:pt x="11835" y="15048"/>
                  <a:pt x="11881" y="15032"/>
                </a:cubicBezTo>
              </a:path>
              <a:path w="4069" h="2531">
                <a:moveTo>
                  <a:pt x="11212" y="15329"/>
                </a:moveTo>
                <a:cubicBezTo>
                  <a:pt x="11505" y="15406"/>
                  <a:pt x="11721" y="15361"/>
                  <a:pt x="11981" y="15180"/>
                </a:cubicBezTo>
                <a:cubicBezTo>
                  <a:pt x="12243" y="14997"/>
                  <a:pt x="12452" y="14647"/>
                  <a:pt x="12278" y="14337"/>
                </a:cubicBezTo>
                <a:cubicBezTo>
                  <a:pt x="12111" y="14038"/>
                  <a:pt x="11700" y="13937"/>
                  <a:pt x="11385" y="14015"/>
                </a:cubicBezTo>
                <a:cubicBezTo>
                  <a:pt x="10934" y="14126"/>
                  <a:pt x="10611" y="14703"/>
                  <a:pt x="10864" y="15131"/>
                </a:cubicBezTo>
                <a:cubicBezTo>
                  <a:pt x="11067" y="15475"/>
                  <a:pt x="11276" y="15401"/>
                  <a:pt x="11584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99040" y="2714760"/>
            <a:ext cx="44640" cy="2187360"/>
          </a:xfrm>
          <a:custGeom>
            <a:avLst/>
            <a:gdLst/>
            <a:ahLst/>
            <a:rect l="l" t="t" r="r" b="b"/>
            <a:pathLst>
              <a:path w="126" h="6078">
                <a:moveTo>
                  <a:pt x="14213" y="8186"/>
                </a:moveTo>
                <a:lnTo>
                  <a:pt x="14213" y="8186"/>
                </a:lnTo>
              </a:path>
              <a:path w="126" h="6078">
                <a:moveTo>
                  <a:pt x="14263" y="8334"/>
                </a:moveTo>
                <a:lnTo>
                  <a:pt x="14263" y="8334"/>
                </a:lnTo>
                <a:lnTo>
                  <a:pt x="14263" y="8334"/>
                </a:lnTo>
              </a:path>
              <a:path w="126" h="6078">
                <a:moveTo>
                  <a:pt x="14263" y="8334"/>
                </a:moveTo>
                <a:lnTo>
                  <a:pt x="14263" y="8334"/>
                </a:lnTo>
              </a:path>
              <a:path w="126" h="6078">
                <a:moveTo>
                  <a:pt x="14263" y="7541"/>
                </a:moveTo>
                <a:lnTo>
                  <a:pt x="14263" y="7541"/>
                </a:lnTo>
                <a:lnTo>
                  <a:pt x="14263" y="7541"/>
                </a:lnTo>
              </a:path>
              <a:path w="126" h="6078">
                <a:moveTo>
                  <a:pt x="14288" y="7789"/>
                </a:moveTo>
                <a:cubicBezTo>
                  <a:pt x="14288" y="7797"/>
                  <a:pt x="14288" y="7805"/>
                  <a:pt x="14288" y="7813"/>
                </a:cubicBezTo>
              </a:path>
              <a:path w="126" h="6078">
                <a:moveTo>
                  <a:pt x="14288" y="7813"/>
                </a:moveTo>
                <a:lnTo>
                  <a:pt x="14288" y="7813"/>
                </a:lnTo>
              </a:path>
              <a:path w="126" h="6078">
                <a:moveTo>
                  <a:pt x="14288" y="12898"/>
                </a:moveTo>
                <a:cubicBezTo>
                  <a:pt x="14288" y="12931"/>
                  <a:pt x="14288" y="12965"/>
                  <a:pt x="14288" y="12998"/>
                </a:cubicBezTo>
              </a:path>
              <a:path w="126" h="6078">
                <a:moveTo>
                  <a:pt x="14163" y="13568"/>
                </a:moveTo>
                <a:cubicBezTo>
                  <a:pt x="14163" y="13585"/>
                  <a:pt x="14163" y="13601"/>
                  <a:pt x="14163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27800" y="2670120"/>
            <a:ext cx="11592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15354" y="7466"/>
                </a:moveTo>
                <a:cubicBezTo>
                  <a:pt x="15368" y="7561"/>
                  <a:pt x="15379" y="7642"/>
                  <a:pt x="15379" y="7739"/>
                </a:cubicBezTo>
              </a:path>
              <a:path w="324" h="323">
                <a:moveTo>
                  <a:pt x="15602" y="7417"/>
                </a:moveTo>
                <a:cubicBezTo>
                  <a:pt x="15558" y="7442"/>
                  <a:pt x="15538" y="7456"/>
                  <a:pt x="15503" y="7491"/>
                </a:cubicBezTo>
                <a:cubicBezTo>
                  <a:pt x="15526" y="7510"/>
                  <a:pt x="15677" y="7586"/>
                  <a:pt x="15677" y="7615"/>
                </a:cubicBezTo>
                <a:cubicBezTo>
                  <a:pt x="15655" y="7680"/>
                  <a:pt x="15656" y="7705"/>
                  <a:pt x="15602" y="7689"/>
                </a:cubicBezTo>
                <a:cubicBezTo>
                  <a:pt x="15583" y="7577"/>
                  <a:pt x="15558" y="7566"/>
                  <a:pt x="15627" y="7466"/>
                </a:cubicBezTo>
                <a:cubicBezTo>
                  <a:pt x="15649" y="7444"/>
                  <a:pt x="15658" y="7439"/>
                  <a:pt x="1565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2911320"/>
            <a:ext cx="81000" cy="10656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4635" y="8086"/>
                </a:moveTo>
                <a:cubicBezTo>
                  <a:pt x="14635" y="8123"/>
                  <a:pt x="14607" y="8314"/>
                  <a:pt x="14660" y="8334"/>
                </a:cubicBezTo>
                <a:cubicBezTo>
                  <a:pt x="14721" y="8357"/>
                  <a:pt x="14784" y="8321"/>
                  <a:pt x="14808" y="8310"/>
                </a:cubicBezTo>
                <a:cubicBezTo>
                  <a:pt x="14833" y="8310"/>
                  <a:pt x="14841" y="8310"/>
                  <a:pt x="14858" y="8310"/>
                </a:cubicBezTo>
                <a:cubicBezTo>
                  <a:pt x="14858" y="8232"/>
                  <a:pt x="14865" y="8217"/>
                  <a:pt x="14784" y="8210"/>
                </a:cubicBezTo>
                <a:cubicBezTo>
                  <a:pt x="14709" y="8204"/>
                  <a:pt x="14731" y="8357"/>
                  <a:pt x="14759" y="8384"/>
                </a:cubicBezTo>
                <a:cubicBezTo>
                  <a:pt x="14767" y="8384"/>
                  <a:pt x="14776" y="8384"/>
                  <a:pt x="14784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2205000"/>
            <a:ext cx="54000" cy="730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8008" y="6176"/>
                </a:moveTo>
                <a:cubicBezTo>
                  <a:pt x="18013" y="6161"/>
                  <a:pt x="18106" y="6089"/>
                  <a:pt x="18107" y="6152"/>
                </a:cubicBezTo>
                <a:cubicBezTo>
                  <a:pt x="18083" y="6176"/>
                  <a:pt x="18074" y="6185"/>
                  <a:pt x="18058" y="6201"/>
                </a:cubicBezTo>
                <a:cubicBezTo>
                  <a:pt x="18104" y="6201"/>
                  <a:pt x="18170" y="6200"/>
                  <a:pt x="18157" y="6276"/>
                </a:cubicBezTo>
                <a:cubicBezTo>
                  <a:pt x="18127" y="6305"/>
                  <a:pt x="18113" y="6316"/>
                  <a:pt x="18083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0760" y="1438200"/>
            <a:ext cx="366480" cy="507960"/>
          </a:xfrm>
          <a:custGeom>
            <a:avLst/>
            <a:gdLst/>
            <a:ahLst/>
            <a:rect l="l" t="t" r="r" b="b"/>
            <a:pathLst>
              <a:path w="1018" h="1414">
                <a:moveTo>
                  <a:pt x="17909" y="5035"/>
                </a:moveTo>
                <a:cubicBezTo>
                  <a:pt x="17894" y="5067"/>
                  <a:pt x="17821" y="5282"/>
                  <a:pt x="17810" y="5283"/>
                </a:cubicBezTo>
                <a:cubicBezTo>
                  <a:pt x="17810" y="5275"/>
                  <a:pt x="17810" y="5267"/>
                  <a:pt x="17810" y="5259"/>
                </a:cubicBezTo>
              </a:path>
              <a:path w="1018" h="1414">
                <a:moveTo>
                  <a:pt x="18008" y="4936"/>
                </a:moveTo>
                <a:cubicBezTo>
                  <a:pt x="18018" y="4916"/>
                  <a:pt x="18116" y="4837"/>
                  <a:pt x="18107" y="4911"/>
                </a:cubicBezTo>
                <a:cubicBezTo>
                  <a:pt x="18083" y="5012"/>
                  <a:pt x="18074" y="5046"/>
                  <a:pt x="18008" y="5085"/>
                </a:cubicBezTo>
                <a:cubicBezTo>
                  <a:pt x="18081" y="5070"/>
                  <a:pt x="18143" y="4989"/>
                  <a:pt x="18157" y="5085"/>
                </a:cubicBezTo>
                <a:cubicBezTo>
                  <a:pt x="18177" y="5219"/>
                  <a:pt x="18077" y="5221"/>
                  <a:pt x="17983" y="5259"/>
                </a:cubicBezTo>
              </a:path>
              <a:path w="1018" h="1414">
                <a:moveTo>
                  <a:pt x="17562" y="4142"/>
                </a:moveTo>
                <a:cubicBezTo>
                  <a:pt x="17534" y="4142"/>
                  <a:pt x="17523" y="4144"/>
                  <a:pt x="17512" y="4167"/>
                </a:cubicBezTo>
                <a:cubicBezTo>
                  <a:pt x="17539" y="4282"/>
                  <a:pt x="17553" y="4416"/>
                  <a:pt x="17562" y="4539"/>
                </a:cubicBezTo>
                <a:cubicBezTo>
                  <a:pt x="17562" y="4564"/>
                  <a:pt x="17562" y="4572"/>
                  <a:pt x="17562" y="4539"/>
                </a:cubicBezTo>
              </a:path>
              <a:path w="1018" h="1414">
                <a:moveTo>
                  <a:pt x="17859" y="3994"/>
                </a:moveTo>
                <a:cubicBezTo>
                  <a:pt x="17754" y="4052"/>
                  <a:pt x="17735" y="4049"/>
                  <a:pt x="17735" y="4167"/>
                </a:cubicBezTo>
                <a:cubicBezTo>
                  <a:pt x="17735" y="4184"/>
                  <a:pt x="17735" y="4200"/>
                  <a:pt x="17735" y="4217"/>
                </a:cubicBezTo>
                <a:cubicBezTo>
                  <a:pt x="17826" y="4217"/>
                  <a:pt x="17915" y="4197"/>
                  <a:pt x="18008" y="4192"/>
                </a:cubicBezTo>
                <a:cubicBezTo>
                  <a:pt x="17989" y="4385"/>
                  <a:pt x="17887" y="4433"/>
                  <a:pt x="17735" y="4539"/>
                </a:cubicBezTo>
              </a:path>
              <a:path w="1018" h="1414">
                <a:moveTo>
                  <a:pt x="17140" y="5407"/>
                </a:moveTo>
                <a:cubicBezTo>
                  <a:pt x="17451" y="5275"/>
                  <a:pt x="17715" y="5081"/>
                  <a:pt x="18008" y="4911"/>
                </a:cubicBezTo>
                <a:cubicBezTo>
                  <a:pt x="18081" y="4875"/>
                  <a:pt x="18114" y="4887"/>
                  <a:pt x="18107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92840" y="1741320"/>
            <a:ext cx="2268360" cy="366840"/>
          </a:xfrm>
          <a:custGeom>
            <a:avLst/>
            <a:gdLst/>
            <a:ahLst/>
            <a:rect l="l" t="t" r="r" b="b"/>
            <a:pathLst>
              <a:path w="6301" h="1018">
                <a:moveTo>
                  <a:pt x="21555" y="5432"/>
                </a:moveTo>
                <a:lnTo>
                  <a:pt x="21555" y="5432"/>
                </a:lnTo>
                <a:lnTo>
                  <a:pt x="21555" y="5432"/>
                </a:lnTo>
              </a:path>
              <a:path w="6301" h="1018">
                <a:moveTo>
                  <a:pt x="16371" y="5060"/>
                </a:moveTo>
                <a:cubicBezTo>
                  <a:pt x="16398" y="5114"/>
                  <a:pt x="16410" y="5134"/>
                  <a:pt x="16446" y="5159"/>
                </a:cubicBezTo>
              </a:path>
              <a:path w="6301" h="1018">
                <a:moveTo>
                  <a:pt x="16446" y="5035"/>
                </a:moveTo>
                <a:cubicBezTo>
                  <a:pt x="16440" y="5086"/>
                  <a:pt x="16429" y="5133"/>
                  <a:pt x="16421" y="5184"/>
                </a:cubicBezTo>
              </a:path>
              <a:path w="6301" h="1018">
                <a:moveTo>
                  <a:pt x="16421" y="5184"/>
                </a:moveTo>
                <a:lnTo>
                  <a:pt x="16421" y="5184"/>
                </a:lnTo>
              </a:path>
              <a:path w="6301" h="1018">
                <a:moveTo>
                  <a:pt x="17884" y="5035"/>
                </a:moveTo>
                <a:cubicBezTo>
                  <a:pt x="17818" y="5057"/>
                  <a:pt x="17886" y="5153"/>
                  <a:pt x="17909" y="5209"/>
                </a:cubicBezTo>
              </a:path>
              <a:path w="6301" h="1018">
                <a:moveTo>
                  <a:pt x="17810" y="5259"/>
                </a:moveTo>
                <a:lnTo>
                  <a:pt x="17810" y="5259"/>
                </a:lnTo>
              </a:path>
              <a:path w="6301" h="1018">
                <a:moveTo>
                  <a:pt x="21754" y="5854"/>
                </a:moveTo>
                <a:lnTo>
                  <a:pt x="21754" y="5854"/>
                </a:lnTo>
              </a:path>
              <a:path w="6301" h="1018">
                <a:moveTo>
                  <a:pt x="22671" y="4862"/>
                </a:moveTo>
                <a:cubicBezTo>
                  <a:pt x="22671" y="4854"/>
                  <a:pt x="22671" y="4845"/>
                  <a:pt x="22671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7840" y="2125800"/>
            <a:ext cx="3571920" cy="2482560"/>
          </a:xfrm>
          <a:custGeom>
            <a:avLst/>
            <a:gdLst/>
            <a:ahLst/>
            <a:rect l="l" t="t" r="r" b="b"/>
            <a:pathLst>
              <a:path w="9923" h="6896">
                <a:moveTo>
                  <a:pt x="23068" y="5978"/>
                </a:moveTo>
                <a:cubicBezTo>
                  <a:pt x="23184" y="5956"/>
                  <a:pt x="23303" y="5926"/>
                  <a:pt x="23416" y="5904"/>
                </a:cubicBezTo>
              </a:path>
              <a:path w="9923" h="6896">
                <a:moveTo>
                  <a:pt x="23416" y="5904"/>
                </a:moveTo>
                <a:lnTo>
                  <a:pt x="23416" y="5904"/>
                </a:lnTo>
              </a:path>
              <a:path w="9923" h="6896">
                <a:moveTo>
                  <a:pt x="13494" y="12626"/>
                </a:moveTo>
                <a:lnTo>
                  <a:pt x="13494" y="12626"/>
                </a:lnTo>
                <a:lnTo>
                  <a:pt x="13494" y="12626"/>
                </a:lnTo>
              </a:path>
              <a:path w="9923" h="6896">
                <a:moveTo>
                  <a:pt x="13494" y="12626"/>
                </a:moveTo>
                <a:lnTo>
                  <a:pt x="13494" y="12626"/>
                </a:lnTo>
              </a:path>
              <a:path w="9923" h="6896">
                <a:moveTo>
                  <a:pt x="13543" y="12799"/>
                </a:moveTo>
                <a:lnTo>
                  <a:pt x="13543" y="127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58080" y="2554200"/>
            <a:ext cx="71640" cy="115920"/>
          </a:xfrm>
          <a:custGeom>
            <a:avLst/>
            <a:gdLst/>
            <a:ahLst/>
            <a:rect l="l" t="t" r="r" b="b"/>
            <a:pathLst>
              <a:path w="200" h="324">
                <a:moveTo>
                  <a:pt x="21828" y="7094"/>
                </a:moveTo>
                <a:cubicBezTo>
                  <a:pt x="21915" y="7146"/>
                  <a:pt x="21985" y="7289"/>
                  <a:pt x="22027" y="7392"/>
                </a:cubicBezTo>
                <a:cubicBezTo>
                  <a:pt x="22027" y="7400"/>
                  <a:pt x="22027" y="7409"/>
                  <a:pt x="22027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40320" y="3375000"/>
            <a:ext cx="32076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7611" y="9451"/>
                </a:moveTo>
                <a:cubicBezTo>
                  <a:pt x="17696" y="9442"/>
                  <a:pt x="17776" y="9415"/>
                  <a:pt x="17859" y="9401"/>
                </a:cubicBezTo>
                <a:cubicBezTo>
                  <a:pt x="17894" y="9523"/>
                  <a:pt x="17876" y="9654"/>
                  <a:pt x="17909" y="9773"/>
                </a:cubicBezTo>
                <a:cubicBezTo>
                  <a:pt x="17917" y="9773"/>
                  <a:pt x="17926" y="9773"/>
                  <a:pt x="17934" y="9773"/>
                </a:cubicBezTo>
              </a:path>
              <a:path w="894" h="398">
                <a:moveTo>
                  <a:pt x="18083" y="9401"/>
                </a:moveTo>
                <a:cubicBezTo>
                  <a:pt x="18170" y="9357"/>
                  <a:pt x="18345" y="9368"/>
                  <a:pt x="18405" y="9475"/>
                </a:cubicBezTo>
                <a:cubicBezTo>
                  <a:pt x="18482" y="9611"/>
                  <a:pt x="18220" y="9779"/>
                  <a:pt x="18107" y="9748"/>
                </a:cubicBezTo>
                <a:cubicBezTo>
                  <a:pt x="18107" y="9740"/>
                  <a:pt x="18107" y="9731"/>
                  <a:pt x="18107" y="9723"/>
                </a:cubicBezTo>
                <a:cubicBezTo>
                  <a:pt x="18157" y="9626"/>
                  <a:pt x="18309" y="9672"/>
                  <a:pt x="18405" y="9699"/>
                </a:cubicBezTo>
                <a:cubicBezTo>
                  <a:pt x="18450" y="9712"/>
                  <a:pt x="18464" y="9738"/>
                  <a:pt x="18504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7880" y="1839960"/>
            <a:ext cx="1890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8533" y="5110"/>
                </a:moveTo>
                <a:cubicBezTo>
                  <a:pt x="8493" y="5206"/>
                  <a:pt x="8425" y="5301"/>
                  <a:pt x="8409" y="5407"/>
                </a:cubicBezTo>
                <a:cubicBezTo>
                  <a:pt x="8398" y="5484"/>
                  <a:pt x="8384" y="5551"/>
                  <a:pt x="8384" y="5631"/>
                </a:cubicBezTo>
                <a:cubicBezTo>
                  <a:pt x="8384" y="5724"/>
                  <a:pt x="8471" y="5745"/>
                  <a:pt x="8558" y="5755"/>
                </a:cubicBezTo>
                <a:cubicBezTo>
                  <a:pt x="8653" y="5766"/>
                  <a:pt x="8727" y="5728"/>
                  <a:pt x="8806" y="5680"/>
                </a:cubicBezTo>
                <a:cubicBezTo>
                  <a:pt x="8876" y="5638"/>
                  <a:pt x="8905" y="5630"/>
                  <a:pt x="8905" y="5556"/>
                </a:cubicBezTo>
                <a:cubicBezTo>
                  <a:pt x="8829" y="5541"/>
                  <a:pt x="8808" y="5521"/>
                  <a:pt x="8731" y="5556"/>
                </a:cubicBezTo>
                <a:cubicBezTo>
                  <a:pt x="8658" y="5589"/>
                  <a:pt x="8619" y="5629"/>
                  <a:pt x="8607" y="5705"/>
                </a:cubicBezTo>
                <a:cubicBezTo>
                  <a:pt x="8607" y="5733"/>
                  <a:pt x="8609" y="5744"/>
                  <a:pt x="8632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143080"/>
            <a:ext cx="411480" cy="36720"/>
          </a:xfrm>
          <a:custGeom>
            <a:avLst/>
            <a:gdLst/>
            <a:ahLst/>
            <a:rect l="l" t="t" r="r" b="b"/>
            <a:pathLst>
              <a:path w="1142" h="100">
                <a:moveTo>
                  <a:pt x="8086" y="6052"/>
                </a:moveTo>
                <a:cubicBezTo>
                  <a:pt x="8170" y="5991"/>
                  <a:pt x="8446" y="6011"/>
                  <a:pt x="8533" y="6003"/>
                </a:cubicBezTo>
                <a:cubicBezTo>
                  <a:pt x="8757" y="5983"/>
                  <a:pt x="8978" y="5953"/>
                  <a:pt x="9203" y="5953"/>
                </a:cubicBezTo>
                <a:cubicBezTo>
                  <a:pt x="9211" y="5953"/>
                  <a:pt x="9219" y="5953"/>
                  <a:pt x="922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3240" y="2251080"/>
            <a:ext cx="19080" cy="1508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8310" y="6276"/>
                </a:moveTo>
                <a:cubicBezTo>
                  <a:pt x="8310" y="6176"/>
                  <a:pt x="8301" y="6425"/>
                  <a:pt x="8285" y="6524"/>
                </a:cubicBezTo>
                <a:cubicBezTo>
                  <a:pt x="8266" y="6637"/>
                  <a:pt x="8232" y="6721"/>
                  <a:pt x="828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98880" y="2251080"/>
            <a:ext cx="179280" cy="15084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8607" y="6276"/>
                </a:moveTo>
                <a:cubicBezTo>
                  <a:pt x="8767" y="6242"/>
                  <a:pt x="8980" y="6237"/>
                  <a:pt x="9029" y="6449"/>
                </a:cubicBezTo>
                <a:cubicBezTo>
                  <a:pt x="9092" y="6720"/>
                  <a:pt x="8723" y="6635"/>
                  <a:pt x="8607" y="6598"/>
                </a:cubicBezTo>
                <a:cubicBezTo>
                  <a:pt x="8779" y="6521"/>
                  <a:pt x="8891" y="6535"/>
                  <a:pt x="9054" y="6623"/>
                </a:cubicBezTo>
                <a:cubicBezTo>
                  <a:pt x="9079" y="6648"/>
                  <a:pt x="9087" y="6656"/>
                  <a:pt x="9103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67080" y="190188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9351" y="5283"/>
                </a:moveTo>
                <a:cubicBezTo>
                  <a:pt x="9351" y="5378"/>
                  <a:pt x="9326" y="5522"/>
                  <a:pt x="9426" y="5581"/>
                </a:cubicBezTo>
                <a:cubicBezTo>
                  <a:pt x="9520" y="5637"/>
                  <a:pt x="9602" y="5525"/>
                  <a:pt x="9624" y="5457"/>
                </a:cubicBezTo>
                <a:cubicBezTo>
                  <a:pt x="9511" y="5486"/>
                  <a:pt x="9489" y="5546"/>
                  <a:pt x="9500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30720" y="233028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9252" y="6499"/>
                </a:moveTo>
                <a:cubicBezTo>
                  <a:pt x="9314" y="6499"/>
                  <a:pt x="9351" y="6504"/>
                  <a:pt x="940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94080" y="2295360"/>
            <a:ext cx="115920" cy="1159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9426" y="6375"/>
                </a:moveTo>
                <a:cubicBezTo>
                  <a:pt x="9440" y="6472"/>
                  <a:pt x="9448" y="6581"/>
                  <a:pt x="9525" y="6648"/>
                </a:cubicBezTo>
                <a:cubicBezTo>
                  <a:pt x="9633" y="6742"/>
                  <a:pt x="9713" y="6569"/>
                  <a:pt x="9748" y="6499"/>
                </a:cubicBezTo>
                <a:cubicBezTo>
                  <a:pt x="9648" y="6499"/>
                  <a:pt x="9626" y="6498"/>
                  <a:pt x="9599" y="6623"/>
                </a:cubicBezTo>
                <a:cubicBezTo>
                  <a:pt x="9599" y="6681"/>
                  <a:pt x="9583" y="6705"/>
                  <a:pt x="9624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27280" y="2098800"/>
            <a:ext cx="11592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9798" y="5829"/>
                </a:moveTo>
                <a:cubicBezTo>
                  <a:pt x="9906" y="5840"/>
                  <a:pt x="10098" y="5748"/>
                  <a:pt x="10120" y="5854"/>
                </a:cubicBezTo>
                <a:cubicBezTo>
                  <a:pt x="10104" y="5862"/>
                  <a:pt x="10087" y="5871"/>
                  <a:pt x="10071" y="58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44920" y="2160720"/>
            <a:ext cx="125280" cy="190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9847" y="6052"/>
                </a:moveTo>
                <a:cubicBezTo>
                  <a:pt x="9948" y="6052"/>
                  <a:pt x="10053" y="6065"/>
                  <a:pt x="10145" y="6028"/>
                </a:cubicBezTo>
                <a:cubicBezTo>
                  <a:pt x="10162" y="6020"/>
                  <a:pt x="10178" y="6011"/>
                  <a:pt x="10195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6320" y="1768320"/>
            <a:ext cx="3672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20712" y="4911"/>
                </a:moveTo>
                <a:cubicBezTo>
                  <a:pt x="20737" y="5034"/>
                  <a:pt x="20758" y="5153"/>
                  <a:pt x="20762" y="5283"/>
                </a:cubicBezTo>
                <a:cubicBezTo>
                  <a:pt x="20762" y="5346"/>
                  <a:pt x="20769" y="5352"/>
                  <a:pt x="20811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72240" y="1741320"/>
            <a:ext cx="11592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1059" y="4837"/>
                </a:moveTo>
                <a:cubicBezTo>
                  <a:pt x="21018" y="5026"/>
                  <a:pt x="21020" y="5091"/>
                  <a:pt x="21158" y="5209"/>
                </a:cubicBezTo>
                <a:cubicBezTo>
                  <a:pt x="21330" y="5134"/>
                  <a:pt x="21427" y="5051"/>
                  <a:pt x="21282" y="4862"/>
                </a:cubicBezTo>
                <a:cubicBezTo>
                  <a:pt x="21216" y="4829"/>
                  <a:pt x="21183" y="4829"/>
                  <a:pt x="21134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5680" y="1990800"/>
            <a:ext cx="295200" cy="54000"/>
          </a:xfrm>
          <a:custGeom>
            <a:avLst/>
            <a:gdLst/>
            <a:ahLst/>
            <a:rect l="l" t="t" r="r" b="b"/>
            <a:pathLst>
              <a:path w="819" h="150">
                <a:moveTo>
                  <a:pt x="20489" y="5680"/>
                </a:moveTo>
                <a:cubicBezTo>
                  <a:pt x="20747" y="5646"/>
                  <a:pt x="21002" y="5576"/>
                  <a:pt x="21258" y="5531"/>
                </a:cubicBezTo>
                <a:cubicBezTo>
                  <a:pt x="21299" y="5531"/>
                  <a:pt x="21315" y="5523"/>
                  <a:pt x="2130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92960" y="2152800"/>
            <a:ext cx="36720" cy="204480"/>
          </a:xfrm>
          <a:custGeom>
            <a:avLst/>
            <a:gdLst/>
            <a:ahLst/>
            <a:rect l="l" t="t" r="r" b="b"/>
            <a:pathLst>
              <a:path w="101" h="571">
                <a:moveTo>
                  <a:pt x="20538" y="5978"/>
                </a:moveTo>
                <a:cubicBezTo>
                  <a:pt x="20538" y="6041"/>
                  <a:pt x="20491" y="6548"/>
                  <a:pt x="20588" y="6548"/>
                </a:cubicBezTo>
                <a:cubicBezTo>
                  <a:pt x="20605" y="6523"/>
                  <a:pt x="20621" y="6499"/>
                  <a:pt x="20638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18240" y="2125800"/>
            <a:ext cx="98640" cy="2142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21059" y="5904"/>
                </a:moveTo>
                <a:cubicBezTo>
                  <a:pt x="20996" y="5994"/>
                  <a:pt x="20940" y="6080"/>
                  <a:pt x="20886" y="6176"/>
                </a:cubicBezTo>
                <a:cubicBezTo>
                  <a:pt x="21023" y="6281"/>
                  <a:pt x="21090" y="6318"/>
                  <a:pt x="21158" y="6474"/>
                </a:cubicBezTo>
                <a:cubicBezTo>
                  <a:pt x="20965" y="6523"/>
                  <a:pt x="21044" y="6246"/>
                  <a:pt x="21059" y="6127"/>
                </a:cubicBezTo>
                <a:cubicBezTo>
                  <a:pt x="21079" y="6028"/>
                  <a:pt x="21113" y="5987"/>
                  <a:pt x="21034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42160" y="1973160"/>
            <a:ext cx="7164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21530" y="5482"/>
                </a:moveTo>
                <a:cubicBezTo>
                  <a:pt x="21486" y="5505"/>
                  <a:pt x="21625" y="5625"/>
                  <a:pt x="21654" y="5655"/>
                </a:cubicBezTo>
                <a:cubicBezTo>
                  <a:pt x="21671" y="5672"/>
                  <a:pt x="21687" y="5688"/>
                  <a:pt x="21704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32800" y="1963800"/>
            <a:ext cx="63360" cy="12528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21654" y="5457"/>
                </a:moveTo>
                <a:cubicBezTo>
                  <a:pt x="21603" y="5560"/>
                  <a:pt x="21519" y="5659"/>
                  <a:pt x="21481" y="5779"/>
                </a:cubicBezTo>
                <a:cubicBezTo>
                  <a:pt x="21481" y="5787"/>
                  <a:pt x="21481" y="5796"/>
                  <a:pt x="21481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7080" y="1946160"/>
            <a:ext cx="19080" cy="162000"/>
          </a:xfrm>
          <a:custGeom>
            <a:avLst/>
            <a:gdLst/>
            <a:ahLst/>
            <a:rect l="l" t="t" r="r" b="b"/>
            <a:pathLst>
              <a:path w="50" h="448">
                <a:moveTo>
                  <a:pt x="21605" y="5507"/>
                </a:moveTo>
                <a:cubicBezTo>
                  <a:pt x="21619" y="5617"/>
                  <a:pt x="21630" y="5717"/>
                  <a:pt x="21630" y="5829"/>
                </a:cubicBezTo>
                <a:cubicBezTo>
                  <a:pt x="21630" y="5693"/>
                  <a:pt x="21621" y="5566"/>
                  <a:pt x="21605" y="5432"/>
                </a:cubicBezTo>
                <a:cubicBezTo>
                  <a:pt x="21605" y="5399"/>
                  <a:pt x="21605" y="5399"/>
                  <a:pt x="21605" y="5457"/>
                </a:cubicBezTo>
                <a:cubicBezTo>
                  <a:pt x="21649" y="5589"/>
                  <a:pt x="21593" y="5988"/>
                  <a:pt x="21630" y="5854"/>
                </a:cubicBezTo>
                <a:cubicBezTo>
                  <a:pt x="21638" y="5829"/>
                  <a:pt x="21646" y="5804"/>
                  <a:pt x="21654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88160" y="2035080"/>
            <a:ext cx="169920" cy="460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21431" y="5730"/>
                </a:moveTo>
                <a:cubicBezTo>
                  <a:pt x="21554" y="5712"/>
                  <a:pt x="21696" y="5682"/>
                  <a:pt x="21828" y="5655"/>
                </a:cubicBezTo>
                <a:cubicBezTo>
                  <a:pt x="21987" y="5623"/>
                  <a:pt x="21517" y="5730"/>
                  <a:pt x="21357" y="5755"/>
                </a:cubicBezTo>
                <a:cubicBezTo>
                  <a:pt x="21511" y="5755"/>
                  <a:pt x="21660" y="5680"/>
                  <a:pt x="21803" y="5680"/>
                </a:cubicBezTo>
                <a:cubicBezTo>
                  <a:pt x="21904" y="5680"/>
                  <a:pt x="21502" y="5819"/>
                  <a:pt x="21580" y="5755"/>
                </a:cubicBezTo>
                <a:cubicBezTo>
                  <a:pt x="21613" y="5730"/>
                  <a:pt x="21646" y="5705"/>
                  <a:pt x="2167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96160" y="1990800"/>
            <a:ext cx="34920" cy="117360"/>
          </a:xfrm>
          <a:custGeom>
            <a:avLst/>
            <a:gdLst/>
            <a:ahLst/>
            <a:rect l="l" t="t" r="r" b="b"/>
            <a:pathLst>
              <a:path w="101" h="324">
                <a:moveTo>
                  <a:pt x="21654" y="5531"/>
                </a:moveTo>
                <a:cubicBezTo>
                  <a:pt x="21685" y="5637"/>
                  <a:pt x="21741" y="5717"/>
                  <a:pt x="21754" y="5829"/>
                </a:cubicBezTo>
                <a:cubicBezTo>
                  <a:pt x="21754" y="5837"/>
                  <a:pt x="21754" y="5846"/>
                  <a:pt x="21754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10360" y="175104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22250" y="4862"/>
                </a:moveTo>
                <a:cubicBezTo>
                  <a:pt x="22312" y="4986"/>
                  <a:pt x="22319" y="5096"/>
                  <a:pt x="22324" y="5234"/>
                </a:cubicBezTo>
                <a:cubicBezTo>
                  <a:pt x="22324" y="5259"/>
                  <a:pt x="22324" y="5267"/>
                  <a:pt x="22324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16920" y="1687680"/>
            <a:ext cx="98280" cy="206280"/>
          </a:xfrm>
          <a:custGeom>
            <a:avLst/>
            <a:gdLst/>
            <a:ahLst/>
            <a:rect l="l" t="t" r="r" b="b"/>
            <a:pathLst>
              <a:path w="274" h="572">
                <a:moveTo>
                  <a:pt x="22771" y="4688"/>
                </a:moveTo>
                <a:cubicBezTo>
                  <a:pt x="22712" y="4758"/>
                  <a:pt x="22635" y="4830"/>
                  <a:pt x="22572" y="4862"/>
                </a:cubicBezTo>
                <a:cubicBezTo>
                  <a:pt x="22564" y="4862"/>
                  <a:pt x="22555" y="4862"/>
                  <a:pt x="22547" y="4862"/>
                </a:cubicBezTo>
                <a:cubicBezTo>
                  <a:pt x="22569" y="4972"/>
                  <a:pt x="22613" y="4962"/>
                  <a:pt x="22721" y="5011"/>
                </a:cubicBezTo>
                <a:cubicBezTo>
                  <a:pt x="22869" y="5079"/>
                  <a:pt x="22825" y="5179"/>
                  <a:pt x="22696" y="5234"/>
                </a:cubicBezTo>
                <a:cubicBezTo>
                  <a:pt x="22663" y="5242"/>
                  <a:pt x="22630" y="5251"/>
                  <a:pt x="22597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74000" y="1973160"/>
            <a:ext cx="304920" cy="63720"/>
          </a:xfrm>
          <a:custGeom>
            <a:avLst/>
            <a:gdLst/>
            <a:ahLst/>
            <a:rect l="l" t="t" r="r" b="b"/>
            <a:pathLst>
              <a:path w="844" h="174">
                <a:moveTo>
                  <a:pt x="22151" y="5655"/>
                </a:moveTo>
                <a:cubicBezTo>
                  <a:pt x="22381" y="5566"/>
                  <a:pt x="22668" y="5525"/>
                  <a:pt x="22920" y="5482"/>
                </a:cubicBezTo>
                <a:cubicBezTo>
                  <a:pt x="22961" y="5482"/>
                  <a:pt x="22969" y="5482"/>
                  <a:pt x="22994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91640" y="2170080"/>
            <a:ext cx="18720" cy="142920"/>
          </a:xfrm>
          <a:custGeom>
            <a:avLst/>
            <a:gdLst/>
            <a:ahLst/>
            <a:rect l="l" t="t" r="r" b="b"/>
            <a:pathLst>
              <a:path w="51" h="397">
                <a:moveTo>
                  <a:pt x="22200" y="6028"/>
                </a:moveTo>
                <a:cubicBezTo>
                  <a:pt x="22224" y="6195"/>
                  <a:pt x="22144" y="6433"/>
                  <a:pt x="2225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9000" y="2116080"/>
            <a:ext cx="79200" cy="169920"/>
          </a:xfrm>
          <a:custGeom>
            <a:avLst/>
            <a:gdLst/>
            <a:ahLst/>
            <a:rect l="l" t="t" r="r" b="b"/>
            <a:pathLst>
              <a:path w="224" h="472">
                <a:moveTo>
                  <a:pt x="22647" y="5879"/>
                </a:moveTo>
                <a:cubicBezTo>
                  <a:pt x="22603" y="5944"/>
                  <a:pt x="22561" y="6008"/>
                  <a:pt x="22523" y="6077"/>
                </a:cubicBezTo>
                <a:cubicBezTo>
                  <a:pt x="22588" y="6152"/>
                  <a:pt x="22712" y="6191"/>
                  <a:pt x="22746" y="6300"/>
                </a:cubicBezTo>
                <a:cubicBezTo>
                  <a:pt x="22746" y="6317"/>
                  <a:pt x="22746" y="6333"/>
                  <a:pt x="22746" y="6350"/>
                </a:cubicBezTo>
                <a:cubicBezTo>
                  <a:pt x="22571" y="6315"/>
                  <a:pt x="22658" y="6177"/>
                  <a:pt x="22696" y="6028"/>
                </a:cubicBezTo>
                <a:cubicBezTo>
                  <a:pt x="22704" y="5995"/>
                  <a:pt x="22713" y="5961"/>
                  <a:pt x="22721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3840" y="206208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23093" y="5804"/>
                </a:moveTo>
                <a:cubicBezTo>
                  <a:pt x="23203" y="5804"/>
                  <a:pt x="23288" y="5767"/>
                  <a:pt x="23391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62960" y="1795320"/>
            <a:ext cx="135000" cy="15084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3937" y="5035"/>
                </a:moveTo>
                <a:cubicBezTo>
                  <a:pt x="23917" y="5076"/>
                  <a:pt x="23908" y="5103"/>
                  <a:pt x="23912" y="5060"/>
                </a:cubicBezTo>
                <a:cubicBezTo>
                  <a:pt x="23932" y="4961"/>
                  <a:pt x="24033" y="4942"/>
                  <a:pt x="24110" y="5060"/>
                </a:cubicBezTo>
                <a:cubicBezTo>
                  <a:pt x="24257" y="5287"/>
                  <a:pt x="23960" y="5383"/>
                  <a:pt x="23812" y="5407"/>
                </a:cubicBezTo>
                <a:cubicBezTo>
                  <a:pt x="23830" y="5309"/>
                  <a:pt x="23958" y="5259"/>
                  <a:pt x="24085" y="5308"/>
                </a:cubicBezTo>
                <a:cubicBezTo>
                  <a:pt x="24142" y="5346"/>
                  <a:pt x="24167" y="5341"/>
                  <a:pt x="24160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59880" y="175896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4507" y="4887"/>
                </a:moveTo>
                <a:cubicBezTo>
                  <a:pt x="24453" y="4913"/>
                  <a:pt x="24348" y="4940"/>
                  <a:pt x="24333" y="4986"/>
                </a:cubicBezTo>
                <a:cubicBezTo>
                  <a:pt x="24333" y="4994"/>
                  <a:pt x="24333" y="5003"/>
                  <a:pt x="24333" y="5011"/>
                </a:cubicBezTo>
                <a:cubicBezTo>
                  <a:pt x="24333" y="5105"/>
                  <a:pt x="24432" y="5051"/>
                  <a:pt x="24507" y="5060"/>
                </a:cubicBezTo>
                <a:cubicBezTo>
                  <a:pt x="24548" y="5068"/>
                  <a:pt x="24590" y="5077"/>
                  <a:pt x="24631" y="5085"/>
                </a:cubicBezTo>
                <a:cubicBezTo>
                  <a:pt x="24614" y="5289"/>
                  <a:pt x="24519" y="5284"/>
                  <a:pt x="24333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62960" y="2009880"/>
            <a:ext cx="287280" cy="34920"/>
          </a:xfrm>
          <a:custGeom>
            <a:avLst/>
            <a:gdLst/>
            <a:ahLst/>
            <a:rect l="l" t="t" r="r" b="b"/>
            <a:pathLst>
              <a:path w="794" h="100">
                <a:moveTo>
                  <a:pt x="23788" y="5680"/>
                </a:moveTo>
                <a:cubicBezTo>
                  <a:pt x="24014" y="5664"/>
                  <a:pt x="24232" y="5601"/>
                  <a:pt x="24457" y="5581"/>
                </a:cubicBezTo>
                <a:cubicBezTo>
                  <a:pt x="24498" y="5581"/>
                  <a:pt x="24540" y="5581"/>
                  <a:pt x="24581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16960" y="2178000"/>
            <a:ext cx="1440" cy="144360"/>
          </a:xfrm>
          <a:custGeom>
            <a:avLst/>
            <a:gdLst/>
            <a:ahLst/>
            <a:rect l="l" t="t" r="r" b="b"/>
            <a:pathLst>
              <a:path w="1" h="398">
                <a:moveTo>
                  <a:pt x="23937" y="6052"/>
                </a:moveTo>
                <a:cubicBezTo>
                  <a:pt x="23937" y="6184"/>
                  <a:pt x="23937" y="6317"/>
                  <a:pt x="23937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88240" y="2160720"/>
            <a:ext cx="9864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24333" y="6003"/>
                </a:moveTo>
                <a:cubicBezTo>
                  <a:pt x="24265" y="6060"/>
                  <a:pt x="24199" y="6113"/>
                  <a:pt x="24135" y="6176"/>
                </a:cubicBezTo>
                <a:cubicBezTo>
                  <a:pt x="24234" y="6217"/>
                  <a:pt x="24322" y="6246"/>
                  <a:pt x="24408" y="6300"/>
                </a:cubicBezTo>
                <a:cubicBezTo>
                  <a:pt x="24384" y="6357"/>
                  <a:pt x="24256" y="6450"/>
                  <a:pt x="24284" y="6276"/>
                </a:cubicBezTo>
                <a:cubicBezTo>
                  <a:pt x="24301" y="6169"/>
                  <a:pt x="24368" y="6132"/>
                  <a:pt x="24408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72680" y="2795760"/>
            <a:ext cx="17280" cy="106200"/>
          </a:xfrm>
          <a:custGeom>
            <a:avLst/>
            <a:gdLst/>
            <a:ahLst/>
            <a:rect l="l" t="t" r="r" b="b"/>
            <a:pathLst>
              <a:path w="51" h="299">
                <a:moveTo>
                  <a:pt x="23812" y="7764"/>
                </a:moveTo>
                <a:cubicBezTo>
                  <a:pt x="23821" y="7867"/>
                  <a:pt x="23717" y="8103"/>
                  <a:pt x="23812" y="8062"/>
                </a:cubicBezTo>
                <a:cubicBezTo>
                  <a:pt x="23829" y="8045"/>
                  <a:pt x="23845" y="8029"/>
                  <a:pt x="23862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4240" y="2759040"/>
            <a:ext cx="11772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4160" y="7665"/>
                </a:moveTo>
                <a:cubicBezTo>
                  <a:pt x="24094" y="7708"/>
                  <a:pt x="24043" y="7757"/>
                  <a:pt x="23986" y="7813"/>
                </a:cubicBezTo>
                <a:cubicBezTo>
                  <a:pt x="24081" y="7861"/>
                  <a:pt x="24277" y="7880"/>
                  <a:pt x="24309" y="7987"/>
                </a:cubicBezTo>
                <a:cubicBezTo>
                  <a:pt x="24301" y="8004"/>
                  <a:pt x="24292" y="8020"/>
                  <a:pt x="24284" y="8037"/>
                </a:cubicBezTo>
                <a:cubicBezTo>
                  <a:pt x="24146" y="8022"/>
                  <a:pt x="24199" y="7959"/>
                  <a:pt x="24234" y="7838"/>
                </a:cubicBezTo>
                <a:cubicBezTo>
                  <a:pt x="24242" y="7805"/>
                  <a:pt x="24251" y="7772"/>
                  <a:pt x="2425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88200" y="2490840"/>
            <a:ext cx="795600" cy="590400"/>
          </a:xfrm>
          <a:custGeom>
            <a:avLst/>
            <a:gdLst/>
            <a:ahLst/>
            <a:rect l="l" t="t" r="r" b="b"/>
            <a:pathLst>
              <a:path w="2209" h="1638">
                <a:moveTo>
                  <a:pt x="23217" y="8558"/>
                </a:moveTo>
                <a:cubicBezTo>
                  <a:pt x="23340" y="8542"/>
                  <a:pt x="23465" y="8525"/>
                  <a:pt x="23589" y="8508"/>
                </a:cubicBezTo>
                <a:cubicBezTo>
                  <a:pt x="23841" y="8474"/>
                  <a:pt x="24088" y="8449"/>
                  <a:pt x="24333" y="8384"/>
                </a:cubicBezTo>
                <a:cubicBezTo>
                  <a:pt x="24500" y="8340"/>
                  <a:pt x="24687" y="8269"/>
                  <a:pt x="24805" y="8136"/>
                </a:cubicBezTo>
                <a:cubicBezTo>
                  <a:pt x="24892" y="8038"/>
                  <a:pt x="24940" y="7947"/>
                  <a:pt x="24954" y="7813"/>
                </a:cubicBezTo>
                <a:cubicBezTo>
                  <a:pt x="24968" y="7685"/>
                  <a:pt x="24926" y="7498"/>
                  <a:pt x="24854" y="7392"/>
                </a:cubicBezTo>
                <a:cubicBezTo>
                  <a:pt x="24799" y="7312"/>
                  <a:pt x="24717" y="7257"/>
                  <a:pt x="24631" y="7218"/>
                </a:cubicBezTo>
                <a:cubicBezTo>
                  <a:pt x="24539" y="7176"/>
                  <a:pt x="24451" y="7132"/>
                  <a:pt x="24358" y="7094"/>
                </a:cubicBezTo>
                <a:cubicBezTo>
                  <a:pt x="24203" y="7031"/>
                  <a:pt x="24047" y="7000"/>
                  <a:pt x="23887" y="6970"/>
                </a:cubicBezTo>
                <a:cubicBezTo>
                  <a:pt x="23733" y="6941"/>
                  <a:pt x="23573" y="6925"/>
                  <a:pt x="23416" y="6921"/>
                </a:cubicBezTo>
                <a:cubicBezTo>
                  <a:pt x="23295" y="6918"/>
                  <a:pt x="23182" y="6923"/>
                  <a:pt x="23068" y="6945"/>
                </a:cubicBezTo>
                <a:cubicBezTo>
                  <a:pt x="22957" y="6966"/>
                  <a:pt x="22857" y="6999"/>
                  <a:pt x="22796" y="7094"/>
                </a:cubicBezTo>
                <a:cubicBezTo>
                  <a:pt x="22722" y="7210"/>
                  <a:pt x="22746" y="7335"/>
                  <a:pt x="22746" y="7466"/>
                </a:cubicBezTo>
                <a:cubicBezTo>
                  <a:pt x="22746" y="7558"/>
                  <a:pt x="22739" y="7652"/>
                  <a:pt x="22771" y="7739"/>
                </a:cubicBezTo>
                <a:cubicBezTo>
                  <a:pt x="22813" y="7852"/>
                  <a:pt x="22874" y="7903"/>
                  <a:pt x="22944" y="7987"/>
                </a:cubicBezTo>
                <a:cubicBezTo>
                  <a:pt x="22996" y="8049"/>
                  <a:pt x="22990" y="8083"/>
                  <a:pt x="22994" y="8161"/>
                </a:cubicBezTo>
                <a:cubicBezTo>
                  <a:pt x="22999" y="8241"/>
                  <a:pt x="22944" y="8336"/>
                  <a:pt x="22969" y="8409"/>
                </a:cubicBezTo>
                <a:cubicBezTo>
                  <a:pt x="22988" y="8465"/>
                  <a:pt x="23052" y="8519"/>
                  <a:pt x="23118" y="8533"/>
                </a:cubicBezTo>
                <a:cubicBezTo>
                  <a:pt x="23218" y="8554"/>
                  <a:pt x="23337" y="8533"/>
                  <a:pt x="23440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8200" y="4714920"/>
            <a:ext cx="972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9496" y="13097"/>
                </a:moveTo>
                <a:cubicBezTo>
                  <a:pt x="19509" y="13210"/>
                  <a:pt x="19504" y="13304"/>
                  <a:pt x="19496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4402080"/>
            <a:ext cx="1616040" cy="500040"/>
          </a:xfrm>
          <a:custGeom>
            <a:avLst/>
            <a:gdLst/>
            <a:ahLst/>
            <a:rect l="l" t="t" r="r" b="b"/>
            <a:pathLst>
              <a:path w="4491" h="1390">
                <a:moveTo>
                  <a:pt x="18331" y="13370"/>
                </a:moveTo>
                <a:cubicBezTo>
                  <a:pt x="18436" y="13409"/>
                  <a:pt x="18659" y="13485"/>
                  <a:pt x="18802" y="13519"/>
                </a:cubicBezTo>
                <a:cubicBezTo>
                  <a:pt x="19020" y="13571"/>
                  <a:pt x="19267" y="13662"/>
                  <a:pt x="19496" y="13618"/>
                </a:cubicBezTo>
                <a:cubicBezTo>
                  <a:pt x="19667" y="13585"/>
                  <a:pt x="19807" y="13527"/>
                  <a:pt x="19769" y="13345"/>
                </a:cubicBezTo>
                <a:cubicBezTo>
                  <a:pt x="19748" y="13246"/>
                  <a:pt x="19565" y="13223"/>
                  <a:pt x="19496" y="13196"/>
                </a:cubicBezTo>
                <a:cubicBezTo>
                  <a:pt x="19364" y="13144"/>
                  <a:pt x="19215" y="13057"/>
                  <a:pt x="19075" y="12998"/>
                </a:cubicBezTo>
                <a:cubicBezTo>
                  <a:pt x="18892" y="12921"/>
                  <a:pt x="18691" y="12910"/>
                  <a:pt x="18504" y="12849"/>
                </a:cubicBezTo>
                <a:cubicBezTo>
                  <a:pt x="18333" y="12793"/>
                  <a:pt x="18195" y="12747"/>
                  <a:pt x="18033" y="12675"/>
                </a:cubicBezTo>
                <a:cubicBezTo>
                  <a:pt x="17867" y="12601"/>
                  <a:pt x="17664" y="12538"/>
                  <a:pt x="17487" y="12502"/>
                </a:cubicBezTo>
                <a:cubicBezTo>
                  <a:pt x="17303" y="12465"/>
                  <a:pt x="17125" y="12418"/>
                  <a:pt x="16942" y="12378"/>
                </a:cubicBezTo>
                <a:cubicBezTo>
                  <a:pt x="16819" y="12351"/>
                  <a:pt x="16691" y="12330"/>
                  <a:pt x="16570" y="12303"/>
                </a:cubicBezTo>
                <a:cubicBezTo>
                  <a:pt x="16512" y="12290"/>
                  <a:pt x="16483" y="12283"/>
                  <a:pt x="16421" y="12278"/>
                </a:cubicBezTo>
                <a:cubicBezTo>
                  <a:pt x="16240" y="12263"/>
                  <a:pt x="16055" y="12276"/>
                  <a:pt x="15875" y="12254"/>
                </a:cubicBezTo>
                <a:cubicBezTo>
                  <a:pt x="15765" y="12241"/>
                  <a:pt x="15638" y="12225"/>
                  <a:pt x="15528" y="12254"/>
                </a:cubicBezTo>
                <a:cubicBezTo>
                  <a:pt x="15416" y="12283"/>
                  <a:pt x="15376" y="12331"/>
                  <a:pt x="15304" y="12402"/>
                </a:cubicBezTo>
                <a:cubicBezTo>
                  <a:pt x="15418" y="12495"/>
                  <a:pt x="15468" y="12514"/>
                  <a:pt x="15627" y="12551"/>
                </a:cubicBezTo>
                <a:cubicBezTo>
                  <a:pt x="15772" y="12585"/>
                  <a:pt x="15912" y="12645"/>
                  <a:pt x="16049" y="12700"/>
                </a:cubicBezTo>
                <a:cubicBezTo>
                  <a:pt x="16153" y="12742"/>
                  <a:pt x="16301" y="12753"/>
                  <a:pt x="16396" y="12799"/>
                </a:cubicBezTo>
                <a:cubicBezTo>
                  <a:pt x="16421" y="12824"/>
                  <a:pt x="16429" y="12832"/>
                  <a:pt x="1644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26080" y="4187880"/>
            <a:ext cx="1778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5850" y="11633"/>
                </a:moveTo>
                <a:cubicBezTo>
                  <a:pt x="15928" y="11646"/>
                  <a:pt x="16095" y="11632"/>
                  <a:pt x="16123" y="11733"/>
                </a:cubicBezTo>
                <a:cubicBezTo>
                  <a:pt x="16183" y="11954"/>
                  <a:pt x="15728" y="11935"/>
                  <a:pt x="15627" y="11931"/>
                </a:cubicBezTo>
                <a:cubicBezTo>
                  <a:pt x="15726" y="11886"/>
                  <a:pt x="15816" y="11826"/>
                  <a:pt x="15925" y="11881"/>
                </a:cubicBezTo>
                <a:cubicBezTo>
                  <a:pt x="15947" y="11904"/>
                  <a:pt x="15952" y="11912"/>
                  <a:pt x="15974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97960" y="3670200"/>
            <a:ext cx="13320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4185" y="10368"/>
                </a:moveTo>
                <a:cubicBezTo>
                  <a:pt x="24118" y="10347"/>
                  <a:pt x="24254" y="10281"/>
                  <a:pt x="24284" y="10244"/>
                </a:cubicBezTo>
                <a:cubicBezTo>
                  <a:pt x="24364" y="10145"/>
                  <a:pt x="24455" y="10231"/>
                  <a:pt x="24408" y="10344"/>
                </a:cubicBezTo>
                <a:cubicBezTo>
                  <a:pt x="24406" y="10348"/>
                  <a:pt x="24276" y="10481"/>
                  <a:pt x="24333" y="10393"/>
                </a:cubicBezTo>
                <a:cubicBezTo>
                  <a:pt x="24416" y="10393"/>
                  <a:pt x="24453" y="10396"/>
                  <a:pt x="24532" y="10418"/>
                </a:cubicBezTo>
                <a:cubicBezTo>
                  <a:pt x="24498" y="10472"/>
                  <a:pt x="24422" y="10593"/>
                  <a:pt x="24333" y="10542"/>
                </a:cubicBezTo>
                <a:cubicBezTo>
                  <a:pt x="24333" y="10534"/>
                  <a:pt x="24333" y="10525"/>
                  <a:pt x="24333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77160" y="416088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24383" y="11633"/>
                </a:moveTo>
                <a:cubicBezTo>
                  <a:pt x="24477" y="11618"/>
                  <a:pt x="24564" y="11576"/>
                  <a:pt x="24656" y="11559"/>
                </a:cubicBezTo>
                <a:cubicBezTo>
                  <a:pt x="24674" y="11735"/>
                  <a:pt x="24535" y="11835"/>
                  <a:pt x="24408" y="11956"/>
                </a:cubicBezTo>
                <a:cubicBezTo>
                  <a:pt x="24400" y="11964"/>
                  <a:pt x="24391" y="11973"/>
                  <a:pt x="24383" y="11981"/>
                </a:cubicBezTo>
                <a:cubicBezTo>
                  <a:pt x="24521" y="11964"/>
                  <a:pt x="24570" y="11916"/>
                  <a:pt x="24681" y="11857"/>
                </a:cubicBezTo>
                <a:cubicBezTo>
                  <a:pt x="24705" y="11857"/>
                  <a:pt x="24714" y="11857"/>
                  <a:pt x="24730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2280" y="3490920"/>
            <a:ext cx="63720" cy="14436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22423" y="9773"/>
                </a:moveTo>
                <a:cubicBezTo>
                  <a:pt x="22423" y="9748"/>
                  <a:pt x="22423" y="9724"/>
                  <a:pt x="22423" y="9699"/>
                </a:cubicBezTo>
                <a:cubicBezTo>
                  <a:pt x="22471" y="9778"/>
                  <a:pt x="22509" y="9901"/>
                  <a:pt x="22547" y="9996"/>
                </a:cubicBezTo>
                <a:cubicBezTo>
                  <a:pt x="22567" y="10057"/>
                  <a:pt x="22565" y="10072"/>
                  <a:pt x="22597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9000" y="4919760"/>
            <a:ext cx="3492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22523" y="13667"/>
                </a:moveTo>
                <a:cubicBezTo>
                  <a:pt x="22556" y="13667"/>
                  <a:pt x="22589" y="13667"/>
                  <a:pt x="2262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12120" y="4697280"/>
            <a:ext cx="160560" cy="32076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23366" y="13146"/>
                </a:moveTo>
                <a:cubicBezTo>
                  <a:pt x="23462" y="13087"/>
                  <a:pt x="23611" y="12980"/>
                  <a:pt x="23688" y="13122"/>
                </a:cubicBezTo>
                <a:cubicBezTo>
                  <a:pt x="23763" y="13259"/>
                  <a:pt x="23630" y="13427"/>
                  <a:pt x="23515" y="13494"/>
                </a:cubicBezTo>
                <a:cubicBezTo>
                  <a:pt x="23507" y="13494"/>
                  <a:pt x="23498" y="13494"/>
                  <a:pt x="23490" y="13494"/>
                </a:cubicBezTo>
                <a:cubicBezTo>
                  <a:pt x="23608" y="13464"/>
                  <a:pt x="23806" y="13369"/>
                  <a:pt x="23812" y="13593"/>
                </a:cubicBezTo>
                <a:cubicBezTo>
                  <a:pt x="23816" y="13745"/>
                  <a:pt x="23581" y="13931"/>
                  <a:pt x="23440" y="13940"/>
                </a:cubicBezTo>
                <a:cubicBezTo>
                  <a:pt x="23440" y="13932"/>
                  <a:pt x="23440" y="13923"/>
                  <a:pt x="23440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53320" y="467028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24036" y="13022"/>
                </a:moveTo>
                <a:cubicBezTo>
                  <a:pt x="24077" y="13008"/>
                  <a:pt x="24119" y="12987"/>
                  <a:pt x="24160" y="12973"/>
                </a:cubicBezTo>
                <a:cubicBezTo>
                  <a:pt x="24176" y="13074"/>
                  <a:pt x="24154" y="13125"/>
                  <a:pt x="24135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4240" y="480384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23986" y="13419"/>
                </a:moveTo>
                <a:cubicBezTo>
                  <a:pt x="24121" y="13407"/>
                  <a:pt x="24250" y="13369"/>
                  <a:pt x="24383" y="13345"/>
                </a:cubicBezTo>
                <a:cubicBezTo>
                  <a:pt x="24391" y="13345"/>
                  <a:pt x="24400" y="13345"/>
                  <a:pt x="24408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37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47920" y="3124080"/>
                <a:ext cx="885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2971800"/>
                <a:ext cx="1328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367000" y="3562200"/>
            <a:ext cx="5018040" cy="196920"/>
          </a:xfrm>
          <a:custGeom>
            <a:avLst/>
            <a:gdLst/>
            <a:ahLst/>
            <a:rect l="l" t="t" r="r" b="b"/>
            <a:pathLst>
              <a:path w="13941" h="547">
                <a:moveTo>
                  <a:pt x="6598" y="9971"/>
                </a:moveTo>
                <a:cubicBezTo>
                  <a:pt x="6667" y="9926"/>
                  <a:pt x="6737" y="9909"/>
                  <a:pt x="6821" y="9897"/>
                </a:cubicBezTo>
              </a:path>
              <a:path w="13941" h="547">
                <a:moveTo>
                  <a:pt x="6573" y="10170"/>
                </a:moveTo>
                <a:cubicBezTo>
                  <a:pt x="6724" y="10145"/>
                  <a:pt x="6775" y="10136"/>
                  <a:pt x="6871" y="10096"/>
                </a:cubicBezTo>
              </a:path>
              <a:path w="13941" h="547">
                <a:moveTo>
                  <a:pt x="6871" y="10096"/>
                </a:moveTo>
                <a:lnTo>
                  <a:pt x="6871" y="10096"/>
                </a:lnTo>
              </a:path>
              <a:path w="13941" h="547">
                <a:moveTo>
                  <a:pt x="8111" y="10344"/>
                </a:moveTo>
                <a:cubicBezTo>
                  <a:pt x="8119" y="10336"/>
                  <a:pt x="8128" y="10327"/>
                  <a:pt x="8136" y="10319"/>
                </a:cubicBezTo>
              </a:path>
              <a:path w="13941" h="547">
                <a:moveTo>
                  <a:pt x="8086" y="10220"/>
                </a:moveTo>
                <a:lnTo>
                  <a:pt x="8086" y="10220"/>
                </a:lnTo>
                <a:lnTo>
                  <a:pt x="8086" y="10220"/>
                </a:lnTo>
              </a:path>
              <a:path w="13941" h="547">
                <a:moveTo>
                  <a:pt x="8086" y="10220"/>
                </a:moveTo>
                <a:lnTo>
                  <a:pt x="8086" y="10220"/>
                </a:lnTo>
              </a:path>
              <a:path w="13941" h="547">
                <a:moveTo>
                  <a:pt x="8111" y="10418"/>
                </a:moveTo>
                <a:lnTo>
                  <a:pt x="8111" y="10418"/>
                </a:lnTo>
              </a:path>
              <a:path w="13941" h="547">
                <a:moveTo>
                  <a:pt x="20141" y="10220"/>
                </a:moveTo>
                <a:cubicBezTo>
                  <a:pt x="20248" y="10197"/>
                  <a:pt x="20316" y="10175"/>
                  <a:pt x="20414" y="10195"/>
                </a:cubicBezTo>
              </a:path>
              <a:path w="13941" h="547">
                <a:moveTo>
                  <a:pt x="20191" y="10443"/>
                </a:moveTo>
                <a:cubicBezTo>
                  <a:pt x="20299" y="10410"/>
                  <a:pt x="20408" y="10382"/>
                  <a:pt x="20513" y="10344"/>
                </a:cubicBezTo>
              </a:path>
              <a:path w="13941" h="547">
                <a:moveTo>
                  <a:pt x="20513" y="10344"/>
                </a:moveTo>
                <a:lnTo>
                  <a:pt x="20513" y="103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9000" y="3106800"/>
            <a:ext cx="187200" cy="903240"/>
          </a:xfrm>
          <a:custGeom>
            <a:avLst/>
            <a:gdLst/>
            <a:ahLst/>
            <a:rect l="l" t="t" r="r" b="b"/>
            <a:pathLst>
              <a:path w="522" h="2506">
                <a:moveTo>
                  <a:pt x="19372" y="10815"/>
                </a:moveTo>
                <a:cubicBezTo>
                  <a:pt x="19400" y="10787"/>
                  <a:pt x="19414" y="10778"/>
                  <a:pt x="19447" y="10790"/>
                </a:cubicBezTo>
                <a:cubicBezTo>
                  <a:pt x="19486" y="10946"/>
                  <a:pt x="19380" y="11022"/>
                  <a:pt x="19273" y="11137"/>
                </a:cubicBezTo>
                <a:cubicBezTo>
                  <a:pt x="19399" y="11137"/>
                  <a:pt x="19522" y="11108"/>
                  <a:pt x="19645" y="11088"/>
                </a:cubicBezTo>
                <a:cubicBezTo>
                  <a:pt x="19637" y="11088"/>
                  <a:pt x="19629" y="11088"/>
                  <a:pt x="19621" y="11088"/>
                </a:cubicBezTo>
              </a:path>
              <a:path w="522" h="2506">
                <a:moveTo>
                  <a:pt x="19447" y="8756"/>
                </a:moveTo>
                <a:cubicBezTo>
                  <a:pt x="19561" y="8675"/>
                  <a:pt x="19659" y="8648"/>
                  <a:pt x="19794" y="8632"/>
                </a:cubicBezTo>
                <a:cubicBezTo>
                  <a:pt x="19755" y="8868"/>
                  <a:pt x="19622" y="8915"/>
                  <a:pt x="19496" y="9103"/>
                </a:cubicBezTo>
                <a:cubicBezTo>
                  <a:pt x="19451" y="9170"/>
                  <a:pt x="19641" y="9045"/>
                  <a:pt x="19720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2786040"/>
            <a:ext cx="277560" cy="2009880"/>
          </a:xfrm>
          <a:custGeom>
            <a:avLst/>
            <a:gdLst/>
            <a:ahLst/>
            <a:rect l="l" t="t" r="r" b="b"/>
            <a:pathLst>
              <a:path w="770" h="5582">
                <a:moveTo>
                  <a:pt x="19397" y="13320"/>
                </a:moveTo>
                <a:lnTo>
                  <a:pt x="19397" y="13320"/>
                </a:lnTo>
                <a:lnTo>
                  <a:pt x="19397" y="13320"/>
                </a:lnTo>
              </a:path>
              <a:path w="770" h="5582">
                <a:moveTo>
                  <a:pt x="19025" y="11187"/>
                </a:moveTo>
                <a:lnTo>
                  <a:pt x="19025" y="11187"/>
                </a:lnTo>
              </a:path>
              <a:path w="770" h="5582">
                <a:moveTo>
                  <a:pt x="19100" y="8905"/>
                </a:moveTo>
                <a:cubicBezTo>
                  <a:pt x="19043" y="8994"/>
                  <a:pt x="18994" y="9073"/>
                  <a:pt x="18926" y="9153"/>
                </a:cubicBezTo>
              </a:path>
              <a:path w="770" h="5582">
                <a:moveTo>
                  <a:pt x="18628" y="7739"/>
                </a:moveTo>
                <a:cubicBezTo>
                  <a:pt x="18636" y="7739"/>
                  <a:pt x="18645" y="7739"/>
                  <a:pt x="18653" y="7739"/>
                </a:cubicBezTo>
              </a:path>
              <a:path w="770" h="5582">
                <a:moveTo>
                  <a:pt x="18653" y="7764"/>
                </a:moveTo>
                <a:lnTo>
                  <a:pt x="18653" y="77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19880" y="2830680"/>
            <a:ext cx="814320" cy="563400"/>
          </a:xfrm>
          <a:custGeom>
            <a:avLst/>
            <a:gdLst/>
            <a:ahLst/>
            <a:rect l="l" t="t" r="r" b="b"/>
            <a:pathLst>
              <a:path w="2258" h="1564">
                <a:moveTo>
                  <a:pt x="18976" y="8954"/>
                </a:moveTo>
                <a:cubicBezTo>
                  <a:pt x="18968" y="8946"/>
                  <a:pt x="18959" y="8938"/>
                  <a:pt x="18951" y="8930"/>
                </a:cubicBezTo>
                <a:cubicBezTo>
                  <a:pt x="18982" y="8992"/>
                  <a:pt x="19068" y="9036"/>
                  <a:pt x="19100" y="9079"/>
                </a:cubicBezTo>
                <a:cubicBezTo>
                  <a:pt x="19100" y="9087"/>
                  <a:pt x="19100" y="9095"/>
                  <a:pt x="19100" y="9103"/>
                </a:cubicBezTo>
              </a:path>
              <a:path w="2258" h="1564">
                <a:moveTo>
                  <a:pt x="18604" y="7863"/>
                </a:moveTo>
                <a:cubicBezTo>
                  <a:pt x="18567" y="8006"/>
                  <a:pt x="18531" y="8098"/>
                  <a:pt x="18554" y="8235"/>
                </a:cubicBezTo>
                <a:cubicBezTo>
                  <a:pt x="18723" y="8250"/>
                  <a:pt x="18865" y="8270"/>
                  <a:pt x="19025" y="8186"/>
                </a:cubicBezTo>
                <a:cubicBezTo>
                  <a:pt x="19124" y="8134"/>
                  <a:pt x="19146" y="8085"/>
                  <a:pt x="19174" y="7987"/>
                </a:cubicBezTo>
                <a:cubicBezTo>
                  <a:pt x="19077" y="7938"/>
                  <a:pt x="18977" y="7941"/>
                  <a:pt x="18901" y="8037"/>
                </a:cubicBezTo>
                <a:cubicBezTo>
                  <a:pt x="18838" y="8117"/>
                  <a:pt x="18801" y="8251"/>
                  <a:pt x="18852" y="8334"/>
                </a:cubicBezTo>
              </a:path>
              <a:path w="2258" h="1564">
                <a:moveTo>
                  <a:pt x="17835" y="9426"/>
                </a:moveTo>
                <a:cubicBezTo>
                  <a:pt x="18176" y="9304"/>
                  <a:pt x="18531" y="9094"/>
                  <a:pt x="18876" y="8954"/>
                </a:cubicBezTo>
                <a:cubicBezTo>
                  <a:pt x="19261" y="8798"/>
                  <a:pt x="19719" y="8651"/>
                  <a:pt x="20092" y="8558"/>
                </a:cubicBezTo>
                <a:cubicBezTo>
                  <a:pt x="19976" y="8674"/>
                  <a:pt x="19927" y="8723"/>
                  <a:pt x="1984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3880" y="3919680"/>
            <a:ext cx="544320" cy="617400"/>
          </a:xfrm>
          <a:custGeom>
            <a:avLst/>
            <a:gdLst/>
            <a:ahLst/>
            <a:rect l="l" t="t" r="r" b="b"/>
            <a:pathLst>
              <a:path w="1514" h="1713">
                <a:moveTo>
                  <a:pt x="18976" y="10988"/>
                </a:moveTo>
                <a:cubicBezTo>
                  <a:pt x="19007" y="11032"/>
                  <a:pt x="19041" y="11159"/>
                  <a:pt x="19075" y="11187"/>
                </a:cubicBezTo>
                <a:cubicBezTo>
                  <a:pt x="19083" y="11187"/>
                  <a:pt x="19092" y="11187"/>
                  <a:pt x="19100" y="11187"/>
                </a:cubicBezTo>
              </a:path>
              <a:path w="1514" h="1713">
                <a:moveTo>
                  <a:pt x="19174" y="10914"/>
                </a:moveTo>
                <a:cubicBezTo>
                  <a:pt x="19145" y="10968"/>
                  <a:pt x="18981" y="11231"/>
                  <a:pt x="19025" y="11187"/>
                </a:cubicBezTo>
              </a:path>
              <a:path w="1514" h="1713">
                <a:moveTo>
                  <a:pt x="18083" y="11708"/>
                </a:moveTo>
                <a:cubicBezTo>
                  <a:pt x="18295" y="11654"/>
                  <a:pt x="18591" y="11377"/>
                  <a:pt x="18777" y="11261"/>
                </a:cubicBezTo>
                <a:cubicBezTo>
                  <a:pt x="18875" y="11200"/>
                  <a:pt x="19464" y="10907"/>
                  <a:pt x="19447" y="10889"/>
                </a:cubicBezTo>
              </a:path>
              <a:path w="1514" h="1713">
                <a:moveTo>
                  <a:pt x="18479" y="12030"/>
                </a:moveTo>
                <a:cubicBezTo>
                  <a:pt x="18346" y="11962"/>
                  <a:pt x="18164" y="12086"/>
                  <a:pt x="18058" y="12179"/>
                </a:cubicBezTo>
                <a:cubicBezTo>
                  <a:pt x="18033" y="12212"/>
                  <a:pt x="18008" y="12245"/>
                  <a:pt x="17983" y="12278"/>
                </a:cubicBezTo>
                <a:cubicBezTo>
                  <a:pt x="18177" y="12343"/>
                  <a:pt x="18330" y="12363"/>
                  <a:pt x="18479" y="12477"/>
                </a:cubicBezTo>
                <a:cubicBezTo>
                  <a:pt x="18403" y="12529"/>
                  <a:pt x="17941" y="12737"/>
                  <a:pt x="18132" y="12452"/>
                </a:cubicBezTo>
                <a:cubicBezTo>
                  <a:pt x="18228" y="12310"/>
                  <a:pt x="18322" y="12291"/>
                  <a:pt x="18380" y="12129"/>
                </a:cubicBezTo>
                <a:cubicBezTo>
                  <a:pt x="18397" y="12104"/>
                  <a:pt x="18413" y="12080"/>
                  <a:pt x="18430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36920" y="3133800"/>
            <a:ext cx="1392120" cy="671400"/>
          </a:xfrm>
          <a:custGeom>
            <a:avLst/>
            <a:gdLst/>
            <a:ahLst/>
            <a:rect l="l" t="t" r="r" b="b"/>
            <a:pathLst>
              <a:path w="3870" h="1862">
                <a:moveTo>
                  <a:pt x="7169" y="9426"/>
                </a:moveTo>
                <a:cubicBezTo>
                  <a:pt x="7169" y="9484"/>
                  <a:pt x="7169" y="9541"/>
                  <a:pt x="7169" y="9599"/>
                </a:cubicBezTo>
                <a:cubicBezTo>
                  <a:pt x="7328" y="9590"/>
                  <a:pt x="7451" y="9578"/>
                  <a:pt x="7565" y="9475"/>
                </a:cubicBezTo>
              </a:path>
              <a:path w="3870" h="1862">
                <a:moveTo>
                  <a:pt x="7541" y="9203"/>
                </a:moveTo>
                <a:cubicBezTo>
                  <a:pt x="7584" y="9413"/>
                  <a:pt x="7590" y="9609"/>
                  <a:pt x="7590" y="9823"/>
                </a:cubicBezTo>
                <a:cubicBezTo>
                  <a:pt x="7590" y="9839"/>
                  <a:pt x="7590" y="9856"/>
                  <a:pt x="7590" y="9872"/>
                </a:cubicBezTo>
              </a:path>
              <a:path w="3870" h="1862">
                <a:moveTo>
                  <a:pt x="7045" y="9971"/>
                </a:moveTo>
                <a:cubicBezTo>
                  <a:pt x="7274" y="9927"/>
                  <a:pt x="7870" y="9684"/>
                  <a:pt x="8086" y="9773"/>
                </a:cubicBezTo>
                <a:cubicBezTo>
                  <a:pt x="8078" y="9798"/>
                  <a:pt x="8070" y="9822"/>
                  <a:pt x="8062" y="9847"/>
                </a:cubicBezTo>
              </a:path>
              <a:path w="3870" h="1862">
                <a:moveTo>
                  <a:pt x="7392" y="10220"/>
                </a:moveTo>
                <a:cubicBezTo>
                  <a:pt x="7338" y="10314"/>
                  <a:pt x="7320" y="10433"/>
                  <a:pt x="7293" y="10542"/>
                </a:cubicBezTo>
                <a:cubicBezTo>
                  <a:pt x="7500" y="10612"/>
                  <a:pt x="7592" y="10529"/>
                  <a:pt x="7739" y="10393"/>
                </a:cubicBezTo>
                <a:cubicBezTo>
                  <a:pt x="7756" y="10377"/>
                  <a:pt x="7772" y="10360"/>
                  <a:pt x="7789" y="10344"/>
                </a:cubicBezTo>
                <a:cubicBezTo>
                  <a:pt x="7627" y="10311"/>
                  <a:pt x="7554" y="10379"/>
                  <a:pt x="7441" y="10492"/>
                </a:cubicBezTo>
                <a:cubicBezTo>
                  <a:pt x="7395" y="10538"/>
                  <a:pt x="7375" y="10553"/>
                  <a:pt x="7441" y="10567"/>
                </a:cubicBezTo>
              </a:path>
              <a:path w="3870" h="1862">
                <a:moveTo>
                  <a:pt x="8062" y="9525"/>
                </a:moveTo>
                <a:cubicBezTo>
                  <a:pt x="8148" y="9496"/>
                  <a:pt x="8145" y="9475"/>
                  <a:pt x="8210" y="9475"/>
                </a:cubicBezTo>
              </a:path>
              <a:path w="3870" h="1862">
                <a:moveTo>
                  <a:pt x="8359" y="9327"/>
                </a:moveTo>
                <a:cubicBezTo>
                  <a:pt x="8377" y="9290"/>
                  <a:pt x="8388" y="9286"/>
                  <a:pt x="8434" y="9277"/>
                </a:cubicBezTo>
                <a:cubicBezTo>
                  <a:pt x="8418" y="9407"/>
                  <a:pt x="8394" y="9451"/>
                  <a:pt x="8310" y="9550"/>
                </a:cubicBezTo>
                <a:cubicBezTo>
                  <a:pt x="8388" y="9577"/>
                  <a:pt x="8445" y="9525"/>
                  <a:pt x="8533" y="9500"/>
                </a:cubicBezTo>
              </a:path>
              <a:path w="3870" h="1862">
                <a:moveTo>
                  <a:pt x="8334" y="10244"/>
                </a:moveTo>
                <a:cubicBezTo>
                  <a:pt x="8397" y="10213"/>
                  <a:pt x="8460" y="10202"/>
                  <a:pt x="8533" y="10195"/>
                </a:cubicBezTo>
                <a:cubicBezTo>
                  <a:pt x="8517" y="10291"/>
                  <a:pt x="8473" y="10343"/>
                  <a:pt x="8409" y="10418"/>
                </a:cubicBezTo>
                <a:cubicBezTo>
                  <a:pt x="8535" y="10418"/>
                  <a:pt x="8624" y="10350"/>
                  <a:pt x="8731" y="10294"/>
                </a:cubicBezTo>
              </a:path>
              <a:path w="3870" h="1862">
                <a:moveTo>
                  <a:pt x="9624" y="9277"/>
                </a:moveTo>
                <a:cubicBezTo>
                  <a:pt x="9750" y="9210"/>
                  <a:pt x="9830" y="9191"/>
                  <a:pt x="9971" y="9178"/>
                </a:cubicBezTo>
                <a:cubicBezTo>
                  <a:pt x="9951" y="9343"/>
                  <a:pt x="9887" y="9387"/>
                  <a:pt x="9773" y="9500"/>
                </a:cubicBezTo>
                <a:cubicBezTo>
                  <a:pt x="9867" y="9500"/>
                  <a:pt x="9982" y="9493"/>
                  <a:pt x="10071" y="9475"/>
                </a:cubicBezTo>
                <a:cubicBezTo>
                  <a:pt x="10114" y="9454"/>
                  <a:pt x="10126" y="9441"/>
                  <a:pt x="10145" y="9475"/>
                </a:cubicBezTo>
              </a:path>
              <a:path w="3870" h="1862">
                <a:moveTo>
                  <a:pt x="9723" y="9624"/>
                </a:moveTo>
                <a:cubicBezTo>
                  <a:pt x="9887" y="9599"/>
                  <a:pt x="10129" y="9522"/>
                  <a:pt x="10294" y="9575"/>
                </a:cubicBezTo>
                <a:cubicBezTo>
                  <a:pt x="10294" y="9583"/>
                  <a:pt x="10294" y="9591"/>
                  <a:pt x="10294" y="9599"/>
                </a:cubicBezTo>
              </a:path>
              <a:path w="3870" h="1862">
                <a:moveTo>
                  <a:pt x="9922" y="9872"/>
                </a:moveTo>
                <a:cubicBezTo>
                  <a:pt x="10032" y="9860"/>
                  <a:pt x="10074" y="9826"/>
                  <a:pt x="10145" y="9897"/>
                </a:cubicBezTo>
                <a:cubicBezTo>
                  <a:pt x="10102" y="9983"/>
                  <a:pt x="10077" y="10017"/>
                  <a:pt x="9996" y="10071"/>
                </a:cubicBezTo>
                <a:cubicBezTo>
                  <a:pt x="10050" y="10071"/>
                  <a:pt x="10221" y="10039"/>
                  <a:pt x="10244" y="10096"/>
                </a:cubicBezTo>
                <a:cubicBezTo>
                  <a:pt x="10331" y="10315"/>
                  <a:pt x="9853" y="10297"/>
                  <a:pt x="9773" y="10294"/>
                </a:cubicBezTo>
              </a:path>
              <a:path w="3870" h="1862">
                <a:moveTo>
                  <a:pt x="9401" y="10220"/>
                </a:moveTo>
                <a:cubicBezTo>
                  <a:pt x="9497" y="10372"/>
                  <a:pt x="9590" y="10552"/>
                  <a:pt x="9798" y="10567"/>
                </a:cubicBezTo>
                <a:cubicBezTo>
                  <a:pt x="10084" y="10587"/>
                  <a:pt x="10370" y="10396"/>
                  <a:pt x="10592" y="10244"/>
                </a:cubicBezTo>
                <a:cubicBezTo>
                  <a:pt x="10864" y="10058"/>
                  <a:pt x="10905" y="9865"/>
                  <a:pt x="10914" y="9550"/>
                </a:cubicBezTo>
                <a:cubicBezTo>
                  <a:pt x="10921" y="9287"/>
                  <a:pt x="10902" y="9106"/>
                  <a:pt x="10691" y="8930"/>
                </a:cubicBezTo>
                <a:cubicBezTo>
                  <a:pt x="10560" y="8820"/>
                  <a:pt x="10321" y="8706"/>
                  <a:pt x="10145" y="8706"/>
                </a:cubicBezTo>
                <a:cubicBezTo>
                  <a:pt x="9929" y="8706"/>
                  <a:pt x="9686" y="8783"/>
                  <a:pt x="9525" y="8930"/>
                </a:cubicBezTo>
                <a:cubicBezTo>
                  <a:pt x="9364" y="9077"/>
                  <a:pt x="9312" y="9264"/>
                  <a:pt x="9327" y="9475"/>
                </a:cubicBezTo>
                <a:cubicBezTo>
                  <a:pt x="9339" y="9645"/>
                  <a:pt x="9397" y="9800"/>
                  <a:pt x="9401" y="9971"/>
                </a:cubicBezTo>
                <a:cubicBezTo>
                  <a:pt x="9404" y="10095"/>
                  <a:pt x="9426" y="10224"/>
                  <a:pt x="9451" y="10344"/>
                </a:cubicBezTo>
                <a:cubicBezTo>
                  <a:pt x="9472" y="10409"/>
                  <a:pt x="9480" y="10425"/>
                  <a:pt x="9475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9240" y="3348000"/>
            <a:ext cx="28800" cy="81000"/>
          </a:xfrm>
          <a:custGeom>
            <a:avLst/>
            <a:gdLst/>
            <a:ahLst/>
            <a:rect l="l" t="t" r="r" b="b"/>
            <a:pathLst>
              <a:path w="76" h="224">
                <a:moveTo>
                  <a:pt x="8111" y="9302"/>
                </a:moveTo>
                <a:lnTo>
                  <a:pt x="8111" y="9302"/>
                </a:lnTo>
                <a:lnTo>
                  <a:pt x="8111" y="9302"/>
                </a:lnTo>
              </a:path>
              <a:path w="76" h="224">
                <a:moveTo>
                  <a:pt x="8111" y="9302"/>
                </a:moveTo>
                <a:lnTo>
                  <a:pt x="8111" y="9302"/>
                </a:lnTo>
              </a:path>
              <a:path w="76" h="224">
                <a:moveTo>
                  <a:pt x="8186" y="9525"/>
                </a:moveTo>
                <a:lnTo>
                  <a:pt x="8186" y="95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97160" y="3456000"/>
            <a:ext cx="509760" cy="81000"/>
          </a:xfrm>
          <a:custGeom>
            <a:avLst/>
            <a:gdLst/>
            <a:ahLst/>
            <a:rect l="l" t="t" r="r" b="b"/>
            <a:pathLst>
              <a:path w="1415" h="225">
                <a:moveTo>
                  <a:pt x="9029" y="9599"/>
                </a:moveTo>
                <a:cubicBezTo>
                  <a:pt x="9046" y="9599"/>
                  <a:pt x="9062" y="9599"/>
                  <a:pt x="9079" y="9599"/>
                </a:cubicBezTo>
              </a:path>
              <a:path w="1415" h="225">
                <a:moveTo>
                  <a:pt x="8880" y="9823"/>
                </a:moveTo>
                <a:cubicBezTo>
                  <a:pt x="8983" y="9823"/>
                  <a:pt x="9020" y="9821"/>
                  <a:pt x="9079" y="9773"/>
                </a:cubicBezTo>
              </a:path>
              <a:path w="1415" h="225">
                <a:moveTo>
                  <a:pt x="9079" y="9773"/>
                </a:moveTo>
                <a:lnTo>
                  <a:pt x="9079" y="9773"/>
                </a:lnTo>
              </a:path>
              <a:path w="1415" h="225">
                <a:moveTo>
                  <a:pt x="10294" y="9599"/>
                </a:moveTo>
                <a:lnTo>
                  <a:pt x="10294" y="95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327672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2299" y="9103"/>
                </a:moveTo>
                <a:lnTo>
                  <a:pt x="22299" y="9103"/>
                </a:lnTo>
              </a:path>
              <a:path w="26" h="26">
                <a:moveTo>
                  <a:pt x="22299" y="9103"/>
                </a:moveTo>
                <a:lnTo>
                  <a:pt x="22299" y="9103"/>
                </a:lnTo>
              </a:path>
              <a:path w="26" h="26">
                <a:moveTo>
                  <a:pt x="22299" y="9128"/>
                </a:moveTo>
                <a:cubicBezTo>
                  <a:pt x="22307" y="9128"/>
                  <a:pt x="22316" y="9128"/>
                  <a:pt x="22324" y="9128"/>
                </a:cubicBez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7080" y="3009960"/>
            <a:ext cx="635040" cy="973080"/>
          </a:xfrm>
          <a:custGeom>
            <a:avLst/>
            <a:gdLst/>
            <a:ahLst/>
            <a:rect l="l" t="t" r="r" b="b"/>
            <a:pathLst>
              <a:path w="1762" h="2705">
                <a:moveTo>
                  <a:pt x="22324" y="9128"/>
                </a:moveTo>
                <a:cubicBezTo>
                  <a:pt x="22299" y="9128"/>
                  <a:pt x="22291" y="9128"/>
                  <a:pt x="22324" y="9128"/>
                </a:cubicBezTo>
              </a:path>
              <a:path w="1762" h="2705">
                <a:moveTo>
                  <a:pt x="22324" y="9203"/>
                </a:moveTo>
                <a:cubicBezTo>
                  <a:pt x="22324" y="9178"/>
                  <a:pt x="22324" y="9170"/>
                  <a:pt x="22324" y="9153"/>
                </a:cubicBezTo>
                <a:cubicBezTo>
                  <a:pt x="22324" y="9110"/>
                  <a:pt x="22372" y="9444"/>
                  <a:pt x="22374" y="9475"/>
                </a:cubicBezTo>
                <a:cubicBezTo>
                  <a:pt x="22385" y="9618"/>
                  <a:pt x="22369" y="9567"/>
                  <a:pt x="22349" y="9649"/>
                </a:cubicBezTo>
              </a:path>
              <a:path w="1762" h="2705">
                <a:moveTo>
                  <a:pt x="21853" y="9971"/>
                </a:moveTo>
                <a:cubicBezTo>
                  <a:pt x="22104" y="9876"/>
                  <a:pt x="22356" y="9875"/>
                  <a:pt x="22622" y="9847"/>
                </a:cubicBezTo>
                <a:cubicBezTo>
                  <a:pt x="22771" y="9829"/>
                  <a:pt x="22787" y="9821"/>
                  <a:pt x="22870" y="9823"/>
                </a:cubicBezTo>
              </a:path>
              <a:path w="1762" h="2705">
                <a:moveTo>
                  <a:pt x="22399" y="10170"/>
                </a:moveTo>
                <a:cubicBezTo>
                  <a:pt x="22243" y="10197"/>
                  <a:pt x="22152" y="10240"/>
                  <a:pt x="22051" y="10368"/>
                </a:cubicBezTo>
                <a:cubicBezTo>
                  <a:pt x="22139" y="10399"/>
                  <a:pt x="22547" y="10418"/>
                  <a:pt x="22423" y="10567"/>
                </a:cubicBezTo>
                <a:cubicBezTo>
                  <a:pt x="22301" y="10714"/>
                  <a:pt x="22194" y="10566"/>
                  <a:pt x="22126" y="10492"/>
                </a:cubicBezTo>
                <a:cubicBezTo>
                  <a:pt x="22164" y="10424"/>
                  <a:pt x="22214" y="10289"/>
                  <a:pt x="22275" y="10269"/>
                </a:cubicBezTo>
              </a:path>
              <a:path w="1762" h="2705">
                <a:moveTo>
                  <a:pt x="21605" y="9773"/>
                </a:moveTo>
                <a:cubicBezTo>
                  <a:pt x="21605" y="10036"/>
                  <a:pt x="21569" y="10316"/>
                  <a:pt x="21654" y="10567"/>
                </a:cubicBezTo>
                <a:cubicBezTo>
                  <a:pt x="21704" y="10714"/>
                  <a:pt x="21801" y="10941"/>
                  <a:pt x="21952" y="11013"/>
                </a:cubicBezTo>
                <a:cubicBezTo>
                  <a:pt x="22144" y="11104"/>
                  <a:pt x="22380" y="11064"/>
                  <a:pt x="22572" y="10988"/>
                </a:cubicBezTo>
                <a:cubicBezTo>
                  <a:pt x="22856" y="10875"/>
                  <a:pt x="23035" y="10709"/>
                  <a:pt x="23217" y="10468"/>
                </a:cubicBezTo>
                <a:cubicBezTo>
                  <a:pt x="23410" y="10212"/>
                  <a:pt x="23352" y="9998"/>
                  <a:pt x="23341" y="9699"/>
                </a:cubicBezTo>
                <a:cubicBezTo>
                  <a:pt x="23329" y="9347"/>
                  <a:pt x="23325" y="9067"/>
                  <a:pt x="23192" y="8731"/>
                </a:cubicBezTo>
                <a:cubicBezTo>
                  <a:pt x="23089" y="8471"/>
                  <a:pt x="22886" y="8370"/>
                  <a:pt x="22622" y="8359"/>
                </a:cubicBezTo>
                <a:cubicBezTo>
                  <a:pt x="22395" y="8349"/>
                  <a:pt x="22206" y="8467"/>
                  <a:pt x="22051" y="8632"/>
                </a:cubicBezTo>
                <a:cubicBezTo>
                  <a:pt x="21839" y="8856"/>
                  <a:pt x="21772" y="9178"/>
                  <a:pt x="21754" y="9475"/>
                </a:cubicBezTo>
                <a:cubicBezTo>
                  <a:pt x="21743" y="9649"/>
                  <a:pt x="21761" y="9723"/>
                  <a:pt x="21779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3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26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You have two different batteries to power your go-cart.  The first battery will allow you to ride for two fifths miles and the second battery will last for one eighth miles.  How far can you ride using both batteri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rite it using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80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505" y="12898"/>
                </a:moveTo>
                <a:lnTo>
                  <a:pt x="2505" y="128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6120" y="4367160"/>
            <a:ext cx="714600" cy="1204920"/>
          </a:xfrm>
          <a:custGeom>
            <a:avLst/>
            <a:gdLst/>
            <a:ahLst/>
            <a:rect l="l" t="t" r="r" b="b"/>
            <a:pathLst>
              <a:path w="1986" h="3350">
                <a:moveTo>
                  <a:pt x="11361" y="13370"/>
                </a:moveTo>
                <a:cubicBezTo>
                  <a:pt x="11399" y="13284"/>
                  <a:pt x="11488" y="13185"/>
                  <a:pt x="11609" y="13171"/>
                </a:cubicBezTo>
                <a:cubicBezTo>
                  <a:pt x="11675" y="13179"/>
                  <a:pt x="11741" y="13188"/>
                  <a:pt x="11807" y="13196"/>
                </a:cubicBezTo>
                <a:cubicBezTo>
                  <a:pt x="11886" y="13594"/>
                  <a:pt x="11777" y="13858"/>
                  <a:pt x="11311" y="13915"/>
                </a:cubicBezTo>
                <a:cubicBezTo>
                  <a:pt x="11081" y="13895"/>
                  <a:pt x="11027" y="13909"/>
                  <a:pt x="10914" y="13816"/>
                </a:cubicBezTo>
                <a:cubicBezTo>
                  <a:pt x="11151" y="13684"/>
                  <a:pt x="11429" y="13588"/>
                  <a:pt x="11683" y="13791"/>
                </a:cubicBezTo>
                <a:cubicBezTo>
                  <a:pt x="11742" y="13890"/>
                  <a:pt x="11753" y="13905"/>
                  <a:pt x="11782" y="13965"/>
                </a:cubicBezTo>
              </a:path>
              <a:path w="1986" h="3350">
                <a:moveTo>
                  <a:pt x="10616" y="14238"/>
                </a:moveTo>
                <a:cubicBezTo>
                  <a:pt x="10988" y="14194"/>
                  <a:pt x="11357" y="14176"/>
                  <a:pt x="11733" y="14163"/>
                </a:cubicBezTo>
              </a:path>
              <a:path w="1986" h="3350">
                <a:moveTo>
                  <a:pt x="11038" y="14858"/>
                </a:moveTo>
                <a:cubicBezTo>
                  <a:pt x="10947" y="14868"/>
                  <a:pt x="10793" y="14850"/>
                  <a:pt x="10716" y="14883"/>
                </a:cubicBezTo>
                <a:cubicBezTo>
                  <a:pt x="10693" y="14893"/>
                  <a:pt x="10541" y="15083"/>
                  <a:pt x="10517" y="15131"/>
                </a:cubicBezTo>
                <a:cubicBezTo>
                  <a:pt x="10724" y="15131"/>
                  <a:pt x="10938" y="15105"/>
                  <a:pt x="11137" y="15180"/>
                </a:cubicBezTo>
                <a:cubicBezTo>
                  <a:pt x="11170" y="15205"/>
                  <a:pt x="11204" y="15230"/>
                  <a:pt x="11237" y="15255"/>
                </a:cubicBezTo>
                <a:cubicBezTo>
                  <a:pt x="11098" y="15440"/>
                  <a:pt x="10832" y="15555"/>
                  <a:pt x="10567" y="15453"/>
                </a:cubicBezTo>
                <a:cubicBezTo>
                  <a:pt x="10567" y="15437"/>
                  <a:pt x="10567" y="15420"/>
                  <a:pt x="10567" y="15404"/>
                </a:cubicBezTo>
              </a:path>
              <a:path w="1986" h="3350">
                <a:moveTo>
                  <a:pt x="11435" y="14883"/>
                </a:moveTo>
                <a:cubicBezTo>
                  <a:pt x="11427" y="14875"/>
                  <a:pt x="11418" y="14866"/>
                  <a:pt x="11410" y="14858"/>
                </a:cubicBezTo>
                <a:cubicBezTo>
                  <a:pt x="11410" y="14954"/>
                  <a:pt x="11456" y="15002"/>
                  <a:pt x="11509" y="15081"/>
                </a:cubicBezTo>
              </a:path>
              <a:path w="1986" h="3350">
                <a:moveTo>
                  <a:pt x="11534" y="14858"/>
                </a:moveTo>
                <a:cubicBezTo>
                  <a:pt x="11484" y="14946"/>
                  <a:pt x="11384" y="15048"/>
                  <a:pt x="11311" y="15131"/>
                </a:cubicBezTo>
              </a:path>
              <a:path w="1986" h="3350">
                <a:moveTo>
                  <a:pt x="11981" y="13072"/>
                </a:moveTo>
                <a:cubicBezTo>
                  <a:pt x="12001" y="13160"/>
                  <a:pt x="12030" y="13213"/>
                  <a:pt x="12080" y="13295"/>
                </a:cubicBezTo>
              </a:path>
              <a:path w="1986" h="3350">
                <a:moveTo>
                  <a:pt x="12353" y="12948"/>
                </a:moveTo>
                <a:cubicBezTo>
                  <a:pt x="12197" y="13123"/>
                  <a:pt x="12300" y="13075"/>
                  <a:pt x="12452" y="13221"/>
                </a:cubicBezTo>
                <a:cubicBezTo>
                  <a:pt x="12469" y="13246"/>
                  <a:pt x="12485" y="13270"/>
                  <a:pt x="12502" y="13295"/>
                </a:cubicBezTo>
                <a:cubicBezTo>
                  <a:pt x="12423" y="13374"/>
                  <a:pt x="12392" y="13399"/>
                  <a:pt x="12303" y="13370"/>
                </a:cubicBezTo>
                <a:cubicBezTo>
                  <a:pt x="12320" y="13221"/>
                  <a:pt x="12340" y="13202"/>
                  <a:pt x="12402" y="13072"/>
                </a:cubicBezTo>
              </a:path>
              <a:path w="1986" h="3350">
                <a:moveTo>
                  <a:pt x="11757" y="12179"/>
                </a:moveTo>
                <a:cubicBezTo>
                  <a:pt x="11697" y="12374"/>
                  <a:pt x="11636" y="12552"/>
                  <a:pt x="11485" y="12700"/>
                </a:cubicBezTo>
                <a:cubicBezTo>
                  <a:pt x="11493" y="12683"/>
                  <a:pt x="11501" y="12667"/>
                  <a:pt x="11509" y="12650"/>
                </a:cubicBezTo>
              </a:path>
              <a:path w="1986" h="3350">
                <a:moveTo>
                  <a:pt x="12154" y="12129"/>
                </a:moveTo>
                <a:cubicBezTo>
                  <a:pt x="12105" y="12280"/>
                  <a:pt x="11943" y="12388"/>
                  <a:pt x="11906" y="12551"/>
                </a:cubicBezTo>
                <a:cubicBezTo>
                  <a:pt x="11914" y="12576"/>
                  <a:pt x="11923" y="12601"/>
                  <a:pt x="11931" y="12626"/>
                </a:cubicBezTo>
                <a:cubicBezTo>
                  <a:pt x="12202" y="12639"/>
                  <a:pt x="12295" y="12593"/>
                  <a:pt x="12402" y="12353"/>
                </a:cubicBezTo>
                <a:cubicBezTo>
                  <a:pt x="12196" y="12353"/>
                  <a:pt x="12071" y="12409"/>
                  <a:pt x="12030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1960" y="4680000"/>
            <a:ext cx="285840" cy="768240"/>
          </a:xfrm>
          <a:custGeom>
            <a:avLst/>
            <a:gdLst/>
            <a:ahLst/>
            <a:rect l="l" t="t" r="r" b="b"/>
            <a:pathLst>
              <a:path w="795" h="2134">
                <a:moveTo>
                  <a:pt x="11733" y="14163"/>
                </a:moveTo>
                <a:lnTo>
                  <a:pt x="11733" y="14163"/>
                </a:lnTo>
              </a:path>
              <a:path w="795" h="2134">
                <a:moveTo>
                  <a:pt x="11311" y="15131"/>
                </a:moveTo>
                <a:lnTo>
                  <a:pt x="11311" y="15131"/>
                </a:lnTo>
              </a:path>
              <a:path w="795" h="2134">
                <a:moveTo>
                  <a:pt x="12105" y="12998"/>
                </a:moveTo>
                <a:cubicBezTo>
                  <a:pt x="12027" y="13097"/>
                  <a:pt x="11956" y="13196"/>
                  <a:pt x="11881" y="13295"/>
                </a:cubicBezTo>
              </a:path>
              <a:path w="795" h="2134">
                <a:moveTo>
                  <a:pt x="11881" y="13295"/>
                </a:moveTo>
                <a:lnTo>
                  <a:pt x="11881" y="132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97000" y="4633920"/>
            <a:ext cx="6912000" cy="1144440"/>
          </a:xfrm>
          <a:custGeom>
            <a:avLst/>
            <a:gdLst/>
            <a:ahLst/>
            <a:rect l="l" t="t" r="r" b="b"/>
            <a:pathLst>
              <a:path w="19200" h="3176">
                <a:moveTo>
                  <a:pt x="12378" y="14312"/>
                </a:moveTo>
                <a:cubicBezTo>
                  <a:pt x="12352" y="14439"/>
                  <a:pt x="12361" y="14570"/>
                  <a:pt x="12303" y="14684"/>
                </a:cubicBezTo>
              </a:path>
              <a:path w="19200" h="3176">
                <a:moveTo>
                  <a:pt x="13295" y="14362"/>
                </a:moveTo>
                <a:cubicBezTo>
                  <a:pt x="13476" y="14352"/>
                  <a:pt x="14005" y="14273"/>
                  <a:pt x="14089" y="14387"/>
                </a:cubicBezTo>
              </a:path>
              <a:path w="19200" h="3176">
                <a:moveTo>
                  <a:pt x="3324" y="15156"/>
                </a:moveTo>
                <a:cubicBezTo>
                  <a:pt x="3324" y="15148"/>
                  <a:pt x="3324" y="15139"/>
                  <a:pt x="3324" y="15131"/>
                </a:cubicBezTo>
              </a:path>
              <a:path w="19200" h="3176">
                <a:moveTo>
                  <a:pt x="3324" y="15131"/>
                </a:moveTo>
                <a:lnTo>
                  <a:pt x="3324" y="15131"/>
                </a:lnTo>
              </a:path>
              <a:path w="19200" h="3176">
                <a:moveTo>
                  <a:pt x="3919" y="15205"/>
                </a:moveTo>
                <a:cubicBezTo>
                  <a:pt x="3919" y="15213"/>
                  <a:pt x="3919" y="15222"/>
                  <a:pt x="3919" y="15230"/>
                </a:cubicBezTo>
              </a:path>
              <a:path w="19200" h="3176">
                <a:moveTo>
                  <a:pt x="3845" y="15453"/>
                </a:moveTo>
                <a:lnTo>
                  <a:pt x="3845" y="15453"/>
                </a:lnTo>
                <a:lnTo>
                  <a:pt x="3845" y="15453"/>
                </a:lnTo>
              </a:path>
              <a:path w="19200" h="3176">
                <a:moveTo>
                  <a:pt x="3845" y="15453"/>
                </a:moveTo>
                <a:lnTo>
                  <a:pt x="3845" y="15453"/>
                </a:lnTo>
              </a:path>
              <a:path w="19200" h="3176">
                <a:moveTo>
                  <a:pt x="4217" y="15304"/>
                </a:moveTo>
                <a:cubicBezTo>
                  <a:pt x="4173" y="15436"/>
                  <a:pt x="4160" y="15468"/>
                  <a:pt x="4142" y="15553"/>
                </a:cubicBezTo>
              </a:path>
              <a:path w="19200" h="3176">
                <a:moveTo>
                  <a:pt x="4167" y="15255"/>
                </a:moveTo>
                <a:cubicBezTo>
                  <a:pt x="4338" y="15213"/>
                  <a:pt x="4487" y="15188"/>
                  <a:pt x="4663" y="15180"/>
                </a:cubicBezTo>
              </a:path>
              <a:path w="19200" h="3176">
                <a:moveTo>
                  <a:pt x="4812" y="15553"/>
                </a:moveTo>
                <a:cubicBezTo>
                  <a:pt x="4779" y="15678"/>
                  <a:pt x="4790" y="15725"/>
                  <a:pt x="4688" y="15776"/>
                </a:cubicBezTo>
              </a:path>
              <a:path w="19200" h="3176">
                <a:moveTo>
                  <a:pt x="5283" y="15205"/>
                </a:moveTo>
                <a:lnTo>
                  <a:pt x="5283" y="15205"/>
                </a:lnTo>
              </a:path>
              <a:path w="19200" h="3176">
                <a:moveTo>
                  <a:pt x="5705" y="15478"/>
                </a:moveTo>
                <a:cubicBezTo>
                  <a:pt x="5679" y="15557"/>
                  <a:pt x="5663" y="15627"/>
                  <a:pt x="5631" y="15627"/>
                </a:cubicBezTo>
              </a:path>
              <a:path w="19200" h="3176">
                <a:moveTo>
                  <a:pt x="5978" y="15180"/>
                </a:moveTo>
                <a:cubicBezTo>
                  <a:pt x="5937" y="15304"/>
                  <a:pt x="5865" y="15379"/>
                  <a:pt x="5953" y="15379"/>
                </a:cubicBezTo>
              </a:path>
              <a:path w="19200" h="3176">
                <a:moveTo>
                  <a:pt x="6201" y="15304"/>
                </a:moveTo>
                <a:lnTo>
                  <a:pt x="6201" y="15304"/>
                </a:lnTo>
              </a:path>
              <a:path w="19200" h="3176">
                <a:moveTo>
                  <a:pt x="6251" y="15032"/>
                </a:moveTo>
                <a:cubicBezTo>
                  <a:pt x="6332" y="15032"/>
                  <a:pt x="6375" y="15048"/>
                  <a:pt x="6424" y="15106"/>
                </a:cubicBezTo>
              </a:path>
              <a:path w="19200" h="3176">
                <a:moveTo>
                  <a:pt x="6548" y="15429"/>
                </a:moveTo>
                <a:cubicBezTo>
                  <a:pt x="6539" y="15469"/>
                  <a:pt x="6537" y="15693"/>
                  <a:pt x="6499" y="15577"/>
                </a:cubicBezTo>
              </a:path>
              <a:path w="19200" h="3176">
                <a:moveTo>
                  <a:pt x="7119" y="15131"/>
                </a:moveTo>
                <a:cubicBezTo>
                  <a:pt x="7056" y="15236"/>
                  <a:pt x="7025" y="15256"/>
                  <a:pt x="7069" y="15329"/>
                </a:cubicBezTo>
                <a:cubicBezTo>
                  <a:pt x="7193" y="15314"/>
                  <a:pt x="7416" y="15250"/>
                  <a:pt x="7218" y="15106"/>
                </a:cubicBezTo>
                <a:cubicBezTo>
                  <a:pt x="7202" y="15106"/>
                  <a:pt x="7185" y="15106"/>
                  <a:pt x="7169" y="15106"/>
                </a:cubicBezTo>
              </a:path>
              <a:path w="19200" h="3176">
                <a:moveTo>
                  <a:pt x="7169" y="15106"/>
                </a:moveTo>
                <a:lnTo>
                  <a:pt x="7169" y="15106"/>
                </a:lnTo>
              </a:path>
              <a:path w="19200" h="3176">
                <a:moveTo>
                  <a:pt x="7491" y="15478"/>
                </a:moveTo>
                <a:cubicBezTo>
                  <a:pt x="7474" y="15503"/>
                  <a:pt x="7458" y="15528"/>
                  <a:pt x="7441" y="15553"/>
                </a:cubicBezTo>
              </a:path>
              <a:path w="19200" h="3176">
                <a:moveTo>
                  <a:pt x="7962" y="15230"/>
                </a:moveTo>
                <a:lnTo>
                  <a:pt x="7962" y="15230"/>
                </a:lnTo>
              </a:path>
              <a:path w="19200" h="3176">
                <a:moveTo>
                  <a:pt x="7938" y="14982"/>
                </a:moveTo>
                <a:cubicBezTo>
                  <a:pt x="8073" y="14933"/>
                  <a:pt x="8035" y="14918"/>
                  <a:pt x="8136" y="15007"/>
                </a:cubicBezTo>
              </a:path>
              <a:path w="19200" h="3176">
                <a:moveTo>
                  <a:pt x="8186" y="15329"/>
                </a:moveTo>
                <a:cubicBezTo>
                  <a:pt x="8186" y="15423"/>
                  <a:pt x="8207" y="15444"/>
                  <a:pt x="8161" y="15478"/>
                </a:cubicBezTo>
              </a:path>
              <a:path w="19200" h="3176">
                <a:moveTo>
                  <a:pt x="9054" y="15404"/>
                </a:moveTo>
                <a:cubicBezTo>
                  <a:pt x="9031" y="15427"/>
                  <a:pt x="9023" y="15438"/>
                  <a:pt x="9029" y="15404"/>
                </a:cubicBezTo>
              </a:path>
              <a:path w="19200" h="3176">
                <a:moveTo>
                  <a:pt x="9153" y="15156"/>
                </a:moveTo>
                <a:lnTo>
                  <a:pt x="9153" y="15156"/>
                </a:lnTo>
              </a:path>
              <a:path w="19200" h="3176">
                <a:moveTo>
                  <a:pt x="9500" y="14759"/>
                </a:moveTo>
                <a:cubicBezTo>
                  <a:pt x="9517" y="14759"/>
                  <a:pt x="9533" y="14759"/>
                  <a:pt x="9550" y="14759"/>
                </a:cubicBezTo>
              </a:path>
              <a:path w="19200" h="3176">
                <a:moveTo>
                  <a:pt x="9699" y="15131"/>
                </a:moveTo>
                <a:cubicBezTo>
                  <a:pt x="9660" y="15208"/>
                  <a:pt x="9661" y="15223"/>
                  <a:pt x="9624" y="15255"/>
                </a:cubicBezTo>
              </a:path>
              <a:path w="19200" h="3176">
                <a:moveTo>
                  <a:pt x="9748" y="14660"/>
                </a:moveTo>
                <a:cubicBezTo>
                  <a:pt x="9772" y="14780"/>
                  <a:pt x="9762" y="14749"/>
                  <a:pt x="9897" y="14759"/>
                </a:cubicBezTo>
              </a:path>
              <a:path w="19200" h="3176">
                <a:moveTo>
                  <a:pt x="9922" y="14709"/>
                </a:moveTo>
                <a:cubicBezTo>
                  <a:pt x="9880" y="14833"/>
                  <a:pt x="9855" y="14858"/>
                  <a:pt x="9897" y="14932"/>
                </a:cubicBezTo>
              </a:path>
              <a:path w="19200" h="3176">
                <a:moveTo>
                  <a:pt x="9897" y="14932"/>
                </a:moveTo>
                <a:lnTo>
                  <a:pt x="9897" y="14932"/>
                </a:lnTo>
              </a:path>
              <a:path w="19200" h="3176">
                <a:moveTo>
                  <a:pt x="11683" y="15776"/>
                </a:moveTo>
                <a:cubicBezTo>
                  <a:pt x="11644" y="15858"/>
                  <a:pt x="11574" y="15999"/>
                  <a:pt x="11584" y="16049"/>
                </a:cubicBezTo>
              </a:path>
              <a:path w="19200" h="3176">
                <a:moveTo>
                  <a:pt x="11584" y="16049"/>
                </a:moveTo>
                <a:lnTo>
                  <a:pt x="11584" y="16049"/>
                </a:lnTo>
              </a:path>
              <a:path w="19200" h="3176">
                <a:moveTo>
                  <a:pt x="11807" y="15801"/>
                </a:moveTo>
                <a:cubicBezTo>
                  <a:pt x="11850" y="15901"/>
                  <a:pt x="12051" y="16098"/>
                  <a:pt x="12129" y="15875"/>
                </a:cubicBezTo>
                <a:cubicBezTo>
                  <a:pt x="12188" y="15708"/>
                  <a:pt x="11919" y="15715"/>
                  <a:pt x="11832" y="15701"/>
                </a:cubicBezTo>
              </a:path>
              <a:path w="19200" h="3176">
                <a:moveTo>
                  <a:pt x="14039" y="15850"/>
                </a:moveTo>
                <a:lnTo>
                  <a:pt x="14039" y="15850"/>
                </a:lnTo>
              </a:path>
              <a:path w="19200" h="3176">
                <a:moveTo>
                  <a:pt x="13915" y="14784"/>
                </a:moveTo>
                <a:cubicBezTo>
                  <a:pt x="13867" y="14832"/>
                  <a:pt x="13803" y="14864"/>
                  <a:pt x="13841" y="14883"/>
                </a:cubicBezTo>
              </a:path>
              <a:path w="19200" h="3176">
                <a:moveTo>
                  <a:pt x="13841" y="14883"/>
                </a:moveTo>
                <a:lnTo>
                  <a:pt x="13841" y="14883"/>
                </a:lnTo>
              </a:path>
              <a:path w="19200" h="3176">
                <a:moveTo>
                  <a:pt x="13990" y="13767"/>
                </a:moveTo>
                <a:cubicBezTo>
                  <a:pt x="14014" y="13827"/>
                  <a:pt x="14052" y="13867"/>
                  <a:pt x="14064" y="13940"/>
                </a:cubicBezTo>
              </a:path>
              <a:path w="19200" h="3176">
                <a:moveTo>
                  <a:pt x="13915" y="14015"/>
                </a:moveTo>
                <a:lnTo>
                  <a:pt x="13915" y="14015"/>
                </a:lnTo>
              </a:path>
              <a:path w="19200" h="3176">
                <a:moveTo>
                  <a:pt x="14461" y="13593"/>
                </a:moveTo>
                <a:cubicBezTo>
                  <a:pt x="14610" y="13543"/>
                  <a:pt x="14661" y="13526"/>
                  <a:pt x="14734" y="13444"/>
                </a:cubicBezTo>
              </a:path>
              <a:path w="19200" h="3176">
                <a:moveTo>
                  <a:pt x="15553" y="13915"/>
                </a:moveTo>
                <a:cubicBezTo>
                  <a:pt x="15611" y="13907"/>
                  <a:pt x="15668" y="13899"/>
                  <a:pt x="15726" y="13891"/>
                </a:cubicBezTo>
              </a:path>
              <a:path w="19200" h="3176">
                <a:moveTo>
                  <a:pt x="15726" y="13891"/>
                </a:moveTo>
                <a:lnTo>
                  <a:pt x="15726" y="13891"/>
                </a:lnTo>
              </a:path>
              <a:path w="19200" h="3176">
                <a:moveTo>
                  <a:pt x="17983" y="12874"/>
                </a:moveTo>
                <a:cubicBezTo>
                  <a:pt x="18039" y="13077"/>
                  <a:pt x="17986" y="13299"/>
                  <a:pt x="17884" y="13494"/>
                </a:cubicBezTo>
                <a:cubicBezTo>
                  <a:pt x="17868" y="13510"/>
                  <a:pt x="17851" y="13527"/>
                  <a:pt x="17835" y="13543"/>
                </a:cubicBezTo>
              </a:path>
              <a:path w="19200" h="3176">
                <a:moveTo>
                  <a:pt x="17835" y="13543"/>
                </a:moveTo>
                <a:lnTo>
                  <a:pt x="17835" y="13543"/>
                </a:lnTo>
              </a:path>
              <a:path w="19200" h="3176">
                <a:moveTo>
                  <a:pt x="22523" y="15056"/>
                </a:moveTo>
                <a:lnTo>
                  <a:pt x="22523" y="15056"/>
                </a:lnTo>
                <a:lnTo>
                  <a:pt x="22523" y="150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5411880"/>
            <a:ext cx="509400" cy="23184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3522" y="15056"/>
                </a:moveTo>
                <a:cubicBezTo>
                  <a:pt x="3495" y="15111"/>
                  <a:pt x="3439" y="15123"/>
                  <a:pt x="3373" y="15156"/>
                </a:cubicBezTo>
              </a:path>
              <a:path w="1415" h="646">
                <a:moveTo>
                  <a:pt x="3671" y="15032"/>
                </a:moveTo>
                <a:cubicBezTo>
                  <a:pt x="3545" y="15063"/>
                  <a:pt x="3368" y="15079"/>
                  <a:pt x="3249" y="15131"/>
                </a:cubicBezTo>
                <a:cubicBezTo>
                  <a:pt x="3178" y="15161"/>
                  <a:pt x="3179" y="15258"/>
                  <a:pt x="3150" y="15329"/>
                </a:cubicBezTo>
                <a:cubicBezTo>
                  <a:pt x="3254" y="15314"/>
                  <a:pt x="3394" y="15218"/>
                  <a:pt x="3497" y="15329"/>
                </a:cubicBezTo>
                <a:cubicBezTo>
                  <a:pt x="3669" y="15513"/>
                  <a:pt x="3248" y="15690"/>
                  <a:pt x="3125" y="15677"/>
                </a:cubicBezTo>
                <a:cubicBezTo>
                  <a:pt x="3100" y="15660"/>
                  <a:pt x="3076" y="15644"/>
                  <a:pt x="3051" y="15627"/>
                </a:cubicBezTo>
              </a:path>
              <a:path w="1415" h="646">
                <a:moveTo>
                  <a:pt x="4266" y="15230"/>
                </a:moveTo>
                <a:cubicBezTo>
                  <a:pt x="4209" y="15288"/>
                  <a:pt x="4158" y="15325"/>
                  <a:pt x="4142" y="15404"/>
                </a:cubicBezTo>
                <a:cubicBezTo>
                  <a:pt x="4231" y="15417"/>
                  <a:pt x="4456" y="15429"/>
                  <a:pt x="4465" y="15553"/>
                </a:cubicBezTo>
                <a:cubicBezTo>
                  <a:pt x="4485" y="15815"/>
                  <a:pt x="4051" y="15592"/>
                  <a:pt x="399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0880" y="5438880"/>
            <a:ext cx="162000" cy="1332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5135" y="15106"/>
                </a:moveTo>
                <a:cubicBezTo>
                  <a:pt x="5121" y="15234"/>
                  <a:pt x="5094" y="15352"/>
                  <a:pt x="5060" y="15478"/>
                </a:cubicBezTo>
              </a:path>
              <a:path w="448" h="373">
                <a:moveTo>
                  <a:pt x="5308" y="15280"/>
                </a:moveTo>
                <a:cubicBezTo>
                  <a:pt x="5292" y="15321"/>
                  <a:pt x="5275" y="15363"/>
                  <a:pt x="5259" y="15404"/>
                </a:cubicBezTo>
                <a:cubicBezTo>
                  <a:pt x="5332" y="15423"/>
                  <a:pt x="5645" y="15337"/>
                  <a:pt x="5507" y="15180"/>
                </a:cubicBezTo>
                <a:cubicBezTo>
                  <a:pt x="5388" y="15157"/>
                  <a:pt x="5351" y="15147"/>
                  <a:pt x="5283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4720" y="5402160"/>
            <a:ext cx="303120" cy="135000"/>
          </a:xfrm>
          <a:custGeom>
            <a:avLst/>
            <a:gdLst/>
            <a:ahLst/>
            <a:rect l="l" t="t" r="r" b="b"/>
            <a:pathLst>
              <a:path w="844" h="373">
                <a:moveTo>
                  <a:pt x="6152" y="15131"/>
                </a:moveTo>
                <a:cubicBezTo>
                  <a:pt x="6242" y="15195"/>
                  <a:pt x="6330" y="15251"/>
                  <a:pt x="6400" y="15329"/>
                </a:cubicBezTo>
                <a:cubicBezTo>
                  <a:pt x="6308" y="15360"/>
                  <a:pt x="6266" y="15361"/>
                  <a:pt x="6201" y="15304"/>
                </a:cubicBezTo>
              </a:path>
              <a:path w="844" h="373">
                <a:moveTo>
                  <a:pt x="6772" y="15007"/>
                </a:moveTo>
                <a:cubicBezTo>
                  <a:pt x="6913" y="15073"/>
                  <a:pt x="7106" y="15187"/>
                  <a:pt x="6896" y="15329"/>
                </a:cubicBezTo>
                <a:cubicBezTo>
                  <a:pt x="6772" y="15371"/>
                  <a:pt x="6747" y="15396"/>
                  <a:pt x="6672" y="15354"/>
                </a:cubicBezTo>
                <a:cubicBezTo>
                  <a:pt x="6780" y="15282"/>
                  <a:pt x="6830" y="15334"/>
                  <a:pt x="6945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32040" y="5214960"/>
            <a:ext cx="1081080" cy="285840"/>
          </a:xfrm>
          <a:custGeom>
            <a:avLst/>
            <a:gdLst/>
            <a:ahLst/>
            <a:rect l="l" t="t" r="r" b="b"/>
            <a:pathLst>
              <a:path w="3003" h="795">
                <a:moveTo>
                  <a:pt x="7640" y="15007"/>
                </a:moveTo>
                <a:cubicBezTo>
                  <a:pt x="7743" y="15031"/>
                  <a:pt x="7964" y="15145"/>
                  <a:pt x="7764" y="15255"/>
                </a:cubicBezTo>
                <a:cubicBezTo>
                  <a:pt x="7654" y="15316"/>
                  <a:pt x="7622" y="15286"/>
                  <a:pt x="7590" y="15205"/>
                </a:cubicBezTo>
                <a:cubicBezTo>
                  <a:pt x="7673" y="15224"/>
                  <a:pt x="7734" y="15256"/>
                  <a:pt x="7813" y="15280"/>
                </a:cubicBezTo>
              </a:path>
              <a:path w="3003" h="795">
                <a:moveTo>
                  <a:pt x="7938" y="15056"/>
                </a:moveTo>
                <a:cubicBezTo>
                  <a:pt x="7979" y="15166"/>
                  <a:pt x="8062" y="15146"/>
                  <a:pt x="8136" y="15205"/>
                </a:cubicBezTo>
                <a:cubicBezTo>
                  <a:pt x="8073" y="15268"/>
                  <a:pt x="8038" y="15281"/>
                  <a:pt x="7962" y="15230"/>
                </a:cubicBezTo>
              </a:path>
              <a:path w="3003" h="795">
                <a:moveTo>
                  <a:pt x="8285" y="14932"/>
                </a:moveTo>
                <a:cubicBezTo>
                  <a:pt x="8415" y="14938"/>
                  <a:pt x="8655" y="14905"/>
                  <a:pt x="8434" y="15056"/>
                </a:cubicBezTo>
                <a:cubicBezTo>
                  <a:pt x="8417" y="15064"/>
                  <a:pt x="8401" y="15073"/>
                  <a:pt x="8384" y="15081"/>
                </a:cubicBezTo>
                <a:cubicBezTo>
                  <a:pt x="8475" y="15094"/>
                  <a:pt x="8523" y="15119"/>
                  <a:pt x="8607" y="15156"/>
                </a:cubicBezTo>
                <a:cubicBezTo>
                  <a:pt x="8503" y="15259"/>
                  <a:pt x="8460" y="15242"/>
                  <a:pt x="8310" y="15255"/>
                </a:cubicBezTo>
              </a:path>
              <a:path w="3003" h="795">
                <a:moveTo>
                  <a:pt x="8706" y="14908"/>
                </a:moveTo>
                <a:cubicBezTo>
                  <a:pt x="8621" y="15034"/>
                  <a:pt x="8588" y="15058"/>
                  <a:pt x="8607" y="15156"/>
                </a:cubicBezTo>
                <a:cubicBezTo>
                  <a:pt x="8683" y="15181"/>
                  <a:pt x="9125" y="15239"/>
                  <a:pt x="8979" y="14982"/>
                </a:cubicBezTo>
                <a:cubicBezTo>
                  <a:pt x="8891" y="14938"/>
                  <a:pt x="8870" y="14921"/>
                  <a:pt x="8806" y="14932"/>
                </a:cubicBezTo>
              </a:path>
              <a:path w="3003" h="795">
                <a:moveTo>
                  <a:pt x="9227" y="14858"/>
                </a:moveTo>
                <a:cubicBezTo>
                  <a:pt x="9277" y="14833"/>
                  <a:pt x="9294" y="14825"/>
                  <a:pt x="9327" y="14858"/>
                </a:cubicBezTo>
                <a:cubicBezTo>
                  <a:pt x="9299" y="14892"/>
                  <a:pt x="9176" y="14932"/>
                  <a:pt x="9252" y="14957"/>
                </a:cubicBezTo>
                <a:cubicBezTo>
                  <a:pt x="9367" y="14995"/>
                  <a:pt x="9347" y="15113"/>
                  <a:pt x="9227" y="15156"/>
                </a:cubicBezTo>
                <a:cubicBezTo>
                  <a:pt x="9202" y="15156"/>
                  <a:pt x="9178" y="15156"/>
                  <a:pt x="9153" y="15156"/>
                </a:cubicBezTo>
              </a:path>
              <a:path w="3003" h="795">
                <a:moveTo>
                  <a:pt x="9426" y="14833"/>
                </a:moveTo>
                <a:cubicBezTo>
                  <a:pt x="9425" y="14999"/>
                  <a:pt x="9571" y="14901"/>
                  <a:pt x="9599" y="15032"/>
                </a:cubicBezTo>
                <a:cubicBezTo>
                  <a:pt x="9542" y="15089"/>
                  <a:pt x="9487" y="15091"/>
                  <a:pt x="9401" y="15032"/>
                </a:cubicBezTo>
              </a:path>
              <a:path w="3003" h="795">
                <a:moveTo>
                  <a:pt x="10096" y="14684"/>
                </a:moveTo>
                <a:cubicBezTo>
                  <a:pt x="10114" y="14872"/>
                  <a:pt x="10198" y="15027"/>
                  <a:pt x="10393" y="14808"/>
                </a:cubicBezTo>
                <a:cubicBezTo>
                  <a:pt x="10426" y="14750"/>
                  <a:pt x="10459" y="14693"/>
                  <a:pt x="10492" y="14635"/>
                </a:cubicBezTo>
                <a:cubicBezTo>
                  <a:pt x="10492" y="14569"/>
                  <a:pt x="10501" y="14544"/>
                  <a:pt x="10443" y="14560"/>
                </a:cubicBezTo>
                <a:cubicBezTo>
                  <a:pt x="10407" y="14695"/>
                  <a:pt x="10400" y="14771"/>
                  <a:pt x="10567" y="14734"/>
                </a:cubicBezTo>
                <a:cubicBezTo>
                  <a:pt x="10534" y="14550"/>
                  <a:pt x="10444" y="14629"/>
                  <a:pt x="10220" y="14635"/>
                </a:cubicBezTo>
              </a:path>
              <a:path w="3003" h="795">
                <a:moveTo>
                  <a:pt x="10542" y="14511"/>
                </a:moveTo>
                <a:cubicBezTo>
                  <a:pt x="10525" y="14460"/>
                  <a:pt x="10472" y="14494"/>
                  <a:pt x="10418" y="14511"/>
                </a:cubicBezTo>
                <a:cubicBezTo>
                  <a:pt x="10237" y="14569"/>
                  <a:pt x="10145" y="14657"/>
                  <a:pt x="10145" y="14833"/>
                </a:cubicBezTo>
                <a:cubicBezTo>
                  <a:pt x="10375" y="14898"/>
                  <a:pt x="10444" y="14860"/>
                  <a:pt x="10567" y="14660"/>
                </a:cubicBezTo>
                <a:cubicBezTo>
                  <a:pt x="10451" y="14512"/>
                  <a:pt x="10441" y="14528"/>
                  <a:pt x="10244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5960" y="5205240"/>
            <a:ext cx="446040" cy="501840"/>
          </a:xfrm>
          <a:custGeom>
            <a:avLst/>
            <a:gdLst/>
            <a:ahLst/>
            <a:rect l="l" t="t" r="r" b="b"/>
            <a:pathLst>
              <a:path w="1241" h="1390">
                <a:moveTo>
                  <a:pt x="12030" y="14536"/>
                </a:moveTo>
                <a:cubicBezTo>
                  <a:pt x="12255" y="14522"/>
                  <a:pt x="12475" y="14491"/>
                  <a:pt x="12700" y="14461"/>
                </a:cubicBezTo>
              </a:path>
              <a:path w="1241" h="1390">
                <a:moveTo>
                  <a:pt x="11534" y="15701"/>
                </a:moveTo>
                <a:cubicBezTo>
                  <a:pt x="11487" y="15749"/>
                  <a:pt x="11472" y="15781"/>
                  <a:pt x="11460" y="15850"/>
                </a:cubicBezTo>
                <a:cubicBezTo>
                  <a:pt x="11621" y="15850"/>
                  <a:pt x="11681" y="15832"/>
                  <a:pt x="11832" y="15776"/>
                </a:cubicBezTo>
              </a:path>
              <a:path w="1241" h="1390">
                <a:moveTo>
                  <a:pt x="11832" y="14908"/>
                </a:moveTo>
                <a:cubicBezTo>
                  <a:pt x="11640" y="14984"/>
                  <a:pt x="11473" y="14998"/>
                  <a:pt x="11708" y="15156"/>
                </a:cubicBezTo>
                <a:cubicBezTo>
                  <a:pt x="11749" y="15181"/>
                  <a:pt x="11791" y="15205"/>
                  <a:pt x="11832" y="15230"/>
                </a:cubicBezTo>
                <a:cubicBezTo>
                  <a:pt x="11872" y="15270"/>
                  <a:pt x="11859" y="15279"/>
                  <a:pt x="11757" y="15255"/>
                </a:cubicBezTo>
                <a:cubicBezTo>
                  <a:pt x="11538" y="15204"/>
                  <a:pt x="11680" y="15121"/>
                  <a:pt x="11807" y="15007"/>
                </a:cubicBezTo>
                <a:cubicBezTo>
                  <a:pt x="11815" y="14999"/>
                  <a:pt x="11824" y="14990"/>
                  <a:pt x="11832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29120" y="4911840"/>
            <a:ext cx="312840" cy="795240"/>
          </a:xfrm>
          <a:custGeom>
            <a:avLst/>
            <a:gdLst/>
            <a:ahLst/>
            <a:rect l="l" t="t" r="r" b="b"/>
            <a:pathLst>
              <a:path w="869" h="2208">
                <a:moveTo>
                  <a:pt x="13717" y="13643"/>
                </a:moveTo>
                <a:cubicBezTo>
                  <a:pt x="13717" y="13851"/>
                  <a:pt x="13732" y="14061"/>
                  <a:pt x="13692" y="14263"/>
                </a:cubicBezTo>
              </a:path>
              <a:path w="869" h="2208">
                <a:moveTo>
                  <a:pt x="13990" y="15429"/>
                </a:moveTo>
                <a:cubicBezTo>
                  <a:pt x="13990" y="15486"/>
                  <a:pt x="13961" y="15565"/>
                  <a:pt x="14015" y="15602"/>
                </a:cubicBezTo>
                <a:cubicBezTo>
                  <a:pt x="14144" y="15689"/>
                  <a:pt x="14169" y="15584"/>
                  <a:pt x="14213" y="15503"/>
                </a:cubicBezTo>
              </a:path>
              <a:path w="869" h="2208">
                <a:moveTo>
                  <a:pt x="14188" y="15429"/>
                </a:moveTo>
                <a:cubicBezTo>
                  <a:pt x="14155" y="15577"/>
                  <a:pt x="14107" y="15716"/>
                  <a:pt x="14039" y="15850"/>
                </a:cubicBezTo>
              </a:path>
              <a:path w="869" h="2208">
                <a:moveTo>
                  <a:pt x="14288" y="15577"/>
                </a:moveTo>
                <a:cubicBezTo>
                  <a:pt x="14264" y="15829"/>
                  <a:pt x="14324" y="15876"/>
                  <a:pt x="14560" y="15751"/>
                </a:cubicBezTo>
                <a:cubicBezTo>
                  <a:pt x="14472" y="15471"/>
                  <a:pt x="14222" y="15529"/>
                  <a:pt x="13940" y="15503"/>
                </a:cubicBezTo>
              </a:path>
              <a:path w="869" h="2208">
                <a:moveTo>
                  <a:pt x="13841" y="14709"/>
                </a:moveTo>
                <a:cubicBezTo>
                  <a:pt x="13887" y="14744"/>
                  <a:pt x="13921" y="14839"/>
                  <a:pt x="13940" y="14908"/>
                </a:cubicBezTo>
              </a:path>
              <a:path w="869" h="2208">
                <a:moveTo>
                  <a:pt x="14461" y="14610"/>
                </a:moveTo>
                <a:cubicBezTo>
                  <a:pt x="14317" y="14610"/>
                  <a:pt x="14366" y="14593"/>
                  <a:pt x="14337" y="14709"/>
                </a:cubicBezTo>
                <a:cubicBezTo>
                  <a:pt x="14329" y="14726"/>
                  <a:pt x="14320" y="14742"/>
                  <a:pt x="14312" y="14759"/>
                </a:cubicBezTo>
                <a:cubicBezTo>
                  <a:pt x="14448" y="14782"/>
                  <a:pt x="14485" y="14784"/>
                  <a:pt x="14560" y="14833"/>
                </a:cubicBezTo>
                <a:cubicBezTo>
                  <a:pt x="14504" y="15017"/>
                  <a:pt x="14479" y="14978"/>
                  <a:pt x="14288" y="15032"/>
                </a:cubicBezTo>
              </a:path>
              <a:path w="869" h="2208">
                <a:moveTo>
                  <a:pt x="14139" y="13717"/>
                </a:moveTo>
                <a:cubicBezTo>
                  <a:pt x="14051" y="13826"/>
                  <a:pt x="14055" y="14004"/>
                  <a:pt x="13915" y="14015"/>
                </a:cubicBezTo>
              </a:path>
              <a:path w="869" h="2208">
                <a:moveTo>
                  <a:pt x="14362" y="13667"/>
                </a:moveTo>
                <a:cubicBezTo>
                  <a:pt x="14321" y="13831"/>
                  <a:pt x="14503" y="13778"/>
                  <a:pt x="14560" y="13915"/>
                </a:cubicBezTo>
                <a:cubicBezTo>
                  <a:pt x="14533" y="13972"/>
                  <a:pt x="14517" y="13991"/>
                  <a:pt x="1446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54800" y="496404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5429" y="13816"/>
                </a:moveTo>
                <a:cubicBezTo>
                  <a:pt x="15520" y="13816"/>
                  <a:pt x="15723" y="13814"/>
                  <a:pt x="15776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9840" y="4446720"/>
            <a:ext cx="733320" cy="1090440"/>
          </a:xfrm>
          <a:custGeom>
            <a:avLst/>
            <a:gdLst/>
            <a:ahLst/>
            <a:rect l="l" t="t" r="r" b="b"/>
            <a:pathLst>
              <a:path w="2034" h="3027">
                <a:moveTo>
                  <a:pt x="17388" y="12998"/>
                </a:moveTo>
                <a:cubicBezTo>
                  <a:pt x="17366" y="13060"/>
                  <a:pt x="17260" y="12923"/>
                  <a:pt x="17537" y="12923"/>
                </a:cubicBezTo>
                <a:cubicBezTo>
                  <a:pt x="18030" y="12923"/>
                  <a:pt x="17340" y="13478"/>
                  <a:pt x="17239" y="13519"/>
                </a:cubicBezTo>
                <a:cubicBezTo>
                  <a:pt x="17028" y="13557"/>
                  <a:pt x="16989" y="13608"/>
                  <a:pt x="16892" y="13519"/>
                </a:cubicBezTo>
                <a:cubicBezTo>
                  <a:pt x="17052" y="13306"/>
                  <a:pt x="17098" y="13386"/>
                  <a:pt x="17289" y="13494"/>
                </a:cubicBezTo>
                <a:cubicBezTo>
                  <a:pt x="17371" y="13522"/>
                  <a:pt x="17403" y="13528"/>
                  <a:pt x="17462" y="13494"/>
                </a:cubicBezTo>
              </a:path>
              <a:path w="2034" h="3027">
                <a:moveTo>
                  <a:pt x="16842" y="13816"/>
                </a:moveTo>
                <a:cubicBezTo>
                  <a:pt x="17216" y="13766"/>
                  <a:pt x="17605" y="13667"/>
                  <a:pt x="17983" y="13667"/>
                </a:cubicBezTo>
                <a:cubicBezTo>
                  <a:pt x="17958" y="13675"/>
                  <a:pt x="17934" y="13684"/>
                  <a:pt x="17909" y="13692"/>
                </a:cubicBezTo>
              </a:path>
              <a:path w="2034" h="3027">
                <a:moveTo>
                  <a:pt x="16892" y="14089"/>
                </a:moveTo>
                <a:cubicBezTo>
                  <a:pt x="16871" y="14173"/>
                  <a:pt x="16804" y="14228"/>
                  <a:pt x="16768" y="14312"/>
                </a:cubicBezTo>
                <a:cubicBezTo>
                  <a:pt x="16984" y="14322"/>
                  <a:pt x="17065" y="14284"/>
                  <a:pt x="17264" y="14188"/>
                </a:cubicBezTo>
              </a:path>
              <a:path w="2034" h="3027">
                <a:moveTo>
                  <a:pt x="17314" y="13990"/>
                </a:moveTo>
                <a:cubicBezTo>
                  <a:pt x="17197" y="14209"/>
                  <a:pt x="17107" y="14422"/>
                  <a:pt x="16942" y="14610"/>
                </a:cubicBezTo>
              </a:path>
              <a:path w="2034" h="3027">
                <a:moveTo>
                  <a:pt x="17487" y="14213"/>
                </a:moveTo>
                <a:cubicBezTo>
                  <a:pt x="17421" y="14391"/>
                  <a:pt x="17385" y="14438"/>
                  <a:pt x="17487" y="14536"/>
                </a:cubicBezTo>
                <a:cubicBezTo>
                  <a:pt x="17678" y="14563"/>
                  <a:pt x="17992" y="14463"/>
                  <a:pt x="17909" y="14163"/>
                </a:cubicBezTo>
                <a:cubicBezTo>
                  <a:pt x="17865" y="14005"/>
                  <a:pt x="17608" y="14120"/>
                  <a:pt x="17512" y="14139"/>
                </a:cubicBezTo>
              </a:path>
              <a:path w="2034" h="3027">
                <a:moveTo>
                  <a:pt x="16768" y="15180"/>
                </a:moveTo>
                <a:cubicBezTo>
                  <a:pt x="17001" y="15126"/>
                  <a:pt x="17368" y="15080"/>
                  <a:pt x="17636" y="15056"/>
                </a:cubicBezTo>
                <a:cubicBezTo>
                  <a:pt x="17901" y="15032"/>
                  <a:pt x="18165" y="15015"/>
                  <a:pt x="18430" y="15007"/>
                </a:cubicBezTo>
                <a:cubicBezTo>
                  <a:pt x="18457" y="14768"/>
                  <a:pt x="18489" y="14531"/>
                  <a:pt x="18479" y="14288"/>
                </a:cubicBezTo>
                <a:cubicBezTo>
                  <a:pt x="18464" y="13929"/>
                  <a:pt x="18402" y="13579"/>
                  <a:pt x="18380" y="13221"/>
                </a:cubicBezTo>
                <a:cubicBezTo>
                  <a:pt x="18363" y="12940"/>
                  <a:pt x="18371" y="12793"/>
                  <a:pt x="18256" y="12551"/>
                </a:cubicBezTo>
                <a:cubicBezTo>
                  <a:pt x="18242" y="12521"/>
                  <a:pt x="18249" y="12455"/>
                  <a:pt x="18231" y="12427"/>
                </a:cubicBezTo>
                <a:cubicBezTo>
                  <a:pt x="18205" y="12387"/>
                  <a:pt x="18191" y="12360"/>
                  <a:pt x="18132" y="12353"/>
                </a:cubicBezTo>
                <a:cubicBezTo>
                  <a:pt x="17885" y="12323"/>
                  <a:pt x="17651" y="12411"/>
                  <a:pt x="17413" y="12452"/>
                </a:cubicBezTo>
                <a:cubicBezTo>
                  <a:pt x="17148" y="12497"/>
                  <a:pt x="16742" y="12492"/>
                  <a:pt x="16495" y="12601"/>
                </a:cubicBezTo>
                <a:cubicBezTo>
                  <a:pt x="16459" y="12617"/>
                  <a:pt x="16445" y="12753"/>
                  <a:pt x="16446" y="12799"/>
                </a:cubicBezTo>
                <a:cubicBezTo>
                  <a:pt x="16454" y="13308"/>
                  <a:pt x="16503" y="13830"/>
                  <a:pt x="16520" y="14337"/>
                </a:cubicBezTo>
                <a:cubicBezTo>
                  <a:pt x="16525" y="14498"/>
                  <a:pt x="16557" y="14650"/>
                  <a:pt x="16570" y="14808"/>
                </a:cubicBezTo>
                <a:cubicBezTo>
                  <a:pt x="16581" y="14943"/>
                  <a:pt x="16615" y="15094"/>
                  <a:pt x="16594" y="15230"/>
                </a:cubicBezTo>
                <a:cubicBezTo>
                  <a:pt x="16582" y="15310"/>
                  <a:pt x="16552" y="15337"/>
                  <a:pt x="16594" y="15379"/>
                </a:cubicBezTo>
                <a:cubicBezTo>
                  <a:pt x="16611" y="15379"/>
                  <a:pt x="16627" y="15379"/>
                  <a:pt x="16644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49840" y="5232240"/>
            <a:ext cx="198360" cy="277920"/>
          </a:xfrm>
          <a:custGeom>
            <a:avLst/>
            <a:gdLst/>
            <a:ahLst/>
            <a:rect l="l" t="t" r="r" b="b"/>
            <a:pathLst>
              <a:path w="547" h="769">
                <a:moveTo>
                  <a:pt x="13742" y="14536"/>
                </a:moveTo>
                <a:cubicBezTo>
                  <a:pt x="13543" y="14596"/>
                  <a:pt x="13379" y="14659"/>
                  <a:pt x="13196" y="14759"/>
                </a:cubicBezTo>
                <a:cubicBezTo>
                  <a:pt x="13361" y="14934"/>
                  <a:pt x="13585" y="15029"/>
                  <a:pt x="13742" y="15230"/>
                </a:cubicBezTo>
                <a:cubicBezTo>
                  <a:pt x="13608" y="15280"/>
                  <a:pt x="13075" y="15376"/>
                  <a:pt x="13345" y="15056"/>
                </a:cubicBezTo>
                <a:cubicBezTo>
                  <a:pt x="13448" y="14934"/>
                  <a:pt x="13600" y="14910"/>
                  <a:pt x="13618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77920" y="5830920"/>
            <a:ext cx="1509840" cy="250920"/>
          </a:xfrm>
          <a:custGeom>
            <a:avLst/>
            <a:gdLst/>
            <a:ahLst/>
            <a:rect l="l" t="t" r="r" b="b"/>
            <a:pathLst>
              <a:path w="4193" h="696">
                <a:moveTo>
                  <a:pt x="3274" y="16371"/>
                </a:moveTo>
                <a:cubicBezTo>
                  <a:pt x="3291" y="16396"/>
                  <a:pt x="3307" y="16421"/>
                  <a:pt x="3324" y="16446"/>
                </a:cubicBezTo>
              </a:path>
              <a:path w="4193" h="696">
                <a:moveTo>
                  <a:pt x="3324" y="16446"/>
                </a:moveTo>
                <a:lnTo>
                  <a:pt x="3324" y="16446"/>
                </a:lnTo>
              </a:path>
              <a:path w="4193" h="696">
                <a:moveTo>
                  <a:pt x="3324" y="16619"/>
                </a:moveTo>
                <a:lnTo>
                  <a:pt x="3324" y="16619"/>
                </a:lnTo>
              </a:path>
              <a:path w="4193" h="696">
                <a:moveTo>
                  <a:pt x="4118" y="16793"/>
                </a:moveTo>
                <a:cubicBezTo>
                  <a:pt x="4081" y="16866"/>
                  <a:pt x="4093" y="16899"/>
                  <a:pt x="4043" y="16892"/>
                </a:cubicBezTo>
              </a:path>
              <a:path w="4193" h="696">
                <a:moveTo>
                  <a:pt x="4837" y="16743"/>
                </a:moveTo>
                <a:lnTo>
                  <a:pt x="4837" y="16743"/>
                </a:lnTo>
              </a:path>
              <a:path w="4193" h="696">
                <a:moveTo>
                  <a:pt x="5581" y="16346"/>
                </a:moveTo>
                <a:cubicBezTo>
                  <a:pt x="5581" y="16379"/>
                  <a:pt x="5581" y="16413"/>
                  <a:pt x="5581" y="16446"/>
                </a:cubicBezTo>
                <a:cubicBezTo>
                  <a:pt x="5759" y="16510"/>
                  <a:pt x="5776" y="16443"/>
                  <a:pt x="5854" y="16297"/>
                </a:cubicBezTo>
              </a:path>
              <a:path w="4193" h="696">
                <a:moveTo>
                  <a:pt x="5779" y="16694"/>
                </a:moveTo>
                <a:lnTo>
                  <a:pt x="5779" y="16694"/>
                </a:lnTo>
              </a:path>
              <a:path w="4193" h="696">
                <a:moveTo>
                  <a:pt x="6003" y="16768"/>
                </a:moveTo>
                <a:cubicBezTo>
                  <a:pt x="5981" y="16833"/>
                  <a:pt x="5973" y="16867"/>
                  <a:pt x="5978" y="16793"/>
                </a:cubicBezTo>
              </a:path>
              <a:path w="4193" h="696">
                <a:moveTo>
                  <a:pt x="7069" y="16619"/>
                </a:moveTo>
                <a:cubicBezTo>
                  <a:pt x="7069" y="16677"/>
                  <a:pt x="7086" y="16702"/>
                  <a:pt x="7045" y="16694"/>
                </a:cubicBezTo>
              </a:path>
              <a:path w="4193" h="696">
                <a:moveTo>
                  <a:pt x="7045" y="16694"/>
                </a:moveTo>
                <a:lnTo>
                  <a:pt x="7045" y="16694"/>
                </a:lnTo>
              </a:path>
              <a:path w="4193" h="696">
                <a:moveTo>
                  <a:pt x="7466" y="16197"/>
                </a:moveTo>
                <a:cubicBezTo>
                  <a:pt x="7461" y="16325"/>
                  <a:pt x="7450" y="16444"/>
                  <a:pt x="7441" y="16570"/>
                </a:cubicBezTo>
              </a:path>
              <a:path w="4193" h="696">
                <a:moveTo>
                  <a:pt x="7441" y="16570"/>
                </a:moveTo>
                <a:lnTo>
                  <a:pt x="7441" y="1657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17720" y="5813280"/>
            <a:ext cx="14436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3225" y="16148"/>
                </a:moveTo>
                <a:cubicBezTo>
                  <a:pt x="3161" y="16188"/>
                  <a:pt x="2763" y="16374"/>
                  <a:pt x="2853" y="16495"/>
                </a:cubicBezTo>
                <a:cubicBezTo>
                  <a:pt x="2966" y="16563"/>
                  <a:pt x="2997" y="16579"/>
                  <a:pt x="3051" y="16644"/>
                </a:cubicBezTo>
                <a:cubicBezTo>
                  <a:pt x="2959" y="16752"/>
                  <a:pt x="2979" y="16771"/>
                  <a:pt x="2828" y="16743"/>
                </a:cubicBezTo>
                <a:cubicBezTo>
                  <a:pt x="2889" y="16588"/>
                  <a:pt x="2956" y="16491"/>
                  <a:pt x="307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57200" y="5848200"/>
            <a:ext cx="1080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4068" y="16247"/>
                </a:moveTo>
                <a:cubicBezTo>
                  <a:pt x="3778" y="16369"/>
                  <a:pt x="3730" y="16316"/>
                  <a:pt x="3894" y="16545"/>
                </a:cubicBezTo>
                <a:cubicBezTo>
                  <a:pt x="3938" y="16632"/>
                  <a:pt x="3964" y="16656"/>
                  <a:pt x="3894" y="16694"/>
                </a:cubicBezTo>
                <a:cubicBezTo>
                  <a:pt x="3709" y="16667"/>
                  <a:pt x="3863" y="16481"/>
                  <a:pt x="3919" y="16396"/>
                </a:cubicBezTo>
                <a:cubicBezTo>
                  <a:pt x="3927" y="16388"/>
                  <a:pt x="3936" y="16379"/>
                  <a:pt x="3944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25760" y="5857920"/>
            <a:ext cx="339480" cy="214200"/>
          </a:xfrm>
          <a:custGeom>
            <a:avLst/>
            <a:gdLst/>
            <a:ahLst/>
            <a:rect l="l" t="t" r="r" b="b"/>
            <a:pathLst>
              <a:path w="944" h="596">
                <a:moveTo>
                  <a:pt x="4539" y="16272"/>
                </a:moveTo>
                <a:cubicBezTo>
                  <a:pt x="4539" y="16417"/>
                  <a:pt x="4534" y="16552"/>
                  <a:pt x="4514" y="16694"/>
                </a:cubicBezTo>
              </a:path>
              <a:path w="944" h="596">
                <a:moveTo>
                  <a:pt x="4738" y="16297"/>
                </a:moveTo>
                <a:cubicBezTo>
                  <a:pt x="4707" y="16435"/>
                  <a:pt x="4665" y="16566"/>
                  <a:pt x="4713" y="16694"/>
                </a:cubicBezTo>
                <a:cubicBezTo>
                  <a:pt x="4857" y="16678"/>
                  <a:pt x="4908" y="16664"/>
                  <a:pt x="5011" y="16570"/>
                </a:cubicBezTo>
                <a:cubicBezTo>
                  <a:pt x="5043" y="16466"/>
                  <a:pt x="4832" y="16673"/>
                  <a:pt x="4812" y="16718"/>
                </a:cubicBezTo>
                <a:cubicBezTo>
                  <a:pt x="4820" y="16726"/>
                  <a:pt x="4829" y="16735"/>
                  <a:pt x="4837" y="16743"/>
                </a:cubicBezTo>
              </a:path>
              <a:path w="944" h="596">
                <a:moveTo>
                  <a:pt x="5060" y="16768"/>
                </a:moveTo>
                <a:cubicBezTo>
                  <a:pt x="5060" y="16826"/>
                  <a:pt x="5060" y="16834"/>
                  <a:pt x="5060" y="16867"/>
                </a:cubicBezTo>
              </a:path>
              <a:path w="944" h="596">
                <a:moveTo>
                  <a:pt x="5358" y="16321"/>
                </a:moveTo>
                <a:cubicBezTo>
                  <a:pt x="5350" y="16321"/>
                  <a:pt x="5341" y="16321"/>
                  <a:pt x="5333" y="16321"/>
                </a:cubicBezTo>
                <a:cubicBezTo>
                  <a:pt x="5451" y="16293"/>
                  <a:pt x="5504" y="16396"/>
                  <a:pt x="5432" y="16520"/>
                </a:cubicBezTo>
                <a:cubicBezTo>
                  <a:pt x="5365" y="16637"/>
                  <a:pt x="5294" y="16635"/>
                  <a:pt x="5184" y="16644"/>
                </a:cubicBezTo>
                <a:cubicBezTo>
                  <a:pt x="5184" y="16557"/>
                  <a:pt x="5311" y="16545"/>
                  <a:pt x="5383" y="16570"/>
                </a:cubicBezTo>
                <a:cubicBezTo>
                  <a:pt x="5424" y="16611"/>
                  <a:pt x="5432" y="16619"/>
                  <a:pt x="5457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81160" y="5840280"/>
            <a:ext cx="17640" cy="169920"/>
          </a:xfrm>
          <a:custGeom>
            <a:avLst/>
            <a:gdLst/>
            <a:ahLst/>
            <a:rect l="l" t="t" r="r" b="b"/>
            <a:pathLst>
              <a:path w="51" h="473">
                <a:moveTo>
                  <a:pt x="5829" y="16222"/>
                </a:moveTo>
                <a:cubicBezTo>
                  <a:pt x="5829" y="16388"/>
                  <a:pt x="5815" y="16532"/>
                  <a:pt x="5779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05000" y="5840280"/>
            <a:ext cx="260280" cy="15264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6251" y="16247"/>
                </a:moveTo>
                <a:cubicBezTo>
                  <a:pt x="6239" y="16282"/>
                  <a:pt x="6187" y="16272"/>
                  <a:pt x="6226" y="16272"/>
                </a:cubicBezTo>
                <a:cubicBezTo>
                  <a:pt x="6278" y="16265"/>
                  <a:pt x="6298" y="16247"/>
                  <a:pt x="6350" y="16247"/>
                </a:cubicBezTo>
                <a:cubicBezTo>
                  <a:pt x="6381" y="16299"/>
                  <a:pt x="6391" y="16377"/>
                  <a:pt x="6325" y="16421"/>
                </a:cubicBezTo>
                <a:cubicBezTo>
                  <a:pt x="6277" y="16453"/>
                  <a:pt x="6296" y="16396"/>
                  <a:pt x="6424" y="16470"/>
                </a:cubicBezTo>
                <a:cubicBezTo>
                  <a:pt x="6570" y="16554"/>
                  <a:pt x="6246" y="16641"/>
                  <a:pt x="6226" y="16644"/>
                </a:cubicBezTo>
                <a:cubicBezTo>
                  <a:pt x="6143" y="16644"/>
                  <a:pt x="6110" y="16660"/>
                  <a:pt x="6127" y="16594"/>
                </a:cubicBezTo>
              </a:path>
              <a:path w="720" h="423">
                <a:moveTo>
                  <a:pt x="6598" y="16222"/>
                </a:moveTo>
                <a:cubicBezTo>
                  <a:pt x="6680" y="16250"/>
                  <a:pt x="6713" y="16260"/>
                  <a:pt x="6772" y="16272"/>
                </a:cubicBezTo>
                <a:cubicBezTo>
                  <a:pt x="6751" y="16400"/>
                  <a:pt x="6671" y="16445"/>
                  <a:pt x="6573" y="16520"/>
                </a:cubicBezTo>
                <a:cubicBezTo>
                  <a:pt x="6654" y="16585"/>
                  <a:pt x="6731" y="16559"/>
                  <a:pt x="6846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89120" y="5803920"/>
            <a:ext cx="277920" cy="15228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7218" y="16148"/>
                </a:moveTo>
                <a:cubicBezTo>
                  <a:pt x="7207" y="16226"/>
                  <a:pt x="7139" y="16348"/>
                  <a:pt x="7268" y="16371"/>
                </a:cubicBezTo>
                <a:cubicBezTo>
                  <a:pt x="7509" y="16415"/>
                  <a:pt x="7528" y="16296"/>
                  <a:pt x="7615" y="16123"/>
                </a:cubicBezTo>
              </a:path>
              <a:path w="770" h="423">
                <a:moveTo>
                  <a:pt x="7714" y="16148"/>
                </a:moveTo>
                <a:cubicBezTo>
                  <a:pt x="7646" y="16284"/>
                  <a:pt x="7499" y="16595"/>
                  <a:pt x="7813" y="16545"/>
                </a:cubicBezTo>
                <a:cubicBezTo>
                  <a:pt x="7913" y="16495"/>
                  <a:pt x="7946" y="16479"/>
                  <a:pt x="7962" y="16396"/>
                </a:cubicBezTo>
                <a:cubicBezTo>
                  <a:pt x="7822" y="16265"/>
                  <a:pt x="7708" y="16246"/>
                  <a:pt x="7541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6120" y="4491000"/>
            <a:ext cx="258840" cy="179280"/>
          </a:xfrm>
          <a:custGeom>
            <a:avLst/>
            <a:gdLst/>
            <a:ahLst/>
            <a:rect l="l" t="t" r="r" b="b"/>
            <a:pathLst>
              <a:path w="720" h="497">
                <a:moveTo>
                  <a:pt x="14064" y="12576"/>
                </a:moveTo>
                <a:cubicBezTo>
                  <a:pt x="13905" y="12703"/>
                  <a:pt x="13937" y="12715"/>
                  <a:pt x="14089" y="12774"/>
                </a:cubicBezTo>
                <a:cubicBezTo>
                  <a:pt x="14130" y="12791"/>
                  <a:pt x="14172" y="12807"/>
                  <a:pt x="14213" y="12824"/>
                </a:cubicBezTo>
                <a:cubicBezTo>
                  <a:pt x="14077" y="13029"/>
                  <a:pt x="13954" y="12941"/>
                  <a:pt x="13767" y="12874"/>
                </a:cubicBezTo>
              </a:path>
              <a:path w="720" h="497">
                <a:moveTo>
                  <a:pt x="14064" y="12526"/>
                </a:moveTo>
                <a:cubicBezTo>
                  <a:pt x="14206" y="12505"/>
                  <a:pt x="14343" y="12485"/>
                  <a:pt x="1448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tension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unbrain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with Adding Fr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lassZone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 Animated M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(Chapter 6 – Add &amp; Subtract Fractio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rainpop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 on Fraction +/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31T18:24:31Z</dcterms:modified>
  <cp:revision>33</cp:revision>
  <dc:subject/>
  <dc:title>Unit 1 – Variables and Equations </dc:title>
</cp:coreProperties>
</file>